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00B-B30E-4620-98B7-CE4175DB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13A-A24E-48DF-BB14-A68F108C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57A-A338-4B62-9324-E9C20C36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81D-0DDB-4036-9874-6E737A3A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5DF-45A8-4623-B0FA-D74A0A6D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72D-5405-41C9-A6E2-799C5E1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0C9-FC48-4782-B84D-4655FF86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09D-9DB5-4243-8134-F0D085D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B87-F6D5-4F08-95FC-F1D68A0F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753-CE6E-4FFA-8400-68C8160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529-5B8E-4F4C-B710-ED2F234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4E0-6B7D-4B3A-A4E8-7A37FAB3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7D7-672A-4AEA-BCF6-A12DD4FD8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1844280"/>
            <a:ext cx="684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«Наша работа не только, а может быть, и не столько профессия... Это судьба, наша судьба, и судьба людей, которым мы по долгу службы помогаем. Человеческий контакт с ними чаще всего уже не прекращается... Мы уже не можем не общаться, не помогать друг другу, жить друг без друга» Эти слова, сказанные одним из шведских специалистов, в полной мере отражают суть деятельности социального педагога, его место в обществе и отношение к своей нужной и гуманной профе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260280"/>
            <a:ext cx="1485720" cy="1371240"/>
            <a:chOff x="179280" y="260280"/>
            <a:chExt cx="1485720" cy="1371240"/>
          </a:xfrm>
        </p:grpSpPr>
        <p:grpSp>
          <p:nvGrpSpPr>
            <p:cNvPr id="43" name=""/>
            <p:cNvGrpSpPr/>
            <p:nvPr/>
          </p:nvGrpSpPr>
          <p:grpSpPr>
            <a:xfrm>
              <a:off x="179280" y="457200"/>
              <a:ext cx="1436760" cy="1088640"/>
              <a:chOff x="179280" y="457200"/>
              <a:chExt cx="1436760" cy="1088640"/>
            </a:xfrm>
          </p:grpSpPr>
          <p:sp>
            <p:nvSpPr>
              <p:cNvPr id="44" name=""/>
              <p:cNvSpPr/>
              <p:nvPr/>
            </p:nvSpPr>
            <p:spPr>
              <a:xfrm>
                <a:off x="291960" y="1439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9280" y="457200"/>
                <a:ext cx="143676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4520" y="506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00600" y="502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200" y="457560"/>
                <a:ext cx="120276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" name=""/>
            <p:cNvGraphicFramePr/>
            <p:nvPr/>
          </p:nvGraphicFramePr>
          <p:xfrm>
            <a:off x="935280" y="260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35280" y="260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859680" y="752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59680" y="752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 txBox="1"/>
            <p:nvPr/>
          </p:nvSpPr>
          <p:spPr>
            <a:xfrm>
              <a:off x="406080" y="588600"/>
              <a:ext cx="66384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238040" y="1299960"/>
              <a:ext cx="298080" cy="331560"/>
              <a:chOff x="1238040" y="1299960"/>
              <a:chExt cx="298080" cy="331560"/>
            </a:xfrm>
          </p:grpSpPr>
          <p:sp>
            <p:nvSpPr>
              <p:cNvPr id="55" name=""/>
              <p:cNvSpPr/>
              <p:nvPr/>
            </p:nvSpPr>
            <p:spPr>
              <a:xfrm>
                <a:off x="1238040" y="1386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17960" y="1299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19760" y="1302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51440" y="1320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62240" y="1425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 txBox="1"/>
            <p:nvPr/>
          </p:nvSpPr>
          <p:spPr>
            <a:xfrm>
              <a:off x="632880" y="1190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3953" b="0"/>
          <a:stretch/>
        </p:blipFill>
        <p:spPr>
          <a:xfrm rot="20459400">
            <a:off x="2124000" y="3499920"/>
            <a:ext cx="2184480" cy="3049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1058400">
            <a:off x="4787640" y="3428640"/>
            <a:ext cx="1771560" cy="2475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ка по постановке на воинский у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038840" cy="2108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39640" y="692280"/>
          <a:ext cx="8280360" cy="5329080"/>
        </p:xfrm>
        <a:graphic>
          <a:graphicData uri="http://schemas.openxmlformats.org/drawingml/2006/table">
            <a:tbl>
              <a:tblPr/>
              <a:tblGrid>
                <a:gridCol w="7101000"/>
                <a:gridCol w="11793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ают мысль о совершении преступл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ют поступки, не думая о последств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али во взаимоотношения с преступни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ли самовольные уходы из детского д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ят смотреть фильмы-бо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ются равнодушными, когда смотрят передачи, фильмы о преступлен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50920" y="404640"/>
          <a:ext cx="8641800" cy="5760000"/>
        </p:xfrm>
        <a:graphic>
          <a:graphicData uri="http://schemas.openxmlformats.org/drawingml/2006/table">
            <a:tbl>
              <a:tblPr/>
              <a:tblGrid>
                <a:gridCol w="7411680"/>
                <a:gridCol w="12301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ят общественный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быть организованными и дисциплинирован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дставления о правах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 ценность человеческой жизни, здоровья, свободы и достоинства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 относятся к жестокости, насил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знать свои права и обяза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5456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тихое добр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Не ради похвалы или наг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В пример им выдвижения не 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Дарите людям знания и тепл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все не напоказ,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Пусть искренни порывы Ваши буду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ознание чье-то пусть они разбудя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И чистота исходит пусть от В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51672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129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1233360"/>
            <a:ext cx="614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зентация подготовл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сная Галина Владимировна 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эмблема копия"/>
          <p:cNvPicPr/>
          <p:nvPr/>
        </p:nvPicPr>
        <p:blipFill>
          <a:blip r:embed="rId1"/>
          <a:stretch/>
        </p:blipFill>
        <p:spPr>
          <a:xfrm>
            <a:off x="324000" y="0"/>
            <a:ext cx="1176120" cy="1143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5164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9280" y="112500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ЦИАЛИЗАЦИИ ДЕТЕЙ-СИРОТ И ДЕТЕЙ, ОСТАВШИХСЯ БЕЗ ПОПЕЧЕНИЯ РОД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СИСТЕМЕ ВОСПИТАТЕЛЬНО-ОБРАЗОВАТЕЛЬ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БАЗЕ ГОУ Н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ФЕССИОНАЛЬНОГО УЧИЛИЩА № 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2011-201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" y="692280"/>
            <a:ext cx="1485720" cy="1371240"/>
            <a:chOff x="324000" y="692280"/>
            <a:chExt cx="1485720" cy="1371240"/>
          </a:xfrm>
        </p:grpSpPr>
        <p:grpSp>
          <p:nvGrpSpPr>
            <p:cNvPr id="63" name=""/>
            <p:cNvGrpSpPr/>
            <p:nvPr/>
          </p:nvGrpSpPr>
          <p:grpSpPr>
            <a:xfrm>
              <a:off x="324000" y="889200"/>
              <a:ext cx="1436400" cy="1088640"/>
              <a:chOff x="324000" y="889200"/>
              <a:chExt cx="1436400" cy="1088640"/>
            </a:xfrm>
          </p:grpSpPr>
          <p:sp>
            <p:nvSpPr>
              <p:cNvPr id="64" name=""/>
              <p:cNvSpPr/>
              <p:nvPr/>
            </p:nvSpPr>
            <p:spPr>
              <a:xfrm>
                <a:off x="436680" y="1871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4000" y="889200"/>
                <a:ext cx="143640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99240" y="938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5320" y="934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1920" y="889560"/>
                <a:ext cx="120240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9" name=""/>
            <p:cNvGraphicFramePr/>
            <p:nvPr/>
          </p:nvGraphicFramePr>
          <p:xfrm>
            <a:off x="1080000" y="692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80000" y="692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1004400" y="1184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04400" y="1184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 txBox="1"/>
            <p:nvPr/>
          </p:nvSpPr>
          <p:spPr>
            <a:xfrm>
              <a:off x="550800" y="1020600"/>
              <a:ext cx="66348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382400" y="1731960"/>
              <a:ext cx="298080" cy="331560"/>
              <a:chOff x="1382400" y="1731960"/>
              <a:chExt cx="298080" cy="331560"/>
            </a:xfrm>
          </p:grpSpPr>
          <p:sp>
            <p:nvSpPr>
              <p:cNvPr id="75" name=""/>
              <p:cNvSpPr/>
              <p:nvPr/>
            </p:nvSpPr>
            <p:spPr>
              <a:xfrm>
                <a:off x="1382400" y="1818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62320" y="1731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64120" y="1734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95800" y="1752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06600" y="1857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777600" y="1622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9280" y="636480"/>
          <a:ext cx="878544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36480"/>
                    <a:ext cx="878544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dc6ff"/>
                </a:solidFill>
                <a:uFillTx/>
                <a:latin typeface="Arial"/>
              </a:rPr>
              <a:t>Целевые показател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4000"/>
            </a:br>
            <a:r>
              <a:rPr b="1" i="1" lang="ru-RU" sz="4000" spc="-1" strike="noStrike" u="sng">
                <a:solidFill>
                  <a:srgbClr val="00a8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1521000"/>
            <a:ext cx="2170080" cy="4034880"/>
            <a:chOff x="755640" y="1521000"/>
            <a:chExt cx="2170080" cy="4034880"/>
          </a:xfrm>
        </p:grpSpPr>
        <p:sp>
          <p:nvSpPr>
            <p:cNvPr id="85" name=""/>
            <p:cNvSpPr/>
            <p:nvPr/>
          </p:nvSpPr>
          <p:spPr>
            <a:xfrm>
              <a:off x="755640" y="18284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9120" y="18367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400" y="39002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400" y="18586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46861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400" y="47098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500120" y="1521000"/>
              <a:ext cx="642960" cy="642600"/>
              <a:chOff x="1500120" y="1521000"/>
              <a:chExt cx="642960" cy="642600"/>
            </a:xfrm>
          </p:grpSpPr>
          <p:sp>
            <p:nvSpPr>
              <p:cNvPr id="92" name=""/>
              <p:cNvSpPr/>
              <p:nvPr/>
            </p:nvSpPr>
            <p:spPr>
              <a:xfrm>
                <a:off x="1500120" y="15210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06600" y="15256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14520" y="1529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21000" y="15354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54840" y="15508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640160" y="161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1960" y="228276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48000" y="1808280"/>
            <a:ext cx="2166840" cy="4034880"/>
            <a:chOff x="3348000" y="1808280"/>
            <a:chExt cx="2166840" cy="4034880"/>
          </a:xfrm>
        </p:grpSpPr>
        <p:sp>
          <p:nvSpPr>
            <p:cNvPr id="100" name=""/>
            <p:cNvSpPr/>
            <p:nvPr/>
          </p:nvSpPr>
          <p:spPr>
            <a:xfrm>
              <a:off x="3348000" y="21157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1120" y="21240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8760" y="41875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6e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8760" y="21459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f1bf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92480" y="18082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98600" y="18126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6880" y="18158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000" y="18223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47920" y="18381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2520" y="190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3960" y="257004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0880" y="49734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5520" y="49971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4720" y="1989000"/>
            <a:ext cx="2170080" cy="4035600"/>
            <a:chOff x="6084720" y="1989000"/>
            <a:chExt cx="2170080" cy="4035600"/>
          </a:xfrm>
        </p:grpSpPr>
        <p:sp>
          <p:nvSpPr>
            <p:cNvPr id="114" name=""/>
            <p:cNvSpPr/>
            <p:nvPr/>
          </p:nvSpPr>
          <p:spPr>
            <a:xfrm>
              <a:off x="6090840" y="2296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4320" y="2305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41600" y="4368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1bb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1600" y="2327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d7ca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835320" y="1989000"/>
              <a:ext cx="642960" cy="642960"/>
              <a:chOff x="6835320" y="1989000"/>
              <a:chExt cx="642960" cy="64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835320" y="1989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1800" y="1993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49720" y="1997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6200" y="2003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90040" y="2018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75720" y="208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67160" y="27511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4720" y="5154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9000" y="51782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0000" y="2487240"/>
            <a:ext cx="18003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 Black"/>
              </a:rPr>
              <a:t>Актив-ное воздей-ствие на процесс социали зации лич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529360"/>
            <a:ext cx="20160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з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словий для  личност-ного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64360" y="2565720"/>
            <a:ext cx="17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йствие укрепления роли и престижа семьи у выпускни-ков детских дом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663400">
            <a:off x="7748280" y="65736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эмблема копия"/>
          <p:cNvPicPr/>
          <p:nvPr/>
        </p:nvPicPr>
        <p:blipFill>
          <a:blip r:embed="rId2"/>
          <a:stretch/>
        </p:blipFill>
        <p:spPr>
          <a:xfrm>
            <a:off x="179280" y="0"/>
            <a:ext cx="1357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19280" y="549360"/>
            <a:ext cx="59770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СОЦИ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73360"/>
            <a:ext cx="446400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Овладение ролями мужчины и женщи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(полоролев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3141720"/>
            <a:ext cx="4246560" cy="1008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Компетентное участие в соци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экономической жиз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(профессиональн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4581360"/>
            <a:ext cx="626436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Создание прочной семьи (семейная социализаци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законопослушание (политическ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19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1197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1197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368160" y="626040"/>
            <a:ext cx="2935800" cy="3083400"/>
            <a:chOff x="3368160" y="626040"/>
            <a:chExt cx="2935800" cy="3083400"/>
          </a:xfrm>
        </p:grpSpPr>
        <p:grpSp>
          <p:nvGrpSpPr>
            <p:cNvPr id="141" name=""/>
            <p:cNvGrpSpPr/>
            <p:nvPr/>
          </p:nvGrpSpPr>
          <p:grpSpPr>
            <a:xfrm>
              <a:off x="3368160" y="626040"/>
              <a:ext cx="2935800" cy="3083400"/>
              <a:chOff x="3368160" y="626040"/>
              <a:chExt cx="2935800" cy="3083400"/>
            </a:xfrm>
          </p:grpSpPr>
          <p:sp>
            <p:nvSpPr>
              <p:cNvPr id="142" name=""/>
              <p:cNvSpPr/>
              <p:nvPr/>
            </p:nvSpPr>
            <p:spPr>
              <a:xfrm rot="18781200">
                <a:off x="2998800" y="186912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781200">
                <a:off x="3008160" y="186768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8852000">
              <a:off x="3727440" y="1851120"/>
              <a:ext cx="254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Социальная диагност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48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149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19782000">
              <a:off x="4407120" y="2839680"/>
              <a:ext cx="177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аблюд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155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156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48560" y="2892240"/>
            <a:ext cx="3641400" cy="1822320"/>
            <a:chOff x="4048560" y="2892240"/>
            <a:chExt cx="3641400" cy="1822320"/>
          </a:xfrm>
        </p:grpSpPr>
        <p:grpSp>
          <p:nvGrpSpPr>
            <p:cNvPr id="167" name=""/>
            <p:cNvGrpSpPr/>
            <p:nvPr/>
          </p:nvGrpSpPr>
          <p:grpSpPr>
            <a:xfrm>
              <a:off x="4048560" y="2892240"/>
              <a:ext cx="3641400" cy="1822320"/>
              <a:chOff x="4048560" y="2892240"/>
              <a:chExt cx="3641400" cy="1822320"/>
            </a:xfrm>
          </p:grpSpPr>
          <p:sp>
            <p:nvSpPr>
              <p:cNvPr id="168" name=""/>
              <p:cNvSpPr/>
              <p:nvPr/>
            </p:nvSpPr>
            <p:spPr>
              <a:xfrm rot="20395200">
                <a:off x="4037760" y="350064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395200">
                <a:off x="4040280" y="35046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rot="20465400">
              <a:off x="4832280" y="3766320"/>
              <a:ext cx="109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04360" y="4020840"/>
            <a:ext cx="3850560" cy="1397880"/>
            <a:chOff x="4104360" y="4020840"/>
            <a:chExt cx="3850560" cy="1397880"/>
          </a:xfrm>
        </p:grpSpPr>
        <p:grpSp>
          <p:nvGrpSpPr>
            <p:cNvPr id="174" name=""/>
            <p:cNvGrpSpPr/>
            <p:nvPr/>
          </p:nvGrpSpPr>
          <p:grpSpPr>
            <a:xfrm>
              <a:off x="4104360" y="4020840"/>
              <a:ext cx="3850560" cy="1397880"/>
              <a:chOff x="4104360" y="4020840"/>
              <a:chExt cx="3850560" cy="1397880"/>
            </a:xfrm>
          </p:grpSpPr>
          <p:sp>
            <p:nvSpPr>
              <p:cNvPr id="175" name=""/>
              <p:cNvSpPr/>
              <p:nvPr/>
            </p:nvSpPr>
            <p:spPr>
              <a:xfrm rot="20869800">
                <a:off x="4124160" y="441504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869800">
                <a:off x="4124520" y="4423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869800">
                <a:off x="4128480" y="444564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869800">
                <a:off x="4146840" y="448128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rot="20838600">
              <a:off x="4902120" y="4597200"/>
              <a:ext cx="183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57480" y="5461200"/>
            <a:ext cx="3677040" cy="642960"/>
            <a:chOff x="3957480" y="5461200"/>
            <a:chExt cx="3677040" cy="642960"/>
          </a:xfrm>
        </p:grpSpPr>
        <p:grpSp>
          <p:nvGrpSpPr>
            <p:cNvPr id="181" name=""/>
            <p:cNvGrpSpPr/>
            <p:nvPr/>
          </p:nvGrpSpPr>
          <p:grpSpPr>
            <a:xfrm>
              <a:off x="3957480" y="5461200"/>
              <a:ext cx="3677040" cy="642960"/>
              <a:chOff x="3957480" y="5461200"/>
              <a:chExt cx="3677040" cy="642960"/>
            </a:xfrm>
          </p:grpSpPr>
          <p:sp>
            <p:nvSpPr>
              <p:cNvPr id="182" name=""/>
              <p:cNvSpPr/>
              <p:nvPr/>
            </p:nvSpPr>
            <p:spPr>
              <a:xfrm rot="21564600">
                <a:off x="3977280" y="54795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1564600">
                <a:off x="3973680" y="548532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rot="34800">
              <a:off x="4740120" y="5638320"/>
              <a:ext cx="26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Работа с личными делам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рмы и метод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076200" y="966600"/>
            <a:ext cx="3002040" cy="3092040"/>
            <a:chOff x="3076200" y="966600"/>
            <a:chExt cx="3002040" cy="3092040"/>
          </a:xfrm>
        </p:grpSpPr>
        <p:grpSp>
          <p:nvGrpSpPr>
            <p:cNvPr id="192" name=""/>
            <p:cNvGrpSpPr/>
            <p:nvPr/>
          </p:nvGrpSpPr>
          <p:grpSpPr>
            <a:xfrm>
              <a:off x="3076200" y="975240"/>
              <a:ext cx="2935080" cy="3083400"/>
              <a:chOff x="3076200" y="975240"/>
              <a:chExt cx="2935080" cy="3083400"/>
            </a:xfrm>
          </p:grpSpPr>
          <p:sp>
            <p:nvSpPr>
              <p:cNvPr id="193" name=""/>
              <p:cNvSpPr/>
              <p:nvPr/>
            </p:nvSpPr>
            <p:spPr>
              <a:xfrm rot="18781200">
                <a:off x="2706480" y="22179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781200">
                <a:off x="2715120" y="221688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781200">
                <a:off x="2719440" y="229608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781200">
                <a:off x="4222080" y="2293200"/>
                <a:ext cx="573120" cy="51840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8852000">
              <a:off x="3364560" y="2028960"/>
              <a:ext cx="30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акультатив «этика семейной жизни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99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200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9782000">
              <a:off x="4356360" y="2683800"/>
              <a:ext cx="26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енинги по соц. адапт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206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55400" y="2897280"/>
            <a:ext cx="3641400" cy="1822680"/>
            <a:chOff x="4055400" y="2897280"/>
            <a:chExt cx="3641400" cy="1822680"/>
          </a:xfrm>
        </p:grpSpPr>
        <p:grpSp>
          <p:nvGrpSpPr>
            <p:cNvPr id="218" name=""/>
            <p:cNvGrpSpPr/>
            <p:nvPr/>
          </p:nvGrpSpPr>
          <p:grpSpPr>
            <a:xfrm>
              <a:off x="4055400" y="2897280"/>
              <a:ext cx="3641400" cy="1822680"/>
              <a:chOff x="4055400" y="2897280"/>
              <a:chExt cx="3641400" cy="1822680"/>
            </a:xfrm>
          </p:grpSpPr>
          <p:sp>
            <p:nvSpPr>
              <p:cNvPr id="219" name=""/>
              <p:cNvSpPr/>
              <p:nvPr/>
            </p:nvSpPr>
            <p:spPr>
              <a:xfrm rot="20395200">
                <a:off x="4044960" y="350568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395200">
                <a:off x="4047120" y="35100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rot="20465400">
              <a:off x="4835880" y="3792240"/>
              <a:ext cx="14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02920" y="4021560"/>
            <a:ext cx="3850560" cy="1398600"/>
            <a:chOff x="4102920" y="4021560"/>
            <a:chExt cx="3850560" cy="1398600"/>
          </a:xfrm>
        </p:grpSpPr>
        <p:grpSp>
          <p:nvGrpSpPr>
            <p:cNvPr id="225" name=""/>
            <p:cNvGrpSpPr/>
            <p:nvPr/>
          </p:nvGrpSpPr>
          <p:grpSpPr>
            <a:xfrm>
              <a:off x="4102920" y="4021560"/>
              <a:ext cx="3850560" cy="1398600"/>
              <a:chOff x="4102920" y="4021560"/>
              <a:chExt cx="3850560" cy="1398600"/>
            </a:xfrm>
          </p:grpSpPr>
          <p:sp>
            <p:nvSpPr>
              <p:cNvPr id="226" name=""/>
              <p:cNvSpPr/>
              <p:nvPr/>
            </p:nvSpPr>
            <p:spPr>
              <a:xfrm rot="20869800">
                <a:off x="4122720" y="4415760"/>
                <a:ext cx="3799080" cy="57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869800">
                <a:off x="4123080" y="4424760"/>
                <a:ext cx="380988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69800">
                <a:off x="4127400" y="444672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869800">
                <a:off x="4145760" y="448236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rot="20838600">
              <a:off x="4897440" y="4577400"/>
              <a:ext cx="199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лассные час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42200" y="5497920"/>
            <a:ext cx="3791160" cy="642960"/>
            <a:chOff x="3742200" y="5497920"/>
            <a:chExt cx="3791160" cy="642960"/>
          </a:xfrm>
        </p:grpSpPr>
        <p:grpSp>
          <p:nvGrpSpPr>
            <p:cNvPr id="232" name=""/>
            <p:cNvGrpSpPr/>
            <p:nvPr/>
          </p:nvGrpSpPr>
          <p:grpSpPr>
            <a:xfrm>
              <a:off x="3742200" y="5497920"/>
              <a:ext cx="3677040" cy="642960"/>
              <a:chOff x="3742200" y="5497920"/>
              <a:chExt cx="3677040" cy="642960"/>
            </a:xfrm>
          </p:grpSpPr>
          <p:sp>
            <p:nvSpPr>
              <p:cNvPr id="233" name=""/>
              <p:cNvSpPr/>
              <p:nvPr/>
            </p:nvSpPr>
            <p:spPr>
              <a:xfrm rot="21564600">
                <a:off x="3762360" y="5516280"/>
                <a:ext cx="3646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564600">
                <a:off x="3758760" y="5521680"/>
                <a:ext cx="365724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34800">
              <a:off x="4517640" y="5718600"/>
              <a:ext cx="30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ррекционно-развивающие 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03280" y="260280"/>
            <a:ext cx="6193080" cy="793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2565360"/>
            <a:ext cx="3240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РАНА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24000" y="1413000"/>
            <a:ext cx="4680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ЗАЩИТА ЖИЛИЩНЫХ ПРА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РЕШЕНИЕ ЖИЛИЩНЫХ ПРОБ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3716280"/>
            <a:ext cx="3240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ОРИЕНТ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4941720"/>
            <a:ext cx="3240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565360"/>
            <a:ext cx="33847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ЗАЩИТНО-ОХРАННАЯ</a:t>
            </a: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3645000"/>
            <a:ext cx="338472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869000"/>
            <a:ext cx="3382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69228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7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20000" y="620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316720" y="29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316720" y="4076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31672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6021360"/>
            <a:ext cx="5329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АЯ И СОЦИАЛЬНАЯ АДАПТ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537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38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64000" y="6237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596000" y="620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24000" y="727200"/>
          <a:ext cx="856908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27200"/>
                    <a:ext cx="856908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4T15:26:04Z</dcterms:modified>
  <cp:revision>35</cp:revision>
  <dc:subject/>
  <dc:title>PowerPoint Presentation</dc:title>
</cp:coreProperties>
</file>