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E92-B20E-440C-9C94-5AFE7FF6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616-76A3-4849-B764-75A97702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68F78-FB81-49D8-A2E7-4D5A285A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0714C-64C2-472B-9961-82CCF407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8FC6E2-8A94-4930-94F2-D64C5EF3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29528-27E8-4DF0-9F83-323858A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280F1-FC55-41D0-AEF7-003D1F0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21E7F-B3F0-4F44-8CA5-B22181D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4CE35-251D-4083-A95A-0A2024BC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EE6AEE-BA2B-45C0-8152-19991911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85D41D-545C-4B83-89A4-BE363A02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430508-6C5A-4F61-AF2E-197D6EF9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A38-BBD8-4AFD-9F41-E8D0FE55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5C74D8-6711-4E0D-B126-66C4DB1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FA42B1-A4BA-41A5-87E1-DFD40157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46375-15CD-4D8B-8FE9-C03932FB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0CF41F-53CF-4671-8CDD-659ED7D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147921-E19D-47FD-86C6-11F6822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79E42-83A3-48FD-A3D5-1F78D80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BF4A6A-8FA3-49E9-8E9B-B7ADB37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840DC1-9014-4DCB-89CE-854C43F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DFCE0-8402-4430-BB66-40708E7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21B409-1E6C-4DE6-A62A-43CBDDC4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A29-C520-405C-A76C-35AA75E1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24538E-F263-4245-9BEC-732017E9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9A312-F73C-4CE8-9DA4-16BBB5027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6E45-68DD-4603-9EF7-BB96EAB6B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6A393-9A22-41A6-8433-5DD7546665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9E8D5-51E1-41E1-AAB0-02038D7C02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BFA91-D8AC-49E9-A552-857B996C0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21B93-BEC7-479C-A8A0-6867ABEDBE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02E4-2B14-41BC-8D7A-A1553EE88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2BC-CAD9-4F70-8CF3-1FBECDF6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53121-6190-43B6-AE62-E9FF99502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D270-688E-4C0E-9B75-3F58334920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181A-E029-4A11-B4B1-7BBB1A487D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8E736-4F42-45D3-B2EF-FD4CB47AB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C7459-1744-4CC0-8ED9-C5B86DA28F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AFB5D-6BAD-4053-BA85-1BE35E24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AA185-C689-4B13-B3C2-0E57EE0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AA4F2-0BA8-410D-994A-B782F4A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0F66E-A99F-4EB4-8EAC-EACB89EE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5EB9A-855D-4B8A-B32F-B9844DA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E0B-FA4B-4029-A993-F73C3B4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090CE-C348-431B-9AC6-602B853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AC370-BFA4-4303-AEC8-6E39503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CEE8F-F128-492A-8027-0FBC80F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4C2A1-EA39-41FF-8CA2-941E6EB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62087-338F-4946-B9F0-E8BFE25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6419F-DA70-4D71-8ED9-95C6233A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F7645-9F01-412E-AA96-058B2034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D3561-25A5-4FDF-A4FF-8A2350CD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63540-73F9-432B-B564-3D8F539F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5CBF0-5066-4E55-B039-177836BE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65F-8691-4DBC-9F35-B0DCE1AA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ABB14-DEE4-41C8-A3A8-F38C180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5E58F-FF0F-4AA8-97D0-EEAA8CAD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66BAD-436C-497C-9FFA-BDE4F680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4C788-99B7-4EF7-BF65-BC30064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E8178-887E-4875-A709-AE37E6C5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0CD4F-F8FC-4579-B117-28571D3B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2C60B-F9B1-480E-8644-4999069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F985A-10DA-4FCF-B848-937CC445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90C56-0A99-4A72-9C73-078C31D8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39890-D5B9-4508-A5EC-3242C427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82B-A78E-4462-A8DD-DA7AD3C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17CC1-5206-406D-8132-CEDB1B63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F39C2-32A8-4351-AD2D-81C34BD7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6415C-A00C-469A-9EFB-179268A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5077D-4EBC-4489-9BAD-145529D3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F8424-CB67-419A-8C92-AD677CB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9D713-B732-47D5-81E7-6C68D22B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B440B-9D9E-48E3-8CD5-FBADD309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81140-5AD6-43DA-8F62-0C8619F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6024F-53A1-4EDD-AC4B-FA89F2C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9D35F-4DAB-47A2-8EF8-63B7E0C2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362-B155-4AE7-A166-86CF002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DBBB5-5A33-4356-9FF8-7C09D856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99347-F9AF-4360-8FD5-9BE206AF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4FBB9-F934-4C4D-9FAD-195EE29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CE250-3702-4DB5-B2D1-873E7A58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6DF2E-AB90-4E25-93C4-9402A546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A1756-7156-495B-9506-5EA273BD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59B67-9D9A-4380-8915-24393466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0921B-BB94-4E87-9AE6-10E84E5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22B38-F47A-4FCD-8322-20BF549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31D12-8462-4821-B0B4-4A6B9A3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9FB-52E0-4572-AC09-0839458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ECD8E-2666-405E-AF68-91F0805C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A7D1B-29E0-4139-9ECF-1FAC9A6D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F09F5-1C5C-40FE-A86E-B608C446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ADE53-CD62-4432-9255-A853A46B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6566B-8B48-4895-9A0A-EEB9A50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7D20B-BDAE-4B16-AD81-34F862F6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E6B82-CE9F-4FB3-B958-56FB474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DA2ED-2E19-4CA2-8DF5-0114871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4C5FE-9C92-4C64-93E5-741341A4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1BA51-5421-4D6A-A457-39A8BF3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48A-0DC0-4488-8D94-4EF53DDA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084C9-46FC-4BF4-A317-1A7BEC4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57C5A-8133-4656-A787-4353465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0FB33-7A31-43FC-A192-4EA310D7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7B15D-EF20-43B4-AD3B-CC2FD92E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BA282-08E0-4967-BD69-BE6FCC05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70935-A7E6-480D-A3B1-A1DB61C6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4B0E3-F3F9-41D5-9D0E-A80B2F1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01FD0-2BF4-491A-9EF9-A7A3A5DA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BFB13-4226-4993-8693-7A9DC88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2E8C0-8FB6-4C3B-AAC2-BF1CB40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532-4CF7-4500-9DA0-071CBBD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D58BE-B0E1-437C-AF4E-E748491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46DF3-CB52-4405-87D9-6BD6A54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E8FBE-8FC4-44E5-9AEE-AC4BA27B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A2F2A-B67F-475B-9540-3D1125A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7C7851-A464-422A-9DD0-D49BD3BB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D7229-AAF8-4F31-8A4D-27ACCDA7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DBBC8-FAEA-444E-BA78-7CF69005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2619B3-7E80-4368-9151-D864D68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63A52-0873-4A53-8CB1-F99947CB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8AE62-07A5-4D1B-9348-F3F523B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0A9-0BE6-4E44-AFC5-8EA78570A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2937-7E0E-47BA-9F07-DA53B8A9C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599F-DA24-41EC-BBD8-34A706C01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3DD9-1A8E-4761-A5AB-514F8DDE2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AA84-0816-493F-B3CE-49A769B28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C6F-300C-40ED-AC2F-59D3DFE46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168F-CE10-4F39-AE12-23C06A23E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47A-3019-4E5E-804B-3A4266B10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3FB-4041-4AE0-8322-A8C983638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9C75-50F0-4C46-8C48-3AEA30945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ейзаж родной земл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10000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 изобразительного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3582360" y="51436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Calibri"/>
              </a:rPr>
              <a:t>ИСТОКИ РОДНОГО ИСКУС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1600200"/>
          <a:ext cx="8329680" cy="4971960"/>
        </p:xfrm>
        <a:graphic>
          <a:graphicData uri="http://schemas.openxmlformats.org/drawingml/2006/table">
            <a:tbl>
              <a:tblPr/>
              <a:tblGrid>
                <a:gridCol w="4165560"/>
                <a:gridCol w="4164120"/>
              </a:tblGrid>
              <a:tr h="49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Знакомство с истоками родного искусства – это знакомство со своей  Родиной. В предметах быта, в постройках, в том, как люди одеваются и украшают одежду, раскрывается их представление о мире, о красоте человека. В искусстве люди выражают свою душу, свой склад ума и характе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71" name="Рисунок 4" descr="0002-002-Istina.jpg"/>
          <p:cNvPicPr/>
          <p:nvPr/>
        </p:nvPicPr>
        <p:blipFill>
          <a:blip r:embed="rId1"/>
          <a:stretch/>
        </p:blipFill>
        <p:spPr>
          <a:xfrm>
            <a:off x="428760" y="1585800"/>
            <a:ext cx="421452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C:\Documents and Settings\вадик\Рабочий стол\Растения\НОВЫЕ КОНКУРСЫ\209.jpg"/>
          <p:cNvPicPr/>
          <p:nvPr/>
        </p:nvPicPr>
        <p:blipFill>
          <a:blip r:embed="rId1"/>
          <a:stretch/>
        </p:blipFill>
        <p:spPr>
          <a:xfrm>
            <a:off x="785880" y="1643040"/>
            <a:ext cx="3286080" cy="43545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5"/>
          <p:cNvSpPr/>
          <p:nvPr/>
        </p:nvSpPr>
        <p:spPr>
          <a:xfrm>
            <a:off x="1928880" y="42876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хаил Пришви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3929040" y="1857240"/>
            <a:ext cx="442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Охранять природу – значит охранять Родин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C:\Documents and Settings\вадик\Рабочий стол\Растения\НОВЫЕ КОНКУРСЫ\Шишкин_Берёзовая роща.jpg"/>
          <p:cNvPicPr/>
          <p:nvPr/>
        </p:nvPicPr>
        <p:blipFill>
          <a:blip r:embed="rId1"/>
          <a:stretch/>
        </p:blipFill>
        <p:spPr>
          <a:xfrm>
            <a:off x="571680" y="285840"/>
            <a:ext cx="238104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6" name="Picture 5" descr="C:\Documents and Settings\вадик\Рабочий стол\Растения\НОВЫЕ КОНКУРСЫ\зол.ос.jpg"/>
          <p:cNvPicPr/>
          <p:nvPr/>
        </p:nvPicPr>
        <p:blipFill>
          <a:blip r:embed="rId2"/>
          <a:stretch/>
        </p:blipFill>
        <p:spPr>
          <a:xfrm>
            <a:off x="1500120" y="4214880"/>
            <a:ext cx="3714840" cy="2381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7" name="Picture 6" descr="C:\Documents and Settings\вадик\Рабочий стол\Растения\НОВЫЕ КОНКУРСЫ\grachi_prileteli.jpg"/>
          <p:cNvPicPr/>
          <p:nvPr/>
        </p:nvPicPr>
        <p:blipFill>
          <a:blip r:embed="rId3"/>
          <a:stretch/>
        </p:blipFill>
        <p:spPr>
          <a:xfrm>
            <a:off x="6286680" y="285840"/>
            <a:ext cx="240480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8" name="Picture 3" descr="C:\Documents and Settings\вадик\Рабочий стол\Растения\НОВЫЕ КОНКУРСЫ\На озере Грабарь.jpg"/>
          <p:cNvPicPr/>
          <p:nvPr/>
        </p:nvPicPr>
        <p:blipFill>
          <a:blip r:embed="rId4"/>
          <a:stretch/>
        </p:blipFill>
        <p:spPr>
          <a:xfrm>
            <a:off x="3500280" y="285840"/>
            <a:ext cx="231012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79" name="TextBox 9"/>
          <p:cNvSpPr/>
          <p:nvPr/>
        </p:nvSpPr>
        <p:spPr>
          <a:xfrm>
            <a:off x="357120" y="335772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Шишкин «Берёзовая рощ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3571920" y="3357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Грабарь         «На озе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6215040" y="335772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.Саврасов       «Грачи приле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5214960" y="50007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Левитан                 «Золотая ос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4"/>
          <p:cNvSpPr/>
          <p:nvPr/>
        </p:nvSpPr>
        <p:spPr>
          <a:xfrm>
            <a:off x="1143000" y="1643040"/>
            <a:ext cx="7215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ейзаж</a:t>
            </a: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исунок, картина, изображающая виды природы, а также описание природы в литературном произве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(С.И.Оже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2146320" y="285840"/>
            <a:ext cx="1481040" cy="1164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5297400" y="365040"/>
            <a:ext cx="1609920" cy="1201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3"/>
          <a:stretch/>
        </p:blipFill>
        <p:spPr>
          <a:xfrm>
            <a:off x="1962000" y="5310360"/>
            <a:ext cx="1567080" cy="12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"/>
          <p:cNvPicPr/>
          <p:nvPr/>
        </p:nvPicPr>
        <p:blipFill>
          <a:blip r:embed="rId4"/>
          <a:stretch/>
        </p:blipFill>
        <p:spPr>
          <a:xfrm>
            <a:off x="5376960" y="5237280"/>
            <a:ext cx="1646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4"/>
          <p:cNvSpPr/>
          <p:nvPr/>
        </p:nvSpPr>
        <p:spPr>
          <a:xfrm>
            <a:off x="785880" y="100008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1285920" y="2000160"/>
            <a:ext cx="7429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 Изобразите красками на бумаге пейзаж родной приро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1285920" y="3143160"/>
            <a:ext cx="735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 По возможности не используйте простой карандаш, пишите сразу крас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1285920" y="4714920"/>
            <a:ext cx="721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3) При необходимости смешивайте краски прямо в изобра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500040" y="2858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сть в осени первоначаль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Documents and Settings\вадик\Рабочий стол\Растения\НОВЫЕ КОНКУРСЫ\Урок 2\uuvyargnfwchpx_preview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TextBox 7"/>
          <p:cNvSpPr/>
          <p:nvPr/>
        </p:nvSpPr>
        <p:spPr>
          <a:xfrm>
            <a:off x="-500040" y="2858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Лес, точно тер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распис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7:14:16Z</dcterms:created>
  <dc:creator>Admin</dc:creator>
  <dc:description/>
  <dc:language>en-US</dc:language>
  <cp:lastModifiedBy>Лена</cp:lastModifiedBy>
  <dcterms:modified xsi:type="dcterms:W3CDTF">2013-09-17T19:04:29Z</dcterms:modified>
  <cp:revision>63</cp:revision>
  <dc:subject/>
  <dc:title>Интегрированный урок как средство развития универсальных учебных действий</dc:title>
</cp:coreProperties>
</file>