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5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13.png" ContentType="image/png"/>
  <Override PartName="/ppt/media/image37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41.jpeg" ContentType="image/jpeg"/>
  <Override PartName="/ppt/media/image43.jpeg" ContentType="image/jpeg"/>
  <Override PartName="/ppt/media/image44.png" ContentType="image/png"/>
  <Override PartName="/ppt/media/image40.jpeg" ContentType="image/jpeg"/>
  <Override PartName="/ppt/media/image46.png" ContentType="image/png"/>
  <Override PartName="/ppt/media/image30.jpeg" ContentType="image/jpeg"/>
  <Override PartName="/ppt/media/image47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11.png" ContentType="image/png"/>
  <Override PartName="/ppt/media/image9.jpeg" ContentType="image/jpeg"/>
  <Override PartName="/ppt/media/image19.jpeg" ContentType="image/jpeg"/>
  <Override PartName="/ppt/media/image42.jpeg" ContentType="image/jpeg"/>
  <Override PartName="/ppt/media/image7.jpeg" ContentType="image/jpeg"/>
  <Override PartName="/ppt/media/image28.jpeg" ContentType="image/jpeg"/>
  <Override PartName="/ppt/media/image38.png" ContentType="image/png"/>
  <Override PartName="/ppt/media/image8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8CD5-EAE3-4950-98FA-88A91794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5A43-BD3A-489E-9CE0-84016E6F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11B8-72A0-4F5D-8055-46F1B0A8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CD57-7C8A-4A06-A518-BA9F32C77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9EA6-5A44-443D-B2F8-7A857752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43CB-29F1-494A-B2F7-E0B16666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4FB4-E27E-4326-AAE7-40E2ED84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6251-7433-4CD3-A267-1C5843F1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C4D8-0030-4F63-A760-41208D2E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206E-81A5-4F9F-8DEF-2FEA37AA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E45-9FC5-4471-8D71-85AE9F1D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FA3C-3FE2-451D-96D9-FF841742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0CAE-C35D-4D31-AA2D-766A20382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file:///tmp/home/.config/libreoffice/4/user/gallery/MS900116615%5B1%5D.wav" TargetMode="External"/><Relationship Id="rId5" Type="http://schemas.microsoft.com/office/2007/relationships/media" Target="file:///tmp/home/.config/libreoffice/4/user/gallery/MS900116615%5B1%5D.wav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.jpe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1.jpeg"/><Relationship Id="rId9" Type="http://schemas.openxmlformats.org/officeDocument/2006/relationships/image" Target="../media/image28.jpe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35.jpe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1.jpe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1.jpeg"/><Relationship Id="rId4" Type="http://schemas.openxmlformats.org/officeDocument/2006/relationships/image" Target="../media/image30.jpe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jpeg"/><Relationship Id="rId8" Type="http://schemas.openxmlformats.org/officeDocument/2006/relationships/image" Target="../media/image32.jpe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87760" cy="5040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87280" y="5229360"/>
            <a:ext cx="4362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йди соседей числ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372360" y="260280"/>
            <a:ext cx="2427120" cy="2427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867280" y="4508640"/>
            <a:ext cx="2792520" cy="1627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5508720" y="321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16 -0.05532 C 0.02014 -0.07939 0.04115 -0.11388 0.06615 -0.11388 C 0.10313 -0.11388 0.13316 -0.078 0.13316 -0.03263 C 0.13316 -0.01805 0.13021 -0.00462 0.12414 0.00741 C 0.12518 0.00741 0.00816 0.18727 0.00816 0.18866 C 0.00816 0.18727 -0.10885 0.00741 -0.10781 0.00741 C -0.11388 -0.00462 -0.11684 -0.01805 -0.11684 -0.03263 C -0.11684 -0.078 -0.0868 -0.11388 -0.04878 -0.11388 C -0.02482 -0.11388 -0.00382 -0.07939 0.00816 -0.05532 Z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5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2792160" cy="3057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746360" cy="1396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268360" y="1844640"/>
            <a:ext cx="897120" cy="897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419640" y="2997360"/>
            <a:ext cx="938160" cy="938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4788000" y="5373720"/>
            <a:ext cx="944640" cy="944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804000" y="5445000"/>
            <a:ext cx="1011240" cy="1011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3924360" y="476280"/>
            <a:ext cx="684000" cy="768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6012000" y="835200"/>
            <a:ext cx="2874960" cy="2874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4643280" y="4046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474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745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2708280"/>
            <a:ext cx="1233360" cy="1349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042920" y="4797360"/>
            <a:ext cx="1595520" cy="1595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780000" y="4797360"/>
            <a:ext cx="1377720" cy="1378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5940360" y="4797360"/>
            <a:ext cx="1643040" cy="1765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5508720" y="549360"/>
            <a:ext cx="684000" cy="768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4643280" y="549360"/>
            <a:ext cx="779760" cy="968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6156360" y="177336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4745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745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2654280" cy="3124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911320" y="4581360"/>
            <a:ext cx="1606680" cy="2087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995640" y="2205000"/>
            <a:ext cx="1338480" cy="190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435640" y="907920"/>
            <a:ext cx="1136520" cy="1617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6948360" y="404640"/>
            <a:ext cx="1405080" cy="154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6827760" y="2205000"/>
            <a:ext cx="1509840" cy="1636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6084720" y="4365720"/>
            <a:ext cx="1872000" cy="2492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017360" cy="1143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9"/>
          <a:stretch/>
        </p:blipFill>
        <p:spPr>
          <a:xfrm>
            <a:off x="1403280" y="260280"/>
            <a:ext cx="1074960" cy="1074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0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745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4745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4745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4745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58920" y="692280"/>
            <a:ext cx="861840" cy="861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772920" cy="868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00000" y="2205000"/>
            <a:ext cx="790560" cy="1157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619280" y="3716280"/>
            <a:ext cx="1162080" cy="1627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059280" y="4869000"/>
            <a:ext cx="1090440" cy="1090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4788000" y="4869000"/>
            <a:ext cx="1123920" cy="1590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7885080" y="404640"/>
            <a:ext cx="957240" cy="957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6372360" y="3933720"/>
            <a:ext cx="25524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4745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4745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3241800" cy="4464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1354320" cy="1623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79280" y="5661000"/>
            <a:ext cx="773280" cy="868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427640" y="476280"/>
            <a:ext cx="1179360" cy="1592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4859280" y="2276640"/>
            <a:ext cx="1000080" cy="1643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5580000" y="4221000"/>
            <a:ext cx="992160" cy="1417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6877080" y="4581360"/>
            <a:ext cx="1338120" cy="1781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1042920" y="5877000"/>
            <a:ext cx="941400" cy="790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6084720" y="278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474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4745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8920" y="1628640"/>
            <a:ext cx="3745080" cy="2995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71480" y="765000"/>
            <a:ext cx="1244520" cy="1376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020000" y="333360"/>
            <a:ext cx="772920" cy="868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050920" y="1700280"/>
            <a:ext cx="1086120" cy="1590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908000" y="3716280"/>
            <a:ext cx="1300320" cy="1606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3419640" y="4653000"/>
            <a:ext cx="1455480" cy="2038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5724360" y="4724280"/>
            <a:ext cx="1260720" cy="1844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7885080" y="260280"/>
            <a:ext cx="1019160" cy="1019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0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4745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4745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19:14:26Z</dcterms:created>
  <dc:creator>User</dc:creator>
  <dc:description/>
  <dc:language>en-US</dc:language>
  <cp:lastModifiedBy>User</cp:lastModifiedBy>
  <dcterms:modified xsi:type="dcterms:W3CDTF">2013-10-20T19:38:33Z</dcterms:modified>
  <cp:revision>8</cp:revision>
  <dc:subject/>
  <dc:title>Слайд 1</dc:title>
</cp:coreProperties>
</file>