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74D-C6A5-4141-B4CE-C39C1F50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DA5-4E09-4DE8-95A3-56122032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D25-2ADD-4842-AEA3-619966E4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990-B251-416E-9A4F-31BA9E4C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3B169-06E0-4F39-B8A3-4866CD57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BBAE9-8CDC-4028-8079-F1B11944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AB697-C732-4818-8405-FCD191BB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6254D-D9A1-46C8-8B9F-508EA35E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7E064-24EF-4ACC-B766-041C291B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A3344-FF4C-4E6D-BF66-C4D39228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7B010-5D03-4F06-ADFA-B30638F0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D08-98CC-4197-8A36-61CC6E2E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C7FEA-EA48-474B-97B0-F6E2483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B2BC5-600B-4E2B-A350-981F84B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186F-A7CC-432F-8EEF-7D666661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679B6-0D3D-4763-BBD8-BB0B0AE9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BA73-A505-4DFA-82FA-07C0B54B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353A-748F-4B1F-9C0C-97FD0CD3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79F1-755C-46DE-B6F8-C8359FC6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D9F4-D086-4F14-ADA1-9A1C7E0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4332-398D-46F5-A712-5DE50A4B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57C9-D902-49CA-B080-9ED5B214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845-A4CE-4A28-A05D-DE8CB80E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7314-14C9-4401-A092-4EBCD861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B672-9671-40C6-9F4D-780D616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0AB8-89C6-4A53-A3E8-ECB33C3B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73D4-49A1-4FE8-B381-268706F4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1D27-04A6-401B-873F-98B884B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064C-22F8-4583-91D8-CB7EEA49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4729-00BA-4634-A0D0-1DD7AF7A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3A7FB-B2DC-471C-9B99-EBE68C64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4DA2B-2147-4119-B812-58FD2785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2FD98-FB6C-49BA-80A0-65B1C2B1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3A9-1292-4ABB-9A11-74E70E95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D3717-68C2-4D75-B041-2E6AEBC6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6F952-86BE-404D-BC9A-DA7844FA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47E4C3-0DB6-4EA7-9077-42CCFB9D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47BDB-A816-4CD9-AAEA-D14E0F25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83616-F226-420A-ADC2-6E6C7475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56BF0-2856-48B6-9930-9C3C143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D9F60-3AC2-492E-97EE-67240897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26B7D-6FA9-4B5E-99FA-EE62F582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D7116-4E1A-4D25-97A1-A6E0512E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E5EFE-F9D6-4FA3-A3D4-236DEDB5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F8A-6FB8-4FC1-AC5B-0C424943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5113A-40CC-4B50-9648-C7B3F722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69EB9-C4D5-408C-AC92-4C53B70A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69807-5BFB-4737-AC02-4CB2B8B8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29582-9081-4B6D-BC26-0140F154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02E0D-3E03-4A46-AB23-504038D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8639E-0E6F-4CD8-BDF0-0FEAF74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2D7B8-31D2-4EA3-9B67-92E080E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A11F6-C685-4484-A35D-D900962D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94900-2304-47BB-BCF9-15FB17B6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53E50-52B9-42FD-8D09-56B35528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BFB-84F0-44F9-9F6F-CCDE598B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E255B-5D82-4803-8EAC-EF0BEDB0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D95FF-532E-42B7-A622-E24A6FB0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6DDDC-5F6B-4633-A0ED-1698257E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9C1AE-84CE-44A4-8C13-55EC4FFB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62DD4-94CF-4E3B-9E12-AA4DE3CB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27546-50CF-4B1C-8FD4-9E9185D4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09EED-29DC-44EB-A521-426DB169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23134-AE37-413E-BDAE-CAEA781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9CCC7-C569-4586-A73E-E67CD93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CB0AD-7DCE-434B-A693-C3CF3EA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A68-6A0D-4957-A625-07BA944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07F28-A33A-47E6-9B0B-FB51D2E7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D3952-65FE-4CEC-B852-3B7908EB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83803-9013-4733-BC7B-D23DBEEA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381-BBB6-4751-A17C-65BA7D8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B54-D67B-473F-92DB-78F3E85D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ED6D-D67A-4A17-980B-57EFDDDBB17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D806-9CEF-4897-BCA4-0E0D9AB6783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8370-7169-44E0-9F6A-72898D21B35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37B-85D7-4412-8311-44DC470E357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3496-6020-4591-A0D2-175A3E21506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E31B-2BEC-4ADC-9E6A-32CD1FDDEA0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362320" y="4857480"/>
            <a:ext cx="67053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АОУ гимназия № 4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естерова Наталья Дмитриев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26960" y="1127160"/>
            <a:ext cx="9210600" cy="3633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214200" y="714240"/>
          <a:ext cx="8786880" cy="4357800"/>
        </p:xfrm>
        <a:graphic>
          <a:graphicData uri="http://schemas.openxmlformats.org/drawingml/2006/table">
            <a:tbl>
              <a:tblPr/>
              <a:tblGrid>
                <a:gridCol w="3048120"/>
                <a:gridCol w="573876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6702"/>
                          </a:solidFill>
                          <a:latin typeface="Constantia"/>
                        </a:rPr>
                        <a:t>Юридическое закрепление сложившейся социальной структуры об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ac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670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6702"/>
                          </a:solidFill>
                          <a:latin typeface="Constantia"/>
                        </a:rPr>
                        <a:t>Регламентация прав и обязанностей всех сослов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670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6702"/>
                          </a:solidFill>
                          <a:latin typeface="Constantia"/>
                        </a:rPr>
                        <a:t>Прикрепление посадских людей к посадам и слобод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670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6702"/>
                          </a:solidFill>
                          <a:latin typeface="Constantia"/>
                        </a:rPr>
                        <a:t>Дворяне получили право передавать поместье по наследству, если их сыновья продолжали отцовскую служ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ac9"/>
                    </a:solidFill>
                  </a:tcPr>
                </a:tc>
              </a:tr>
              <a:tr h="23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Юридическое оформление процесса перехода от сословно – представительной монархии к абсолют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Глава 2. «От государьской чести и как его государьское здоровье оберегать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142920"/>
          <a:ext cx="8929800" cy="70660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79315"/>
                          </a:solidFill>
                          <a:latin typeface="Constantia"/>
                        </a:rPr>
                        <a:t>Причины реформы церк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fe5ca"/>
                    </a:solidFill>
                  </a:tcPr>
                </a:tc>
              </a:tr>
              <a:tr h="365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Утверждение РПЦ как международного центра требовало ликвидации расхождений в богословской системе и церковной практике между Русской Церковью и православным Восток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Приведение к единообразию службы и богослужебных книг – условие объединения России и Укра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Поднять авторитет Церкви путем борьбы с языческими суевериями, проникновение светских начал в духовную жизнь общества, упадком церковных нрав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Небходимость преодоления противоречий в толковании священных канонов, обусловленных отличиями  и разногласиями в церковных обрядах и богослужебных  книг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Укрепление новой династии Романовых у в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Укрепление процесса централизации в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ец 1640-х гг – 1652 г. – «Кружок ревнителей древнего благочестия»  (Никон – патриарх с 1652 г.), С. Вонифатьев (духовник царя), протопоп Авваку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нять авторитет церкви в глазах верующ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нуться к первоосновам христиан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тановить проникновение западного влияния в Росс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cxnSp>
        <p:nvCxnSpPr>
          <p:cNvPr id="292" name="Прямая со стрелкой 3"/>
          <p:cNvCxnSpPr/>
          <p:nvPr/>
        </p:nvCxnSpPr>
        <p:spPr>
          <a:xfrm>
            <a:off x="4357440" y="4149360"/>
            <a:ext cx="1080" cy="429480"/>
          </a:xfrm>
          <a:prstGeom prst="straightConnector1">
            <a:avLst/>
          </a:prstGeom>
          <a:ln w="57240">
            <a:solidFill>
              <a:srgbClr val="706702"/>
            </a:solidFill>
            <a:miter/>
            <a:tailEnd len="med" type="triangle" w="med"/>
          </a:ln>
        </p:spPr>
      </p:cxnSp>
      <p:cxnSp>
        <p:nvCxnSpPr>
          <p:cNvPr id="293" name="Прямая со стрелкой 10"/>
          <p:cNvCxnSpPr/>
          <p:nvPr/>
        </p:nvCxnSpPr>
        <p:spPr>
          <a:xfrm>
            <a:off x="4357440" y="5157360"/>
            <a:ext cx="1080" cy="429480"/>
          </a:xfrm>
          <a:prstGeom prst="straightConnector1">
            <a:avLst/>
          </a:prstGeom>
          <a:ln w="57240">
            <a:solidFill>
              <a:srgbClr val="7d9263"/>
            </a:solidFill>
            <a:miter/>
            <a:tailEnd len="med" type="triangle" w="med"/>
          </a:ln>
        </p:spPr>
      </p:cxn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214200" y="285840"/>
          <a:ext cx="8715600" cy="586260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формы (1653 – 1655 гг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54 г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– принятие их Церковным собо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Содержание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реф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Позиция Никона (реализова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Позиция Аввак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правление богослужебных кни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овые греческие богослужебные кни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ревнерусские (византийские) кни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правление обрядов, икон, архитек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оеперстие, упорядочение церковной службы, уничтожение старинных икон, запрет шатровых церкв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ксимальное сохранение стар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ледствия  реф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0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трализация  церк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тановление единства РПЦ с остальным православным ми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тановление контроля над священниками и усиление дисципл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троль  над  верующ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 церковного 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иление  личной  власти  Ни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рковный  раск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Users\USER\Desktop\197393836_tonnel.gif"/>
          <p:cNvPicPr/>
          <p:nvPr/>
        </p:nvPicPr>
        <p:blipFill>
          <a:blip r:embed="rId1"/>
          <a:stretch/>
        </p:blipFill>
        <p:spPr>
          <a:xfrm>
            <a:off x="142920" y="1000080"/>
            <a:ext cx="4286160" cy="5516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Users\USER\Desktop\1308671940_avvaqum.jpg"/>
          <p:cNvPicPr/>
          <p:nvPr/>
        </p:nvPicPr>
        <p:blipFill>
          <a:blip r:embed="rId2"/>
          <a:stretch/>
        </p:blipFill>
        <p:spPr>
          <a:xfrm>
            <a:off x="4714920" y="1000080"/>
            <a:ext cx="4214880" cy="554184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3"/>
          <p:cNvSpPr/>
          <p:nvPr/>
        </p:nvSpPr>
        <p:spPr>
          <a:xfrm>
            <a:off x="357120" y="357120"/>
            <a:ext cx="3643560" cy="500040"/>
          </a:xfrm>
          <a:prstGeom prst="rect">
            <a:avLst/>
          </a:prstGeom>
          <a:solidFill>
            <a:srgbClr val="dfe5c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9315"/>
                </a:solidFill>
                <a:latin typeface="Constantia"/>
              </a:rPr>
              <a:t>Патриарх   Ник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4"/>
          <p:cNvSpPr/>
          <p:nvPr/>
        </p:nvSpPr>
        <p:spPr>
          <a:xfrm>
            <a:off x="4740120" y="357120"/>
            <a:ext cx="3643560" cy="500040"/>
          </a:xfrm>
          <a:prstGeom prst="rect">
            <a:avLst/>
          </a:prstGeom>
          <a:solidFill>
            <a:srgbClr val="dfe5c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9315"/>
                </a:solidFill>
                <a:latin typeface="Constantia"/>
              </a:rPr>
              <a:t>Протопоп  Аввак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/>
          <p:cNvSpPr/>
          <p:nvPr/>
        </p:nvSpPr>
        <p:spPr>
          <a:xfrm>
            <a:off x="357120" y="2071800"/>
            <a:ext cx="3571920" cy="2286000"/>
          </a:xfrm>
          <a:prstGeom prst="rect">
            <a:avLst/>
          </a:prstGeom>
          <a:solidFill>
            <a:srgbClr val="dbe1d3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142"/>
                </a:solidFill>
                <a:latin typeface="Constantia"/>
              </a:rPr>
              <a:t>Официальная  Православная  Церк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714920" y="2071800"/>
            <a:ext cx="3786120" cy="2357280"/>
          </a:xfrm>
          <a:prstGeom prst="rect">
            <a:avLst/>
          </a:prstGeom>
          <a:solidFill>
            <a:srgbClr val="dbe1d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36142"/>
                </a:solidFill>
                <a:uFillTx/>
                <a:latin typeface="Constantia"/>
              </a:rPr>
              <a:t>Старообрядчество</a:t>
            </a:r>
            <a:r>
              <a:rPr b="1" lang="ru-RU" sz="1800" spc="-1" strike="noStrike">
                <a:solidFill>
                  <a:srgbClr val="536142"/>
                </a:solidFill>
                <a:latin typeface="Constantia"/>
              </a:rPr>
              <a:t> (раскольники, староверы) – совокупность различного рода религиозных организаций, не признавших нововведения Никона. Идеолог – протопоп Авваку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1500120" y="214200"/>
            <a:ext cx="5500800" cy="914400"/>
          </a:xfrm>
          <a:prstGeom prst="rect">
            <a:avLst/>
          </a:prstGeom>
          <a:solidFill>
            <a:srgbClr val="dbe1d3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9315"/>
                </a:solidFill>
                <a:latin typeface="Constantia"/>
              </a:rPr>
              <a:t>Церковный  раск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6"/>
          <p:cNvSpPr/>
          <p:nvPr/>
        </p:nvSpPr>
        <p:spPr>
          <a:xfrm>
            <a:off x="2357280" y="1643040"/>
            <a:ext cx="0" cy="428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ая соединительная линия 12"/>
          <p:cNvSpPr/>
          <p:nvPr/>
        </p:nvSpPr>
        <p:spPr>
          <a:xfrm flipH="1">
            <a:off x="2356920" y="1643040"/>
            <a:ext cx="4071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ая соединительная линия 13"/>
          <p:cNvSpPr/>
          <p:nvPr/>
        </p:nvSpPr>
        <p:spPr>
          <a:xfrm>
            <a:off x="6429240" y="1643040"/>
            <a:ext cx="0" cy="428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4286160" y="1143000"/>
            <a:ext cx="0" cy="500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6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pic>
          <p:nvPicPr>
            <p:cNvPr id="307" name="Rectangle 6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14400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Rectangle 4"/>
          <p:cNvSpPr/>
          <p:nvPr/>
        </p:nvSpPr>
        <p:spPr>
          <a:xfrm>
            <a:off x="0" y="1143000"/>
            <a:ext cx="9144000" cy="4786560"/>
          </a:xfrm>
          <a:prstGeom prst="rect">
            <a:avLst/>
          </a:prstGeom>
          <a:solidFill>
            <a:srgbClr val="fde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военные походы и политические переговоры -  (1654-165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1654г - воссоединение Украины и государства Русск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война с Речью Посполитой (1654-1667) - Андрусовское перемир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Война со шведами  -  1656-1661г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1635-1646гг - Строительство оборонительной линии (Белгород-Воронеж–Тамбов) –29 креп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проведены масштабные военные реформы с приглашением иностранных специалис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357120" y="357120"/>
            <a:ext cx="8143920" cy="500040"/>
          </a:xfrm>
          <a:prstGeom prst="rect">
            <a:avLst/>
          </a:prstGeom>
          <a:solidFill>
            <a:srgbClr val="fded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6142"/>
                </a:solidFill>
                <a:latin typeface="Constantia"/>
              </a:rPr>
              <a:t>Внешняя  поли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0" y="1500120"/>
            <a:ext cx="9144000" cy="5143680"/>
          </a:xfrm>
          <a:prstGeom prst="rect">
            <a:avLst/>
          </a:prstGeom>
          <a:solidFill>
            <a:srgbClr val="c9d3b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36142"/>
                </a:solidFill>
                <a:latin typeface="Constantia"/>
              </a:rPr>
              <a:t>Семен Дежнев </a:t>
            </a:r>
            <a:r>
              <a:rPr b="0" lang="ru-RU" sz="2600" spc="-1" strike="noStrike">
                <a:solidFill>
                  <a:srgbClr val="536142"/>
                </a:solidFill>
                <a:latin typeface="Constantia"/>
              </a:rPr>
              <a:t>– 1648 г. – плавание вдоль Чукотского п-ва и открытие пролива, отделяющего Азию от Северной Амер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36142"/>
                </a:solidFill>
                <a:latin typeface="Constantia"/>
              </a:rPr>
              <a:t>Василий Поярков </a:t>
            </a:r>
            <a:r>
              <a:rPr b="0" lang="ru-RU" sz="2600" spc="-1" strike="noStrike">
                <a:solidFill>
                  <a:srgbClr val="536142"/>
                </a:solidFill>
                <a:latin typeface="Constantia"/>
              </a:rPr>
              <a:t>– 1643-1646 г. – прошел из Якутска по рекам Лена, Алдан, вышел по Амуру в охотское море, а затем вернулся в Якутс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36142"/>
                </a:solidFill>
                <a:latin typeface="Constantia"/>
              </a:rPr>
              <a:t>Ерофей Хабаров </a:t>
            </a:r>
            <a:r>
              <a:rPr b="0" lang="ru-RU" sz="2600" spc="-1" strike="noStrike">
                <a:solidFill>
                  <a:srgbClr val="536142"/>
                </a:solidFill>
                <a:latin typeface="Constantia"/>
              </a:rPr>
              <a:t>– 1649-1650г. – поход в Даурию, освоил земли по р. Амур и составил их карты (чертеж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36142"/>
                </a:solidFill>
                <a:latin typeface="Constantia"/>
              </a:rPr>
              <a:t>Владимир Атласов </a:t>
            </a:r>
            <a:r>
              <a:rPr b="0" lang="ru-RU" sz="2600" spc="-1" strike="noStrike">
                <a:solidFill>
                  <a:srgbClr val="536142"/>
                </a:solidFill>
                <a:latin typeface="Constantia"/>
              </a:rPr>
              <a:t>– 1696-1697 г. – экспедиция на Камчатку          присоединение ее к Росси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8000" cy="1395360"/>
          </a:xfrm>
          <a:prstGeom prst="rect">
            <a:avLst/>
          </a:prstGeom>
          <a:ln w="0">
            <a:noFill/>
          </a:ln>
        </p:spPr>
      </p:pic>
      <p:cxnSp>
        <p:nvCxnSpPr>
          <p:cNvPr id="313" name="Прямая со стрелкой 4"/>
          <p:cNvCxnSpPr/>
          <p:nvPr/>
        </p:nvCxnSpPr>
        <p:spPr>
          <a:xfrm>
            <a:off x="2000160" y="6071760"/>
            <a:ext cx="57240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Rectangle 7"/>
          <p:cNvGrpSpPr/>
          <p:nvPr/>
        </p:nvGrpSpPr>
        <p:grpSpPr>
          <a:xfrm>
            <a:off x="0" y="5010120"/>
            <a:ext cx="9144000" cy="1847880"/>
            <a:chOff x="0" y="5010120"/>
            <a:chExt cx="9144000" cy="1847880"/>
          </a:xfrm>
        </p:grpSpPr>
        <p:pic>
          <p:nvPicPr>
            <p:cNvPr id="315" name="Rectangle 7" descr=""/>
            <p:cNvPicPr/>
            <p:nvPr/>
          </p:nvPicPr>
          <p:blipFill>
            <a:blip r:embed="rId1"/>
            <a:stretch/>
          </p:blipFill>
          <p:spPr>
            <a:xfrm>
              <a:off x="0" y="5010120"/>
              <a:ext cx="91440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0" y="5013360"/>
              <a:ext cx="9144000" cy="18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Rectangle 4"/>
          <p:cNvSpPr/>
          <p:nvPr/>
        </p:nvSpPr>
        <p:spPr>
          <a:xfrm>
            <a:off x="0" y="5000760"/>
            <a:ext cx="9144000" cy="1465560"/>
          </a:xfrm>
          <a:prstGeom prst="rect">
            <a:avLst/>
          </a:prstGeom>
          <a:solidFill>
            <a:srgbClr val="fad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6142"/>
                </a:solidFill>
                <a:latin typeface="Arial"/>
              </a:rPr>
              <a:t>Ему было всего 47 лет, из которых 30 он провёл на троне. Перед самой кончиной царь велел выпустить из тюрем всех заключённых, вернуть из ссылок всех сосланных и простить все казённые долги. Одной из причин кончины является чрезмерная полнота. Несмотря на все посты и огромное пристрастие к охоте царь даже по мнению бояр того времени считался очень ту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6" descr="1268481919_5"/>
          <p:cNvPicPr/>
          <p:nvPr/>
        </p:nvPicPr>
        <p:blipFill>
          <a:blip r:embed="rId2"/>
          <a:stretch/>
        </p:blipFill>
        <p:spPr>
          <a:xfrm>
            <a:off x="755640" y="189000"/>
            <a:ext cx="7632720" cy="4761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Rectangle 7"/>
          <p:cNvGrpSpPr/>
          <p:nvPr/>
        </p:nvGrpSpPr>
        <p:grpSpPr>
          <a:xfrm>
            <a:off x="176040" y="4797360"/>
            <a:ext cx="8791920" cy="1871640"/>
            <a:chOff x="176040" y="4797360"/>
            <a:chExt cx="8791920" cy="1871640"/>
          </a:xfrm>
        </p:grpSpPr>
        <p:pic>
          <p:nvPicPr>
            <p:cNvPr id="255" name="Rectangle 7" descr=""/>
            <p:cNvPicPr/>
            <p:nvPr/>
          </p:nvPicPr>
          <p:blipFill>
            <a:blip r:embed="rId1"/>
            <a:stretch/>
          </p:blipFill>
          <p:spPr>
            <a:xfrm>
              <a:off x="176040" y="4797360"/>
              <a:ext cx="8791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79280" y="4797360"/>
              <a:ext cx="878544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7" name="Picture 5" descr="%D0%90%D0%BB%D0%B5%D0%BA%D1%81%D0%B5%D0%B9_%D0%9C%D0%B8%D1%85%D0%B0%D0%B9%D0%BB%D0%BE%D0%B2%D0%B8%D1%87_thumb"/>
          <p:cNvPicPr/>
          <p:nvPr/>
        </p:nvPicPr>
        <p:blipFill>
          <a:blip r:embed="rId2"/>
          <a:stretch/>
        </p:blipFill>
        <p:spPr>
          <a:xfrm>
            <a:off x="2071800" y="142920"/>
            <a:ext cx="4572000" cy="45910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179280" y="4572000"/>
            <a:ext cx="8785440" cy="1923480"/>
          </a:xfrm>
          <a:prstGeom prst="rect">
            <a:avLst/>
          </a:prstGeom>
          <a:solidFill>
            <a:srgbClr val="c9d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ей Михайлович Романов родился в Москве 19 марта 1629. Отец царь Михаил Фёдорович. Мать Евдокия Стрешнева. До пяти лет он был на попечении царских «мам». Далее - его дядька боярин Морозов. В 14 лет царевича Алексея торжественно представили народу, и уже в 16 лет он начал своё правление. Царствование начал в 1645 после кончины своего батю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Rectangle 7"/>
          <p:cNvGrpSpPr/>
          <p:nvPr/>
        </p:nvGrpSpPr>
        <p:grpSpPr>
          <a:xfrm>
            <a:off x="176040" y="189000"/>
            <a:ext cx="8791920" cy="2230200"/>
            <a:chOff x="176040" y="189000"/>
            <a:chExt cx="8791920" cy="2230200"/>
          </a:xfrm>
        </p:grpSpPr>
        <p:pic>
          <p:nvPicPr>
            <p:cNvPr id="260" name="Rectangle 7" descr=""/>
            <p:cNvPicPr/>
            <p:nvPr/>
          </p:nvPicPr>
          <p:blipFill>
            <a:blip r:embed="rId1"/>
            <a:stretch/>
          </p:blipFill>
          <p:spPr>
            <a:xfrm>
              <a:off x="176040" y="189000"/>
              <a:ext cx="8791920" cy="22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9280" y="189000"/>
              <a:ext cx="878544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Rectangle 4"/>
          <p:cNvSpPr/>
          <p:nvPr/>
        </p:nvSpPr>
        <p:spPr>
          <a:xfrm>
            <a:off x="179280" y="260280"/>
            <a:ext cx="8785440" cy="2014200"/>
          </a:xfrm>
          <a:prstGeom prst="rect">
            <a:avLst/>
          </a:prstGeom>
          <a:solidFill>
            <a:srgbClr val="c9d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6142"/>
                </a:solidFill>
                <a:latin typeface="Arial"/>
              </a:rPr>
              <a:t>Алексей Михайлович прославился как «тишайший» царь в «Взбалмошный» век. Он старался быть примерным христианином как внешне, так и внутренне: соблюдал посты и обряды и отличался отзывчивостью, кротостью и смирением, хотя изредка бывал-таки гневлив. Однако, согласно исторических данным, в делах политических поначалу был безучастен. В начале царствования Алексей Михайлович был мал и власть в свои руки взял боярин Морозов («дядька», он воспитывал цар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6" descr="237d49ef0dfb"/>
          <p:cNvPicPr/>
          <p:nvPr/>
        </p:nvPicPr>
        <p:blipFill>
          <a:blip r:embed="rId2"/>
          <a:stretch/>
        </p:blipFill>
        <p:spPr>
          <a:xfrm>
            <a:off x="179280" y="2492280"/>
            <a:ext cx="8785440" cy="4178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42920" y="142920"/>
            <a:ext cx="8786880" cy="59832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601"/>
              </a:spcBef>
              <a:buClr>
                <a:srgbClr val="e7bc2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ервого брака на Марье Ильиничне Милославской у царя - 13 детей, от второго брака на Нарышкиной Наталье Кирилловне у царя  -  трое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e7bc2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арь Алексей был весьма образован. Первым из царей стал подписывать документы собственноручно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e7bc2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сторики приписывают ему некоторые литературные произведения, в т. ч. «Повесть о преставлении патриарха», «Послание на Соловки», и многие другие… Умер царь Алексей Михайлович Романов 8 февраля 1676 года, так и не дожив до старости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ectangle 7"/>
          <p:cNvGrpSpPr/>
          <p:nvPr/>
        </p:nvGrpSpPr>
        <p:grpSpPr>
          <a:xfrm>
            <a:off x="176040" y="4584600"/>
            <a:ext cx="8791920" cy="2273400"/>
            <a:chOff x="176040" y="4584600"/>
            <a:chExt cx="8791920" cy="2273400"/>
          </a:xfrm>
        </p:grpSpPr>
        <p:pic>
          <p:nvPicPr>
            <p:cNvPr id="267" name="Rectangle 7" descr=""/>
            <p:cNvPicPr/>
            <p:nvPr/>
          </p:nvPicPr>
          <p:blipFill>
            <a:blip r:embed="rId1"/>
            <a:stretch/>
          </p:blipFill>
          <p:spPr>
            <a:xfrm>
              <a:off x="176040" y="4587480"/>
              <a:ext cx="879192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79280" y="4584600"/>
              <a:ext cx="878544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4"/>
          <p:cNvSpPr/>
          <p:nvPr/>
        </p:nvSpPr>
        <p:spPr>
          <a:xfrm>
            <a:off x="179280" y="4653000"/>
            <a:ext cx="8713800" cy="2014200"/>
          </a:xfrm>
          <a:prstGeom prst="rect">
            <a:avLst/>
          </a:prstGeom>
          <a:solidFill>
            <a:srgbClr val="ed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46 ввели налог на соль, в результате чего цены на продукты резко выросли, стали непосильны населению, а у торговцев пропадал сгнивающий товар. В 1647 пошлину отменили, но, дабы пополнить казну, решили урезать жалованье служилым людям.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4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яной бун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восстания погибли родственники царя, но Морозов выжил лишь чудом. Царь был вынужден идти на уступки и отменить взимание недоимок в казну, а также по настоянию дворян и торговцев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4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у утверди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ное у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6" descr="1260614613_ist25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4662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Rectangle 7"/>
          <p:cNvGrpSpPr/>
          <p:nvPr/>
        </p:nvGrpSpPr>
        <p:grpSpPr>
          <a:xfrm>
            <a:off x="5651640" y="189000"/>
            <a:ext cx="3316320" cy="6480000"/>
            <a:chOff x="5651640" y="189000"/>
            <a:chExt cx="3316320" cy="6480000"/>
          </a:xfrm>
        </p:grpSpPr>
        <p:pic>
          <p:nvPicPr>
            <p:cNvPr id="272" name="Rectangle 7" descr=""/>
            <p:cNvPicPr/>
            <p:nvPr/>
          </p:nvPicPr>
          <p:blipFill>
            <a:blip r:embed="rId1"/>
            <a:stretch/>
          </p:blipFill>
          <p:spPr>
            <a:xfrm>
              <a:off x="5651640" y="189000"/>
              <a:ext cx="331632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651640" y="189000"/>
              <a:ext cx="331308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4"/>
          <p:cNvSpPr/>
          <p:nvPr/>
        </p:nvSpPr>
        <p:spPr>
          <a:xfrm>
            <a:off x="5651640" y="333360"/>
            <a:ext cx="3276360" cy="49611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орное улож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ного прав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 второй половины 17 в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ские соборы перестали созыва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цветала приказная система управления и бюрократиза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йный приказ 16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торый позволял царю руководить всеми центральными и местными учреждения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оторговый (1667) и Таможенны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653) устав. Поддержка купечества, защита купцов от их иностранных конкурентов. В русское государство стали приглашаться иностранные специалис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6" descr="J1"/>
          <p:cNvPicPr/>
          <p:nvPr/>
        </p:nvPicPr>
        <p:blipFill>
          <a:blip r:embed="rId2"/>
          <a:stretch/>
        </p:blipFill>
        <p:spPr>
          <a:xfrm>
            <a:off x="179280" y="189000"/>
            <a:ext cx="540072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Rectangle 8"/>
          <p:cNvGrpSpPr/>
          <p:nvPr/>
        </p:nvGrpSpPr>
        <p:grpSpPr>
          <a:xfrm>
            <a:off x="176040" y="189000"/>
            <a:ext cx="3816000" cy="6480000"/>
            <a:chOff x="176040" y="189000"/>
            <a:chExt cx="3816000" cy="6480000"/>
          </a:xfrm>
        </p:grpSpPr>
        <p:pic>
          <p:nvPicPr>
            <p:cNvPr id="277" name="Rectangle 8" descr=""/>
            <p:cNvPicPr/>
            <p:nvPr/>
          </p:nvPicPr>
          <p:blipFill>
            <a:blip r:embed="rId1"/>
            <a:stretch/>
          </p:blipFill>
          <p:spPr>
            <a:xfrm>
              <a:off x="176040" y="189000"/>
              <a:ext cx="381312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8920" y="189000"/>
              <a:ext cx="381312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Rectangle 4"/>
          <p:cNvSpPr/>
          <p:nvPr/>
        </p:nvSpPr>
        <p:spPr>
          <a:xfrm>
            <a:off x="179280" y="260280"/>
            <a:ext cx="3963960" cy="4848840"/>
          </a:xfrm>
          <a:prstGeom prst="rect">
            <a:avLst/>
          </a:prstGeom>
          <a:solidFill>
            <a:srgbClr val="fff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6142"/>
                </a:solidFill>
                <a:latin typeface="Arial"/>
              </a:rPr>
              <a:t>Алексей Михайлович Романов был реформатором. Он привнёс в жизнь знати нотку светской культуры. Возникла светская литература, поэзия и даже живопись. Алексей Михайлович главный </a:t>
            </a:r>
            <a:r>
              <a:rPr b="1" lang="ru-RU" sz="2400" spc="-1" strike="noStrike">
                <a:solidFill>
                  <a:srgbClr val="536142"/>
                </a:solidFill>
                <a:latin typeface="Arial"/>
              </a:rPr>
              <a:t>инициатор реформ церкви</a:t>
            </a:r>
            <a:r>
              <a:rPr b="0" lang="ru-RU" sz="2400" spc="-1" strike="noStrike">
                <a:solidFill>
                  <a:srgbClr val="536142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6142"/>
                </a:solidFill>
                <a:latin typeface="Arial"/>
              </a:rPr>
              <a:t>Народные восстания – социальный криз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7" descr="400px-Salt_Riot_Nekrasov"/>
          <p:cNvPicPr/>
          <p:nvPr/>
        </p:nvPicPr>
        <p:blipFill>
          <a:blip r:embed="rId2"/>
          <a:stretch/>
        </p:blipFill>
        <p:spPr>
          <a:xfrm>
            <a:off x="4071960" y="189000"/>
            <a:ext cx="490860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142920" y="785880"/>
          <a:ext cx="8786880" cy="5857920"/>
        </p:xfrm>
        <a:graphic>
          <a:graphicData uri="http://schemas.openxmlformats.org/drawingml/2006/table">
            <a:tbl>
              <a:tblPr/>
              <a:tblGrid>
                <a:gridCol w="1714320"/>
                <a:gridCol w="1490760"/>
                <a:gridCol w="2795760"/>
                <a:gridCol w="27860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рри тор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то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648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ляной бу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Москва, Курск, Вороне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65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ный бу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Моск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666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сстание В.У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До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667-1669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сстание С.Раз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Д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68-1676 Соловецкое восстание     («Соловецкое сидение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Соловецкий монасты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122400" y="128520"/>
            <a:ext cx="7967520" cy="858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42560" y="1071720"/>
            <a:ext cx="9001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ловецкий моьнасты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92160" y="274680"/>
            <a:ext cx="8839080" cy="8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357120" y="928800"/>
          <a:ext cx="8643960" cy="5924520"/>
        </p:xfrm>
        <a:graphic>
          <a:graphicData uri="http://schemas.openxmlformats.org/drawingml/2006/table">
            <a:tbl>
              <a:tblPr/>
              <a:tblGrid>
                <a:gridCol w="3786120"/>
                <a:gridCol w="48578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Причины составления Соборного у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обходимость правовой регламентации процессов развития сословного и политического строя и сплочение основных сослов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требность в унификации и упорядочении судопроизводства и судоустройс-тва в масштабе ст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острение противоречий, проявившихся в городских восстан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борное уло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– кодекс российского права, регулировавший отношения в основных сферах жизни общест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 глав, 963 стат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Окончательное юридическое оформление крепостного права – наиболее тяжелой формы зависимости крестьян от землевладельцев, власть которых полностью распространялась наличность, труд и имущество крестья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отмена Юрьева д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Бессрочный сыск беглых крестья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Отмена «Урочных лет» (зависимость крестьян становится потомственно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Имущество крестьян – собственность землевладельц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Право наказывать (юридич. бесправ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Укрывательство - тюр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cxnSp>
        <p:nvCxnSpPr>
          <p:cNvPr id="286" name="Прямая со стрелкой 5"/>
          <p:cNvCxnSpPr/>
          <p:nvPr/>
        </p:nvCxnSpPr>
        <p:spPr>
          <a:xfrm flipH="1">
            <a:off x="4071240" y="2786040"/>
            <a:ext cx="108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7" name="Прямая со стрелкой 11"/>
          <p:cNvCxnSpPr/>
          <p:nvPr/>
        </p:nvCxnSpPr>
        <p:spPr>
          <a:xfrm flipH="1">
            <a:off x="4071240" y="2786040"/>
            <a:ext cx="1080" cy="356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8" name="Прямая со стрелкой 12"/>
          <p:cNvCxnSpPr/>
          <p:nvPr/>
        </p:nvCxnSpPr>
        <p:spPr>
          <a:xfrm flipH="1">
            <a:off x="4071240" y="4142880"/>
            <a:ext cx="1080" cy="358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9" name="Прямая со стрелкой 13"/>
          <p:cNvCxnSpPr/>
          <p:nvPr/>
        </p:nvCxnSpPr>
        <p:spPr>
          <a:xfrm flipH="1" flipV="1">
            <a:off x="4000320" y="7500240"/>
            <a:ext cx="72000" cy="359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8:55:34Z</dcterms:created>
  <dc:creator>Dragon</dc:creator>
  <dc:description/>
  <dc:language>en-US</dc:language>
  <cp:lastModifiedBy>наталья</cp:lastModifiedBy>
  <dcterms:modified xsi:type="dcterms:W3CDTF">2013-10-19T03:41:46Z</dcterms:modified>
  <cp:revision>27</cp:revision>
  <dc:subject/>
  <dc:title>Слайд 1</dc:title>
</cp:coreProperties>
</file>