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FE7-B79D-47FC-8BD1-A32F2E89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AEA-426C-402D-BAA2-6698C024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535-1ADD-4BCB-8F7D-62C01640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220-DE26-45E7-9A10-6C624699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53CB3-A22D-4687-AB3F-A46CC867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097E1-3072-465B-95F7-C163C4DC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33A74-83C9-4F1C-9C74-C5535489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127AA-CC1C-4345-AABE-E709B853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2D67D-7480-49CD-9478-2C574C7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791C4-B2FF-4F34-B5E5-8C1FE6E9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A5E0-E859-4DFC-A7F6-84FE545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9C2-2863-476D-AAAB-AE12D146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54117-D39C-4DA0-98D7-FE3A4CC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7BA5-C34B-4889-A5A8-F9272A3A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57A14-2902-4A3A-9849-DF9C0EA5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F1B06-81A7-487E-A86E-5E425D0C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D2309-21B5-4289-8B7C-A0A81454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7C31-DF6E-437B-81C4-6F41D1F7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455A-6741-400F-AE3E-3E14337E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7398-1633-44CE-BAB0-20715B31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58EF3-243C-4DAC-91F1-0926D025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CC93-F86E-44DD-9355-B09CEC3E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540-556B-4BAC-9983-F563038D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638E-A2EB-4AB8-82F0-0AB46EE9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DF5B-316D-417B-8B56-73BE648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3E9F-90AF-4D7C-9831-AC0D9C3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ECA1-E724-47DC-BB5A-BF49A3DB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1AC3-5CAB-4641-BC96-4CF1AA21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1683-FCDF-48F3-A897-0C200B8C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EFDD-A197-4249-A735-26A3B637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B03F2-2B27-431D-845C-F02F070F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37711-78E2-40B0-A4C6-F6A51CF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32BC4-B864-4577-96B5-4C52A54F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31D-55D9-4E65-81EC-F0221093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CFFC4-5AA5-4167-9D5E-4E92F442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8AF99-8964-4024-B1B4-ED5E18BB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4D34B-6396-4E25-9099-94CFD33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E6485-BE97-4EBA-9578-DB92F7A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66DAA-D16B-4DAF-B538-DC19D27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5F1BF-9930-4FC7-92F3-7EDC887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32B16-9B0E-4171-9B6B-B755880A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05FD9-C8D5-4838-BE1A-42EC8A3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687B6-77CD-4718-B146-E82230B0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79E9E-1FA5-48EA-8E07-710E9793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239-E0B0-4578-906A-CD99C2A5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65DB4-29E2-4588-94CF-DC506EEB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97C4D-7459-41E6-9A20-B1D8B4B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AC5DC-762A-40E6-878F-D669879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F25F8-EC76-46F6-A618-E280B383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FD682-7313-43DB-AE0C-2F9070DB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596C2-5B96-4627-BDD4-72C079A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7DE52-909D-4CC1-8F94-8D0D7D5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3C9BE-BC9B-4B66-BF29-9743D3B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E67BB-E612-4919-9EC5-A2868CA4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39D8E-BD6A-44F4-8C24-80C7598B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044-D925-47B5-BBE8-EB70DF7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0206A-7A9A-48A5-912E-F36B2DB9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E9FE3-C87B-4201-9148-BCD2444D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6AE19-D055-4770-83C7-4A9D303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370C7-5CC5-41A8-BD7A-AEBF0F25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C3B3F-284F-44CB-A9F5-9CF9061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9AF5B-FA87-44EE-9B9D-889B1A2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65CDE-7A37-44E8-9CC7-0C445DE1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3C4DF-625D-481A-8E30-E6117E1B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07079-B9D5-4DDB-8B86-831A162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86A12-E156-4000-9634-0B1F2105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635-0A4B-424F-A048-DE32FCB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64006-5F2B-452C-8583-9C17C4B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BCA67-6BB8-4CE6-9587-20216BE8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53C39-D661-46E3-A418-C3BC8A85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063-E1BE-474F-87E9-5D1807FA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7A2-71E9-453C-AB3B-C6C2CE2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F9B6-F88F-4259-B09A-C019A37C8EF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B591-448C-4E42-82AE-40BB0FFCFD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081D-CE9C-4D95-9F20-ADF8C74AC8C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6250-BB0B-45DC-90A1-82E5FE7DB44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D8A9-2554-46BF-B8BF-F450F812922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576F-FDC1-4945-BD70-EB37CD68559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362320" y="4857480"/>
            <a:ext cx="67053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АОУ гимназия № 4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естерова Наталья Дмитриев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26960" y="1127160"/>
            <a:ext cx="9210600" cy="3633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214200" y="714240"/>
          <a:ext cx="8786880" cy="4357800"/>
        </p:xfrm>
        <a:graphic>
          <a:graphicData uri="http://schemas.openxmlformats.org/drawingml/2006/table">
            <a:tbl>
              <a:tblPr/>
              <a:tblGrid>
                <a:gridCol w="3048120"/>
                <a:gridCol w="57387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Юридическое закрепление сложившейся социальной структуры об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ac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670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Регламентация прав и обязанностей всех сослов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670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Прикрепление посадских людей к посадам и слобод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670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6702"/>
                          </a:solidFill>
                          <a:latin typeface="Constantia"/>
                        </a:rPr>
                        <a:t>Дворяне получили право передавать поместье по наследству, если их сыновья продолжали отцовскую служ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ac9"/>
                    </a:solidFill>
                  </a:tcPr>
                </a:tc>
              </a:tr>
              <a:tr h="23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Юридическое оформление процесса перехода от сословно – представительной монархии к абсолют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Глава 2. «От государьской чести и как его государьское здоровье оберегать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142920"/>
          <a:ext cx="8929800" cy="70660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79315"/>
                          </a:solidFill>
                          <a:latin typeface="Constantia"/>
                        </a:rPr>
                        <a:t>Причины реформы церк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fe5ca"/>
                    </a:solidFill>
                  </a:tcPr>
                </a:tc>
              </a:tr>
              <a:tr h="365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тверждение РПЦ как международного центра требовало ликвидации расхождений в богословской системе и церковной практике между Русской Церковью и православным Восток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Приведение к единообразию службы и богослужебных книг – условие объединения России и Укра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Поднять авторитет Церкви путем борьбы с языческими суевериями, проникновение светских начал в духовную жизнь общества, упадком церковных нра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Небходимость преодоления противоречий в толковании священных канонов, обусловленных отличиями  и разногласиями в церковных обрядах и богослужебных  книг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крепление новой династии Романовых у в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крепление процесса централизации в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ец 1640-х гг – 1652 г. – «Кружок ревнителей древнего благочестия»  (Никон – патриарх с 1652 г.), С. Вонифатьев (духовник царя), протопоп Авваку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нять авторитет церкви в глазах верующ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нуться к первоосновам христиан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тановить проникновение западного влияния в Росс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cxnSp>
        <p:nvCxnSpPr>
          <p:cNvPr id="292" name="Прямая со стрелкой 3"/>
          <p:cNvCxnSpPr/>
          <p:nvPr/>
        </p:nvCxnSpPr>
        <p:spPr>
          <a:xfrm>
            <a:off x="4357440" y="4149360"/>
            <a:ext cx="1080" cy="429480"/>
          </a:xfrm>
          <a:prstGeom prst="straightConnector1">
            <a:avLst/>
          </a:prstGeom>
          <a:ln w="57240">
            <a:solidFill>
              <a:srgbClr val="706702"/>
            </a:solidFill>
            <a:miter/>
            <a:tailEnd len="med" type="triangle" w="med"/>
          </a:ln>
        </p:spPr>
      </p:cxnSp>
      <p:cxnSp>
        <p:nvCxnSpPr>
          <p:cNvPr id="293" name="Прямая со стрелкой 10"/>
          <p:cNvCxnSpPr/>
          <p:nvPr/>
        </p:nvCxnSpPr>
        <p:spPr>
          <a:xfrm>
            <a:off x="4357440" y="5157360"/>
            <a:ext cx="1080" cy="429480"/>
          </a:xfrm>
          <a:prstGeom prst="straightConnector1">
            <a:avLst/>
          </a:prstGeom>
          <a:ln w="57240">
            <a:solidFill>
              <a:srgbClr val="7d9263"/>
            </a:solidFill>
            <a:miter/>
            <a:tailEnd len="med" type="triangle" w="med"/>
          </a:ln>
        </p:spPr>
      </p:cxn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214200" y="285840"/>
          <a:ext cx="8715600" cy="586260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формы (1653 – 1655 гг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4 г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– принятие их Церковным собо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Содержание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реф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озиция Никона (реализова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озиция Аввак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правление богослужебных кни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вые греческие богослужебные кни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ревнерусские (византийские) кни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правление обрядов, икон, архитек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оеперстие, упорядочение церковной службы, уничтожение старинных икон, запрет шатровых церкв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ксимальное сохранение стар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ледствия  реф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0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трализация  церк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ановление единства РПЦ с остальным православным ми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ановление контроля над священниками и усиление дисципл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троль  над  верующ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 церковного 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иление  личной  власти  Ни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рковный  раск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Users\USER\Desktop\197393836_tonnel.gif"/>
          <p:cNvPicPr/>
          <p:nvPr/>
        </p:nvPicPr>
        <p:blipFill>
          <a:blip r:embed="rId1"/>
          <a:stretch/>
        </p:blipFill>
        <p:spPr>
          <a:xfrm>
            <a:off x="142920" y="1000080"/>
            <a:ext cx="4286160" cy="5516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Users\USER\Desktop\1308671940_avvaqum.jpg"/>
          <p:cNvPicPr/>
          <p:nvPr/>
        </p:nvPicPr>
        <p:blipFill>
          <a:blip r:embed="rId2"/>
          <a:stretch/>
        </p:blipFill>
        <p:spPr>
          <a:xfrm>
            <a:off x="4714920" y="1000080"/>
            <a:ext cx="4214880" cy="554184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3"/>
          <p:cNvSpPr/>
          <p:nvPr/>
        </p:nvSpPr>
        <p:spPr>
          <a:xfrm>
            <a:off x="357120" y="357120"/>
            <a:ext cx="3643560" cy="500040"/>
          </a:xfrm>
          <a:prstGeom prst="rect">
            <a:avLst/>
          </a:prstGeom>
          <a:solidFill>
            <a:srgbClr val="dfe5c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9315"/>
                </a:solidFill>
                <a:latin typeface="Constantia"/>
              </a:rPr>
              <a:t>Патриарх   Ни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4"/>
          <p:cNvSpPr/>
          <p:nvPr/>
        </p:nvSpPr>
        <p:spPr>
          <a:xfrm>
            <a:off x="4740120" y="357120"/>
            <a:ext cx="3643560" cy="500040"/>
          </a:xfrm>
          <a:prstGeom prst="rect">
            <a:avLst/>
          </a:prstGeom>
          <a:solidFill>
            <a:srgbClr val="dfe5c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9315"/>
                </a:solidFill>
                <a:latin typeface="Constantia"/>
              </a:rPr>
              <a:t>Протопоп  Аввак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/>
          <p:cNvSpPr/>
          <p:nvPr/>
        </p:nvSpPr>
        <p:spPr>
          <a:xfrm>
            <a:off x="357120" y="2071800"/>
            <a:ext cx="3571920" cy="2286000"/>
          </a:xfrm>
          <a:prstGeom prst="rect">
            <a:avLst/>
          </a:prstGeom>
          <a:solidFill>
            <a:srgbClr val="dbe1d3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Constantia"/>
              </a:rPr>
              <a:t>Официальная  Православная  Церк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714920" y="2071800"/>
            <a:ext cx="3786120" cy="2357280"/>
          </a:xfrm>
          <a:prstGeom prst="rect">
            <a:avLst/>
          </a:prstGeom>
          <a:solidFill>
            <a:srgbClr val="dbe1d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36142"/>
                </a:solidFill>
                <a:uFillTx/>
                <a:latin typeface="Constantia"/>
              </a:rPr>
              <a:t>Старообрядчество</a:t>
            </a:r>
            <a:r>
              <a:rPr b="1" lang="ru-RU" sz="1800" spc="-1" strike="noStrike">
                <a:solidFill>
                  <a:srgbClr val="536142"/>
                </a:solidFill>
                <a:latin typeface="Constantia"/>
              </a:rPr>
              <a:t> (раскольники, староверы) – совокупность различного рода религиозных организаций, не признавших нововведения Никона. Идеолог – протопоп Авваку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1500120" y="214200"/>
            <a:ext cx="5500800" cy="914400"/>
          </a:xfrm>
          <a:prstGeom prst="rect">
            <a:avLst/>
          </a:prstGeom>
          <a:solidFill>
            <a:srgbClr val="dbe1d3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9315"/>
                </a:solidFill>
                <a:latin typeface="Constantia"/>
              </a:rPr>
              <a:t>Церковный  раск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6"/>
          <p:cNvSpPr/>
          <p:nvPr/>
        </p:nvSpPr>
        <p:spPr>
          <a:xfrm>
            <a:off x="2357280" y="1643040"/>
            <a:ext cx="0" cy="428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ая соединительная линия 12"/>
          <p:cNvSpPr/>
          <p:nvPr/>
        </p:nvSpPr>
        <p:spPr>
          <a:xfrm flipH="1">
            <a:off x="2356920" y="1643040"/>
            <a:ext cx="4071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ая соединительная линия 13"/>
          <p:cNvSpPr/>
          <p:nvPr/>
        </p:nvSpPr>
        <p:spPr>
          <a:xfrm>
            <a:off x="6429240" y="1643040"/>
            <a:ext cx="0" cy="428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4286160" y="1143000"/>
            <a:ext cx="0" cy="500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6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pic>
          <p:nvPicPr>
            <p:cNvPr id="307" name="Rectangle 6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400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Rectangle 4"/>
          <p:cNvSpPr/>
          <p:nvPr/>
        </p:nvSpPr>
        <p:spPr>
          <a:xfrm>
            <a:off x="0" y="1143000"/>
            <a:ext cx="9144000" cy="4786560"/>
          </a:xfrm>
          <a:prstGeom prst="rect">
            <a:avLst/>
          </a:prstGeom>
          <a:solidFill>
            <a:srgbClr val="fde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военные походы и политические переговоры -  (1654-165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1654г - воссоединение Украины и государства Русск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война с Речью Посполитой (1654-1667) - Андрусовское перемир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Война со шведами  -  1656-1661г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1635-1646гг - Строительство оборонительной линии (Белгород-Воронеж–Тамбов) –29 креп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5361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Arial"/>
              </a:rPr>
              <a:t>проведены масштабные военные реформы с приглашением иностранных специалис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357120" y="357120"/>
            <a:ext cx="8143920" cy="500040"/>
          </a:xfrm>
          <a:prstGeom prst="rect">
            <a:avLst/>
          </a:prstGeom>
          <a:solidFill>
            <a:srgbClr val="fded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6142"/>
                </a:solidFill>
                <a:latin typeface="Constantia"/>
              </a:rPr>
              <a:t>Внешняя  поли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0" y="1500120"/>
            <a:ext cx="9144000" cy="5143680"/>
          </a:xfrm>
          <a:prstGeom prst="rect">
            <a:avLst/>
          </a:prstGeom>
          <a:solidFill>
            <a:srgbClr val="c9d3b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Семен Дежне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48 г. – плавание вдоль Чукотского п-ва и открытие пролива, отделяющего Азию от Северной Амер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Василий Поярко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43-1646 г. – прошел из Якутска по рекам Лена, Алдан, вышел по Амуру в охотское море, а затем вернулся в Якутс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Ерофей Хабаро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49-1650г. – поход в Даурию, освоил земли по р. Амур и составил их карты (чертеж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36142"/>
                </a:solidFill>
                <a:latin typeface="Constantia"/>
              </a:rPr>
              <a:t>Владимир Атласов </a:t>
            </a:r>
            <a:r>
              <a:rPr b="0" lang="ru-RU" sz="2600" spc="-1" strike="noStrike">
                <a:solidFill>
                  <a:srgbClr val="536142"/>
                </a:solidFill>
                <a:latin typeface="Constantia"/>
              </a:rPr>
              <a:t>– 1696-1697 г. – экспедиция на Камчатку          присоединение ее к Росси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80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313" name="Прямая со стрелкой 4"/>
          <p:cNvCxnSpPr/>
          <p:nvPr/>
        </p:nvCxnSpPr>
        <p:spPr>
          <a:xfrm>
            <a:off x="2000160" y="6071760"/>
            <a:ext cx="57240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Rectangle 7"/>
          <p:cNvGrpSpPr/>
          <p:nvPr/>
        </p:nvGrpSpPr>
        <p:grpSpPr>
          <a:xfrm>
            <a:off x="0" y="5010120"/>
            <a:ext cx="9144000" cy="1847880"/>
            <a:chOff x="0" y="5010120"/>
            <a:chExt cx="9144000" cy="1847880"/>
          </a:xfrm>
        </p:grpSpPr>
        <p:pic>
          <p:nvPicPr>
            <p:cNvPr id="315" name="Rectangle 7" descr=""/>
            <p:cNvPicPr/>
            <p:nvPr/>
          </p:nvPicPr>
          <p:blipFill>
            <a:blip r:embed="rId1"/>
            <a:stretch/>
          </p:blipFill>
          <p:spPr>
            <a:xfrm>
              <a:off x="0" y="5010120"/>
              <a:ext cx="91440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0" y="5013360"/>
              <a:ext cx="9144000" cy="18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Rectangle 4"/>
          <p:cNvSpPr/>
          <p:nvPr/>
        </p:nvSpPr>
        <p:spPr>
          <a:xfrm>
            <a:off x="0" y="5000760"/>
            <a:ext cx="9144000" cy="1465560"/>
          </a:xfrm>
          <a:prstGeom prst="rect">
            <a:avLst/>
          </a:prstGeom>
          <a:solidFill>
            <a:srgbClr val="fad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6142"/>
                </a:solidFill>
                <a:latin typeface="Arial"/>
              </a:rPr>
              <a:t>Ему было всего 47 лет, из которых 30 он провёл на троне. Перед самой кончиной царь велел выпустить из тюрем всех заключённых, вернуть из ссылок всех сосланных и простить все казённые долги. Одной из причин кончины является чрезмерная полнота. Несмотря на все посты и огромное пристрастие к охоте царь даже по мнению бояр того времени считался очень ту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6" descr="1268481919_5"/>
          <p:cNvPicPr/>
          <p:nvPr/>
        </p:nvPicPr>
        <p:blipFill>
          <a:blip r:embed="rId2"/>
          <a:stretch/>
        </p:blipFill>
        <p:spPr>
          <a:xfrm>
            <a:off x="755640" y="189000"/>
            <a:ext cx="7632720" cy="4761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Rectangle 7"/>
          <p:cNvGrpSpPr/>
          <p:nvPr/>
        </p:nvGrpSpPr>
        <p:grpSpPr>
          <a:xfrm>
            <a:off x="176040" y="4797360"/>
            <a:ext cx="8791920" cy="1871640"/>
            <a:chOff x="176040" y="4797360"/>
            <a:chExt cx="8791920" cy="1871640"/>
          </a:xfrm>
        </p:grpSpPr>
        <p:pic>
          <p:nvPicPr>
            <p:cNvPr id="255" name="Rectangle 7" descr=""/>
            <p:cNvPicPr/>
            <p:nvPr/>
          </p:nvPicPr>
          <p:blipFill>
            <a:blip r:embed="rId1"/>
            <a:stretch/>
          </p:blipFill>
          <p:spPr>
            <a:xfrm>
              <a:off x="176040" y="4797360"/>
              <a:ext cx="8791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79280" y="4797360"/>
              <a:ext cx="878544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7" name="Picture 5" descr="%D0%90%D0%BB%D0%B5%D0%BA%D1%81%D0%B5%D0%B9_%D0%9C%D0%B8%D1%85%D0%B0%D0%B9%D0%BB%D0%BE%D0%B2%D0%B8%D1%87_thumb"/>
          <p:cNvPicPr/>
          <p:nvPr/>
        </p:nvPicPr>
        <p:blipFill>
          <a:blip r:embed="rId2"/>
          <a:stretch/>
        </p:blipFill>
        <p:spPr>
          <a:xfrm>
            <a:off x="2071800" y="142920"/>
            <a:ext cx="4572000" cy="45910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179280" y="4572000"/>
            <a:ext cx="8785440" cy="1923480"/>
          </a:xfrm>
          <a:prstGeom prst="rect">
            <a:avLst/>
          </a:prstGeom>
          <a:solidFill>
            <a:srgbClr val="c9d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ей Михайлович Романов родился в Москве 19 марта 1629. Отец царь Михаил Фёдорович. Мать Евдокия Стрешнева. До пяти лет он был на попечении царских «мам». Далее - его дядька боярин Морозов. В 14 лет царевича Алексея торжественно представили народу, и уже в 16 лет он начал своё правление. Царствование начал в 1645 после кончины своего батю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Rectangle 7"/>
          <p:cNvGrpSpPr/>
          <p:nvPr/>
        </p:nvGrpSpPr>
        <p:grpSpPr>
          <a:xfrm>
            <a:off x="176040" y="189000"/>
            <a:ext cx="8791920" cy="2230200"/>
            <a:chOff x="176040" y="189000"/>
            <a:chExt cx="8791920" cy="2230200"/>
          </a:xfrm>
        </p:grpSpPr>
        <p:pic>
          <p:nvPicPr>
            <p:cNvPr id="260" name="Rectangle 7" descr=""/>
            <p:cNvPicPr/>
            <p:nvPr/>
          </p:nvPicPr>
          <p:blipFill>
            <a:blip r:embed="rId1"/>
            <a:stretch/>
          </p:blipFill>
          <p:spPr>
            <a:xfrm>
              <a:off x="176040" y="189000"/>
              <a:ext cx="8791920" cy="22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9280" y="189000"/>
              <a:ext cx="878544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Rectangle 4"/>
          <p:cNvSpPr/>
          <p:nvPr/>
        </p:nvSpPr>
        <p:spPr>
          <a:xfrm>
            <a:off x="179280" y="260280"/>
            <a:ext cx="8785440" cy="2014200"/>
          </a:xfrm>
          <a:prstGeom prst="rect">
            <a:avLst/>
          </a:prstGeom>
          <a:solidFill>
            <a:srgbClr val="c9d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6142"/>
                </a:solidFill>
                <a:latin typeface="Arial"/>
              </a:rPr>
              <a:t>Алексей Михайлович прославился как «тишайший» царь в «Взбалмошный» век. Он старался быть примерным христианином как внешне, так и внутренне: соблюдал посты и обряды и отличался отзывчивостью, кротостью и смирением, хотя изредка бывал-таки гневлив. Однако, согласно исторических данным, в делах политических поначалу был безучастен. В начале царствования Алексей Михайлович был мал и власть в свои руки взял боярин Морозов («дядька», он воспитывал цар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6" descr="237d49ef0dfb"/>
          <p:cNvPicPr/>
          <p:nvPr/>
        </p:nvPicPr>
        <p:blipFill>
          <a:blip r:embed="rId2"/>
          <a:stretch/>
        </p:blipFill>
        <p:spPr>
          <a:xfrm>
            <a:off x="179280" y="2492280"/>
            <a:ext cx="8785440" cy="417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42920" y="142920"/>
            <a:ext cx="8786880" cy="59832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601"/>
              </a:spcBef>
              <a:buClr>
                <a:srgbClr val="e7bc2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ервого брака на Марье Ильиничне Милославской у царя - 13 детей, от второго брака на Нарышкиной Наталье Кирилловне у царя  -  трое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e7bc2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арь Алексей был весьма образован. Первым из царей стал подписывать документы собственноручно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e7bc2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сторики приписывают ему некоторые литературные произведения, в т. ч. «Повесть о преставлении патриарха», «Послание на Соловки», и многие другие… Умер царь Алексей Михайлович Романов 8 февраля 1676 года, так и не дожив до старости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ectangle 7"/>
          <p:cNvGrpSpPr/>
          <p:nvPr/>
        </p:nvGrpSpPr>
        <p:grpSpPr>
          <a:xfrm>
            <a:off x="176040" y="4584600"/>
            <a:ext cx="8791920" cy="2273400"/>
            <a:chOff x="176040" y="4584600"/>
            <a:chExt cx="8791920" cy="2273400"/>
          </a:xfrm>
        </p:grpSpPr>
        <p:pic>
          <p:nvPicPr>
            <p:cNvPr id="267" name="Rectangle 7" descr=""/>
            <p:cNvPicPr/>
            <p:nvPr/>
          </p:nvPicPr>
          <p:blipFill>
            <a:blip r:embed="rId1"/>
            <a:stretch/>
          </p:blipFill>
          <p:spPr>
            <a:xfrm>
              <a:off x="176040" y="4587480"/>
              <a:ext cx="879192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79280" y="4584600"/>
              <a:ext cx="878544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4"/>
          <p:cNvSpPr/>
          <p:nvPr/>
        </p:nvSpPr>
        <p:spPr>
          <a:xfrm>
            <a:off x="179280" y="4653000"/>
            <a:ext cx="8713800" cy="201420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46 ввели налог на соль, в результате чего цены на продукты резко выросли, стали непосильны населению, а у торговцев пропадал сгнивающий товар. В 1647 пошлину отменили, но, дабы пополнить казну, решили урезать жалованье служилым людям.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4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яной бун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восстания погибли родственники царя, но Морозов выжил лишь чудом. Царь был вынужден идти на уступки и отменить взимание недоимок в казну, а также по настоянию дворян и торговцев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4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у утверди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ное у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1260614613_ist25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4662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Rectangle 7"/>
          <p:cNvGrpSpPr/>
          <p:nvPr/>
        </p:nvGrpSpPr>
        <p:grpSpPr>
          <a:xfrm>
            <a:off x="5651640" y="189000"/>
            <a:ext cx="3316320" cy="6480000"/>
            <a:chOff x="5651640" y="189000"/>
            <a:chExt cx="3316320" cy="6480000"/>
          </a:xfrm>
        </p:grpSpPr>
        <p:pic>
          <p:nvPicPr>
            <p:cNvPr id="272" name="Rectangle 7" descr=""/>
            <p:cNvPicPr/>
            <p:nvPr/>
          </p:nvPicPr>
          <p:blipFill>
            <a:blip r:embed="rId1"/>
            <a:stretch/>
          </p:blipFill>
          <p:spPr>
            <a:xfrm>
              <a:off x="5651640" y="189000"/>
              <a:ext cx="331632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651640" y="189000"/>
              <a:ext cx="331308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4"/>
          <p:cNvSpPr/>
          <p:nvPr/>
        </p:nvSpPr>
        <p:spPr>
          <a:xfrm>
            <a:off x="5651640" y="333360"/>
            <a:ext cx="3276360" cy="49611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орное улож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ного прав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 второй половины 17 в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ские соборы перестали созыва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цветала приказная система управления и бюрократиза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йный приказ 16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торый позволял царю руководить всеми центральными и местными учреждения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оторговый (1667) и Таможенны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653) устав. Поддержка купечества, защита купцов от их иностранных конкурентов. В русское государство стали приглашаться иностранные специалис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" descr="J1"/>
          <p:cNvPicPr/>
          <p:nvPr/>
        </p:nvPicPr>
        <p:blipFill>
          <a:blip r:embed="rId2"/>
          <a:stretch/>
        </p:blipFill>
        <p:spPr>
          <a:xfrm>
            <a:off x="179280" y="189000"/>
            <a:ext cx="540072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Rectangle 8"/>
          <p:cNvGrpSpPr/>
          <p:nvPr/>
        </p:nvGrpSpPr>
        <p:grpSpPr>
          <a:xfrm>
            <a:off x="176040" y="189000"/>
            <a:ext cx="3816000" cy="6480000"/>
            <a:chOff x="176040" y="189000"/>
            <a:chExt cx="3816000" cy="6480000"/>
          </a:xfrm>
        </p:grpSpPr>
        <p:pic>
          <p:nvPicPr>
            <p:cNvPr id="277" name="Rectangle 8" descr=""/>
            <p:cNvPicPr/>
            <p:nvPr/>
          </p:nvPicPr>
          <p:blipFill>
            <a:blip r:embed="rId1"/>
            <a:stretch/>
          </p:blipFill>
          <p:spPr>
            <a:xfrm>
              <a:off x="176040" y="189000"/>
              <a:ext cx="381312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8920" y="189000"/>
              <a:ext cx="381312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Rectangle 4"/>
          <p:cNvSpPr/>
          <p:nvPr/>
        </p:nvSpPr>
        <p:spPr>
          <a:xfrm>
            <a:off x="179280" y="260280"/>
            <a:ext cx="3963960" cy="4848840"/>
          </a:xfrm>
          <a:prstGeom prst="rect">
            <a:avLst/>
          </a:prstGeom>
          <a:solidFill>
            <a:srgbClr val="fff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6142"/>
                </a:solidFill>
                <a:latin typeface="Arial"/>
              </a:rPr>
              <a:t>Алексей Михайлович Романов был реформатором. Он привнёс в жизнь знати нотку светской культуры. Возникла светская литература, поэзия и даже живопись. Алексей Михайлович главный </a:t>
            </a:r>
            <a:r>
              <a:rPr b="1" lang="ru-RU" sz="2400" spc="-1" strike="noStrike">
                <a:solidFill>
                  <a:srgbClr val="536142"/>
                </a:solidFill>
                <a:latin typeface="Arial"/>
              </a:rPr>
              <a:t>инициатор реформ церкви</a:t>
            </a:r>
            <a:r>
              <a:rPr b="0" lang="ru-RU" sz="2400" spc="-1" strike="noStrike">
                <a:solidFill>
                  <a:srgbClr val="536142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6142"/>
                </a:solidFill>
                <a:latin typeface="Arial"/>
              </a:rPr>
              <a:t>Народные восстания – социальный криз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400px-Salt_Riot_Nekrasov"/>
          <p:cNvPicPr/>
          <p:nvPr/>
        </p:nvPicPr>
        <p:blipFill>
          <a:blip r:embed="rId2"/>
          <a:stretch/>
        </p:blipFill>
        <p:spPr>
          <a:xfrm>
            <a:off x="4071960" y="189000"/>
            <a:ext cx="49086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142920" y="785880"/>
          <a:ext cx="8786880" cy="5857920"/>
        </p:xfrm>
        <a:graphic>
          <a:graphicData uri="http://schemas.openxmlformats.org/drawingml/2006/table">
            <a:tbl>
              <a:tblPr/>
              <a:tblGrid>
                <a:gridCol w="1714320"/>
                <a:gridCol w="1490760"/>
                <a:gridCol w="2795760"/>
                <a:gridCol w="27860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рри тор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то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48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ляной бу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Москва, Курск, Вороне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5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ный бу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Моск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66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сстание В.У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До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667-1669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сстание С.Раз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Д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68-1676 Соловецкое восстание     («Соловецкое сидение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Соловецкий монасты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122400" y="128520"/>
            <a:ext cx="7967520" cy="858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42560" y="1071720"/>
            <a:ext cx="9001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ловецкий моьнасты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92160" y="274680"/>
            <a:ext cx="883908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57120" y="928800"/>
          <a:ext cx="8643960" cy="5924520"/>
        </p:xfrm>
        <a:graphic>
          <a:graphicData uri="http://schemas.openxmlformats.org/drawingml/2006/table">
            <a:tbl>
              <a:tblPr/>
              <a:tblGrid>
                <a:gridCol w="3786120"/>
                <a:gridCol w="48578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ричины составления Соборного у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обходимость правовой регламентации процессов развития сословного и политического строя и сплочение основных сослов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требность в унификации и упорядочении судопроизводства и судоустройс-тва в масштабе ст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острение противоречий, проявившихся в городских восстан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борное уло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– кодекс российского права, регулировавший отношения в основных сферах жизни общест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 глав, 963 стат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Окончательное юридическое оформление крепостного права – наиболее тяжелой формы зависимости крестьян от землевладельцев, власть которых полностью распространялась наличность, труд и имущество крестья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отмена Юрьева д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Бессрочный сыск беглых крестья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Отмена «Урочных лет» (зависимость крестьян становится потомственно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Имущество крестьян – собственность землевладельц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Право наказывать (юридич. бесправ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614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Укрывательство - тюр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cxnSp>
        <p:nvCxnSpPr>
          <p:cNvPr id="286" name="Прямая со стрелкой 5"/>
          <p:cNvCxnSpPr/>
          <p:nvPr/>
        </p:nvCxnSpPr>
        <p:spPr>
          <a:xfrm flipH="1">
            <a:off x="4071240" y="2786040"/>
            <a:ext cx="108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7" name="Прямая со стрелкой 11"/>
          <p:cNvCxnSpPr/>
          <p:nvPr/>
        </p:nvCxnSpPr>
        <p:spPr>
          <a:xfrm flipH="1">
            <a:off x="4071240" y="2786040"/>
            <a:ext cx="1080" cy="356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8" name="Прямая со стрелкой 12"/>
          <p:cNvCxnSpPr/>
          <p:nvPr/>
        </p:nvCxnSpPr>
        <p:spPr>
          <a:xfrm flipH="1">
            <a:off x="4071240" y="4142880"/>
            <a:ext cx="1080" cy="358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9" name="Прямая со стрелкой 13"/>
          <p:cNvCxnSpPr/>
          <p:nvPr/>
        </p:nvCxnSpPr>
        <p:spPr>
          <a:xfrm flipH="1" flipV="1">
            <a:off x="4000320" y="7500240"/>
            <a:ext cx="72000" cy="359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8:55:34Z</dcterms:created>
  <dc:creator>Dragon</dc:creator>
  <dc:description/>
  <dc:language>en-US</dc:language>
  <cp:lastModifiedBy>наталья</cp:lastModifiedBy>
  <dcterms:modified xsi:type="dcterms:W3CDTF">2013-10-19T03:41:46Z</dcterms:modified>
  <cp:revision>27</cp:revision>
  <dc:subject/>
  <dc:title>Слайд 1</dc:title>
</cp:coreProperties>
</file>