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612-018A-491A-B608-8675476F6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D955-6FA0-44FE-AE9C-F8D9BF5910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4A7-B05D-4CD2-AE44-14E6C1EE47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702D-388A-4D41-8BED-A7D740DD43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CFD2-4876-431A-AFD6-774AB8EAE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022-4279-4197-B151-0C43344053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D0A-2ECF-4D2A-AB23-21BF2DA7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0E3-E7D3-49E1-B174-D4E1F90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39D-0300-418A-9DE4-6FAAD2B9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3B1-BBDE-4AEB-A43C-ABC3F092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FA6-2B68-48EA-9F15-A9B793F7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FD1-84DF-4655-AC58-892A2881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E22-0FAD-4417-BF57-4F15E8C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BCB-5389-4F78-B74C-1BDC6B1C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671-7873-4F4F-B313-CC3B3A1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73E-C924-423B-9FDC-8B18755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2D9-81AA-4597-AB71-0DD4879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123-B9DA-4C62-B5C3-22F151C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B0EE-4A82-47A3-BF1E-5406FD85B3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bmas.ru/anim/11/5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28760" y="4357800"/>
            <a:ext cx="87152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Автор-разработчи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Дмитриева Еле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 Narrow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000680" y="178596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Педагогический про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3071880" y="2428920"/>
            <a:ext cx="5857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азноцветный мир"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Прямоугольник 12"/>
          <p:cNvSpPr/>
          <p:nvPr/>
        </p:nvSpPr>
        <p:spPr>
          <a:xfrm>
            <a:off x="357120" y="14292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cc"/>
                </a:solidFill>
                <a:latin typeface="Calibri"/>
              </a:rPr>
              <a:t>Муниципальное бюджетное дошкольное образовательное учрежд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cc"/>
                </a:solidFill>
                <a:latin typeface="Calibri"/>
              </a:rPr>
              <a:t>центр развития ребенка - детский сад «Соловушка» , п.г.т. Белый Я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Рисунок 6" descr="C:\Documents and Settings\Светланa\Рабочий стол\IMG_9273.JPG"/>
          <p:cNvPicPr/>
          <p:nvPr/>
        </p:nvPicPr>
        <p:blipFill>
          <a:blip r:embed="rId1"/>
          <a:stretch/>
        </p:blipFill>
        <p:spPr>
          <a:xfrm>
            <a:off x="341280" y="1407960"/>
            <a:ext cx="2322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143000" y="1143000"/>
            <a:ext cx="69120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Спасиб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ип проекта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– образовательный, творческий.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одержанию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– детское творчество.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оставу участников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– детско - взрослый.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 проекта: 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ктико-ориентированный (прикладной).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контактов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проект представляет собой 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утренний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проект, организуется в пределах образовательного пространства ДОУ.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продолжительности проведения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он является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лгосрочным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срок его реализации составляет 3 года.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760" y="1428480"/>
            <a:ext cx="85024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роблема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живание детей в непростых сезонно-климатических условиях районов приближенных к условиям Крайнего Севера в значительной степени ограничивает и обедняет интеллектуально-познавательные, социальные и художественно-эстетические впечатления ребенка. У детей  наблюдается нарушение развития ручной моторики, незначительно проявляется творческая активность. 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4200" y="3429000"/>
            <a:ext cx="8715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иворечие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одной стороны - недостаточная компетентность педагогов в вопросах развития детского творчества, стереотипность в изображении предметов, явлений окружающего мира и необходимость личностного развития каждого ребёнка, создание  ситуации успешности детей в изобразительной деятельности  и  с другой  стороны - отсутствие комплексности в программах,  технологиях применительно к ДОУ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 проекта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, что продуктивная деятельность с использованием нетрадиционных изобразительных техник является наиболее благоприятной для развития художественного творчества детей, в процессе которой  формируются такие качества, как самостоятельность, инициативность, творческая актив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потеза образовательного проект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езультате целенаправленной и системной работы педагога,  улучшаться качественные характеристики процесса изображения и сами графические образы, а также повыситься уровень развития художественного  творчества воспитанников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55680" y="4000680"/>
            <a:ext cx="878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зна педагогического опы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ставляемый педагогический опыт предлагает усовершенствование и комбинацию элементов известных педагогических методик и заключается в использовании разнообразных современных форм работы с деть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опыты и эксперименты с красками, бумагой, пластилин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моделирование в лепке и апплик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здание совместных художественно-творческих проек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родителями воспитан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1" descr="E:\изо\Оформление\kraski.gif"/>
          <p:cNvPicPr/>
          <p:nvPr/>
        </p:nvPicPr>
        <p:blipFill>
          <a:blip r:embed="rId1"/>
          <a:stretch/>
        </p:blipFill>
        <p:spPr>
          <a:xfrm rot="20908200">
            <a:off x="7464240" y="5726160"/>
            <a:ext cx="16142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9298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проекта: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итие художественного творчества  детей среднего и старшего дошкольного возраста в продуктивных видах деятельности.</a:t>
            </a:r>
            <a:br>
              <a:rPr sz="2200"/>
            </a:br>
            <a:br>
              <a:rPr sz="29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288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учить теоретическую, психолого -  педагогическую и методическую литературу по теме проектной деятельности;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работать перспективное тематическое планирование образовательной деятельности с детьми среднего и старшего дошкольного возраста  по развитию художественного творче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ределить эффективность работы по развитию творческого потенциала дошкольников с помощью педагогической диагностики;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здать условия для развития художественно-творческого взаимодействия педагогов, детей и родителей через продуктивную деятельность.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9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589720"/>
            <a:ext cx="21240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апы проектной 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 этап – 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нформационно-аналитическое                          обеспечение проекта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I этап –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 методическое обеспечение проек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II этап –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 практический: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абота с детьм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абота с  родителям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абота с педагогам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V этап – </a:t>
            </a:r>
            <a:r>
              <a:rPr b="1" i="1" lang="ru-RU" sz="2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дготовка к презентации и презентация проек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ir95"/>
          <p:cNvPicPr/>
          <p:nvPr/>
        </p:nvPicPr>
        <p:blipFill>
          <a:blip r:embed="rId1"/>
          <a:stretch/>
        </p:blipFill>
        <p:spPr>
          <a:xfrm>
            <a:off x="7740720" y="620640"/>
            <a:ext cx="523800" cy="1714680"/>
          </a:xfrm>
          <a:prstGeom prst="rect">
            <a:avLst/>
          </a:prstGeom>
          <a:ln w="0">
            <a:noFill/>
          </a:ln>
        </p:spPr>
      </p:pic>
      <p:grpSp>
        <p:nvGrpSpPr>
          <p:cNvPr id="66" name="Organization Chart 7"/>
          <p:cNvGrpSpPr/>
          <p:nvPr/>
        </p:nvGrpSpPr>
        <p:grpSpPr>
          <a:xfrm>
            <a:off x="134280" y="150120"/>
            <a:ext cx="8626320" cy="6314040"/>
            <a:chOff x="134280" y="150120"/>
            <a:chExt cx="8626320" cy="6314040"/>
          </a:xfrm>
        </p:grpSpPr>
        <p:cxnSp>
          <p:nvCxnSpPr>
            <p:cNvPr id="67" name="_s67598"/>
            <p:cNvCxnSpPr>
              <a:stCxn id="68" idx="0"/>
              <a:endCxn id="69" idx="2"/>
            </p:cNvCxnSpPr>
            <p:nvPr/>
          </p:nvCxnSpPr>
          <p:spPr>
            <a:xfrm flipV="1" rot="16200000">
              <a:off x="5319000" y="2435400"/>
              <a:ext cx="1406880" cy="3002040"/>
            </a:xfrm>
            <a:prstGeom prst="bentConnector3">
              <a:avLst>
                <a:gd name="adj1" fmla="val 4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67597"/>
            <p:cNvCxnSpPr>
              <a:stCxn id="71" idx="0"/>
              <a:endCxn id="69" idx="2"/>
            </p:cNvCxnSpPr>
            <p:nvPr/>
          </p:nvCxnSpPr>
          <p:spPr>
            <a:xfrm flipV="1">
              <a:off x="4518360" y="3241080"/>
              <a:ext cx="3240" cy="18349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67596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2198880" y="2396160"/>
              <a:ext cx="1477440" cy="3167640"/>
            </a:xfrm>
            <a:prstGeom prst="bentConnector3">
              <a:avLst>
                <a:gd name="adj1" fmla="val 4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9" name="_s67592"/>
            <p:cNvSpPr/>
            <p:nvPr/>
          </p:nvSpPr>
          <p:spPr>
            <a:xfrm>
              <a:off x="3285000" y="1641600"/>
              <a:ext cx="2473920" cy="159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Участники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оект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_s67593"/>
            <p:cNvSpPr/>
            <p:nvPr/>
          </p:nvSpPr>
          <p:spPr>
            <a:xfrm>
              <a:off x="212760" y="4710600"/>
              <a:ext cx="2285280" cy="1031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Родители</a:t>
              </a:r>
              <a:r>
                <a:rPr b="0" lang="ru-RU" sz="2400" spc="-1" strike="noStrike">
                  <a:solidFill>
                    <a:srgbClr val="1f497d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67594"/>
            <p:cNvSpPr/>
            <p:nvPr/>
          </p:nvSpPr>
          <p:spPr>
            <a:xfrm>
              <a:off x="3285000" y="5065920"/>
              <a:ext cx="2473920" cy="13982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Дети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4 – 7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лет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67595"/>
            <p:cNvSpPr/>
            <p:nvPr/>
          </p:nvSpPr>
          <p:spPr>
            <a:xfrm>
              <a:off x="6286680" y="4640040"/>
              <a:ext cx="2473920" cy="1031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едагоги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Picture 17"/>
            <p:cNvSpPr/>
            <p:nvPr/>
          </p:nvSpPr>
          <p:spPr>
            <a:xfrm rot="20953200">
              <a:off x="438480" y="360000"/>
              <a:ext cx="257724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75" name="Picture 20" descr="E:\изо\фото рисование\нетрадиционное рисование 29.03.12\P3290098.JPG"/>
          <p:cNvPicPr/>
          <p:nvPr/>
        </p:nvPicPr>
        <p:blipFill>
          <a:blip r:embed="rId2"/>
          <a:stretch/>
        </p:blipFill>
        <p:spPr>
          <a:xfrm>
            <a:off x="30240" y="963720"/>
            <a:ext cx="3170160" cy="27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E:\изо\фото рисование\100_1349.JPG"/>
          <p:cNvPicPr/>
          <p:nvPr/>
        </p:nvPicPr>
        <p:blipFill>
          <a:blip r:embed="rId3"/>
          <a:stretch/>
        </p:blipFill>
        <p:spPr>
          <a:xfrm>
            <a:off x="5846760" y="920880"/>
            <a:ext cx="3260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Формы работы с детьми</a:t>
            </a:r>
            <a:r>
              <a:rPr b="0" i="1" lang="ru-RU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840" y="49968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агностика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разовательная деятельность в режимные моменты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ериментирование с художественными материалами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дактические игры,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альчиковые игры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лечения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курсии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шание музыки, сказок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ение художественной литературы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8" descr="E:\изо\фото рисование\ноябрь 003.jpg"/>
          <p:cNvPicPr/>
          <p:nvPr/>
        </p:nvPicPr>
        <p:blipFill>
          <a:blip r:embed="rId1"/>
          <a:stretch/>
        </p:blipFill>
        <p:spPr>
          <a:xfrm>
            <a:off x="7040520" y="109440"/>
            <a:ext cx="1859040" cy="233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428760" y="2928960"/>
            <a:ext cx="3500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Формы работы с родителями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285840" y="378612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Анкетирова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Занятие в кружке «Ловкие пальчик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Художественно-творческие проек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Мастер-клас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Консуль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Памятки, букле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оздание мини-музе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Тематические альбомы из опы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емейного восп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Заголовок 5"/>
          <p:cNvSpPr/>
          <p:nvPr/>
        </p:nvSpPr>
        <p:spPr>
          <a:xfrm>
            <a:off x="4357800" y="2928960"/>
            <a:ext cx="4357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работы с педагог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4357800" y="371484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общения на педагогических советах Д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рытые заня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ентация опыта рабо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стер-классы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ультимедийные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суль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рческие смотры-конкур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нкетирова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удожественно-творческие проек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ы реализаци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ля педагога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Calibri"/>
              </a:rPr>
              <a:t>*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ышение уровня педагогической компетентности; профессиональный рост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удовлетворенность работой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 повышение качества работы с детьми по развитию художественного творчества через различные виды продуктивной деятель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ля детей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развитие детского творчества в продуктивной  деятельност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совершенствование ручной моторики, устойчивых технических навыков в рисовании, аппликации, лепке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способность осуществлять практическое моделирование и экспериментирование с изобразительными материалам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способность к эстетической оценке своих работ и работ других детей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обогащение эмоциональной сферы; формирование ярких положительных эмоций у детей в процессе их творческого взаимодействия и художественно-деятельного общения со сверстниками и  взрослым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ля родителей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осознанное отношение к художественно-творческому процессу детей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бережное отношение к продуктам детского творчеств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партнерские отношения родителей и педагогов в организации совместных мероприятий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4:53:10Z</dcterms:created>
  <dc:creator>Светланa</dc:creator>
  <dc:description/>
  <dc:language>en-US</dc:language>
  <cp:lastModifiedBy>Admin</cp:lastModifiedBy>
  <dcterms:modified xsi:type="dcterms:W3CDTF">2013-10-21T18:33:40Z</dcterms:modified>
  <cp:revision>113</cp:revision>
  <dc:subject/>
  <dc:title>Слайд 1</dc:title>
</cp:coreProperties>
</file>