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5D54-614D-4AD3-B32E-4944D22E0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F6B2-2FCD-48EE-BEB1-23B9ED0AD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1F00-0FD7-44C8-B278-1A1870ADA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E6B-B9A5-4CFE-8069-3A9C5AD1F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2EFF-183B-4FC0-B941-FAD17F5A7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270-4F61-4F86-B42B-294056D91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21F-F655-4BDE-BF25-F8A6DF93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12C-0B4C-4BA6-9E5C-656E3569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222-AA63-47FC-B3E9-A1FA8F51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5BB-C15A-4732-ABD8-83DB597C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190-A719-4588-A63D-289D932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E41-9FC2-45AC-88D3-0BD171C8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7B8-BF8B-4E7B-AAC2-B41B8A31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40F-C332-4BA5-BA5A-DF64AE1A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CEE-C378-4A4B-B473-EBC8170D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665-792A-4A8F-A6A6-4EEE426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285-C7DC-41F1-8E5A-871EF3A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D36-7615-489F-B235-C3312FB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AE97-98DE-4787-9402-A0383C4E6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18250l"/>
          <p:cNvPicPr/>
          <p:nvPr/>
        </p:nvPicPr>
        <p:blipFill>
          <a:blip r:embed="rId1"/>
          <a:stretch/>
        </p:blipFill>
        <p:spPr>
          <a:xfrm>
            <a:off x="5381640" y="1773360"/>
            <a:ext cx="3762360" cy="465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19617888_Aleksandr_Klipov_Horovod_1978"/>
          <p:cNvPicPr/>
          <p:nvPr/>
        </p:nvPicPr>
        <p:blipFill>
          <a:blip r:embed="rId2"/>
          <a:stretch/>
        </p:blipFill>
        <p:spPr>
          <a:xfrm>
            <a:off x="9360" y="1484280"/>
            <a:ext cx="5364360" cy="537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3"/>
          <a:stretch/>
        </p:blipFill>
        <p:spPr>
          <a:xfrm>
            <a:off x="1800360" y="517680"/>
            <a:ext cx="5743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al_s2_big_en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7"/>
          <p:cNvPicPr/>
          <p:nvPr/>
        </p:nvPicPr>
        <p:blipFill>
          <a:blip r:embed="rId2"/>
          <a:stretch/>
        </p:blipFill>
        <p:spPr>
          <a:xfrm>
            <a:off x="0" y="0"/>
            <a:ext cx="5168880" cy="3111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_7f288_bca22d23_XL"/>
          <p:cNvPicPr/>
          <p:nvPr/>
        </p:nvPicPr>
        <p:blipFill>
          <a:blip r:embed="rId3"/>
          <a:stretch/>
        </p:blipFill>
        <p:spPr>
          <a:xfrm>
            <a:off x="5397480" y="981000"/>
            <a:ext cx="3746520" cy="3314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324000" y="4653000"/>
            <a:ext cx="2160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ал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0040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алайки, дом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useum andreeva 06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_2a841_d9f8dabc_XL"/>
          <p:cNvPicPr/>
          <p:nvPr/>
        </p:nvPicPr>
        <p:blipFill>
          <a:blip r:embed="rId1"/>
          <a:stretch/>
        </p:blipFill>
        <p:spPr>
          <a:xfrm>
            <a:off x="0" y="0"/>
            <a:ext cx="10515600" cy="934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5_99e6c951e2b8"/>
          <p:cNvPicPr/>
          <p:nvPr/>
        </p:nvPicPr>
        <p:blipFill>
          <a:blip r:embed="rId2"/>
          <a:stretch/>
        </p:blipFill>
        <p:spPr>
          <a:xfrm>
            <a:off x="250920" y="4046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250920" y="6400800"/>
            <a:ext cx="26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5_99e6c951e2b8"/>
          <p:cNvPicPr/>
          <p:nvPr/>
        </p:nvPicPr>
        <p:blipFill>
          <a:blip r:embed="rId3"/>
          <a:stretch/>
        </p:blipFill>
        <p:spPr>
          <a:xfrm>
            <a:off x="250920" y="4046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gusli2"/>
          <p:cNvPicPr/>
          <p:nvPr/>
        </p:nvPicPr>
        <p:blipFill>
          <a:blip r:embed="rId1"/>
          <a:stretch/>
        </p:blipFill>
        <p:spPr>
          <a:xfrm>
            <a:off x="0" y="0"/>
            <a:ext cx="8229600" cy="443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usli_2_big_enl"/>
          <p:cNvPicPr/>
          <p:nvPr/>
        </p:nvPicPr>
        <p:blipFill>
          <a:blip r:embed="rId2"/>
          <a:stretch/>
        </p:blipFill>
        <p:spPr>
          <a:xfrm>
            <a:off x="2771640" y="2968560"/>
            <a:ext cx="6193080" cy="3889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79280" y="4653000"/>
            <a:ext cx="2521080" cy="14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Accordeon_100"/>
          <p:cNvPicPr/>
          <p:nvPr/>
        </p:nvPicPr>
        <p:blipFill>
          <a:blip r:embed="rId1"/>
          <a:stretch/>
        </p:blipFill>
        <p:spPr>
          <a:xfrm>
            <a:off x="0" y="0"/>
            <a:ext cx="10260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6300720" y="0"/>
            <a:ext cx="306720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324000" y="5734080"/>
            <a:ext cx="2160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я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433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rcRect l="0" t="8512" r="0" b="18936"/>
          <a:stretch/>
        </p:blipFill>
        <p:spPr>
          <a:xfrm>
            <a:off x="4211640" y="0"/>
            <a:ext cx="4932360" cy="330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rcRect l="0" t="12102" r="0" b="21400"/>
          <a:stretch/>
        </p:blipFill>
        <p:spPr>
          <a:xfrm>
            <a:off x="2771640" y="3500280"/>
            <a:ext cx="4762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2997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250920" y="5516640"/>
            <a:ext cx="221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1714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8:23:19Z</dcterms:created>
  <dc:creator>Пользователь</dc:creator>
  <dc:description/>
  <dc:language>en-US</dc:language>
  <cp:lastModifiedBy>Пользователь</cp:lastModifiedBy>
  <dcterms:modified xsi:type="dcterms:W3CDTF">2012-12-11T05:52:07Z</dcterms:modified>
  <cp:revision>6</cp:revision>
  <dc:subject/>
  <dc:title>Слайд 1</dc:title>
</cp:coreProperties>
</file>