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C2C-736C-4D82-9F0A-43AFBDFE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EF4-FDE5-493A-8007-C3D582CE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EDE-7063-44F9-9020-9921856A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DA6-F028-4581-9B39-86261D92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8BFB-006A-4530-8AAC-FE906CE8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5134-FBFF-4311-8CFE-F4488F6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C0FB-C267-4A9B-BEB4-133542D8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67A6-CABD-4ED0-AA20-9E63B6A3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66C4-A731-464D-91E1-CA86F93A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4319-4264-41A6-8106-A1751216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5D4F-44F6-4086-B05E-A5BAD1DF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38B-95E8-49D7-B41B-2688BB16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906D-723F-426A-B5DB-EEC1538B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0D34-5D44-4823-B0E6-76B60E15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9F75-F737-4DD6-95B4-C345E1DC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BAAA-F7DD-4455-B950-4BE76AFE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FD67-5570-476D-A308-F43B7BB2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236-539B-44AF-9FB6-488D2100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CA4-7BD4-4123-A745-6515075D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FB8-2E66-47A3-956C-4AE448AD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447-54FC-454E-B6D7-27C090B1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894-3D44-4116-8B00-3C1DB3B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227-DFC7-49A4-AA97-D9BBF71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30D-C5B6-4976-8741-3656DAF8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D5DE-0CC7-40B1-966C-F9BB9063EF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9FDE-0360-4A07-A9BA-6B2C51C9CA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1116000" y="333360"/>
            <a:ext cx="6912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ш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лгебраических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 помощью скаляр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изведения вект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4643280" y="5084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ишкина Елена Павловна,    учитель математики МБОУ г.Мурманска гимназии №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3"/>
          <p:cNvGrpSpPr/>
          <p:nvPr/>
        </p:nvGrpSpPr>
        <p:grpSpPr>
          <a:xfrm>
            <a:off x="250920" y="533520"/>
            <a:ext cx="8893080" cy="5396760"/>
            <a:chOff x="250920" y="533520"/>
            <a:chExt cx="8893080" cy="5396760"/>
          </a:xfrm>
        </p:grpSpPr>
        <p:sp>
          <p:nvSpPr>
            <p:cNvPr id="215" name="WordArt 4"/>
            <p:cNvSpPr txBox="1"/>
            <p:nvPr/>
          </p:nvSpPr>
          <p:spPr>
            <a:xfrm>
              <a:off x="1676520" y="533520"/>
              <a:ext cx="60958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Задание 5: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250920" y="1905120"/>
              <a:ext cx="8893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cc66"/>
                  </a:solidFill>
                  <a:latin typeface="Times New Roman"/>
                </a:rPr>
                <a:t>Найти такое значение х,             при котором функция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6"/>
                <p:cNvSpPr txBox="1"/>
                <p:nvPr/>
              </p:nvSpPr>
              <p:spPr>
                <a:xfrm>
                  <a:off x="1219320" y="3429000"/>
                  <a:ext cx="701028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Text Box 7"/>
            <p:cNvSpPr/>
            <p:nvPr/>
          </p:nvSpPr>
          <p:spPr>
            <a:xfrm>
              <a:off x="1143000" y="4495680"/>
              <a:ext cx="648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cc66"/>
                  </a:solidFill>
                  <a:latin typeface="Times New Roman"/>
                </a:rPr>
                <a:t>принимает наибольшее значение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1522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Решение: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(y)=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1066680" y="838080"/>
                <a:ext cx="7239240" cy="302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1" name="Group 8"/>
          <p:cNvGrpSpPr/>
          <p:nvPr/>
        </p:nvGrpSpPr>
        <p:grpSpPr>
          <a:xfrm>
            <a:off x="0" y="3733920"/>
            <a:ext cx="8915400" cy="1566720"/>
            <a:chOff x="0" y="3733920"/>
            <a:chExt cx="8915400" cy="1566720"/>
          </a:xfrm>
        </p:grpSpPr>
        <p:sp>
          <p:nvSpPr>
            <p:cNvPr id="222" name="Text Box 4"/>
            <p:cNvSpPr/>
            <p:nvPr/>
          </p:nvSpPr>
          <p:spPr>
            <a:xfrm>
              <a:off x="0" y="373392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cc66"/>
                  </a:solidFill>
                  <a:latin typeface="Times New Roman"/>
                </a:rPr>
                <a:t>Так как</a:t>
              </a: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5"/>
                <p:cNvSpPr txBox="1"/>
                <p:nvPr/>
              </p:nvSpPr>
              <p:spPr>
                <a:xfrm>
                  <a:off x="1905120" y="3733920"/>
                  <a:ext cx="7010280" cy="15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⋅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  <m:r>
                            <m:t xml:space="preserve">≤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,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rPr>
                              <m:lit/>
                              <m:nor/>
                            </m:rPr>
                            <m:t xml:space="preserve">то</m:t>
                          </m:r>
                        </m:e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457200" y="5562720"/>
                <a:ext cx="8077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9"/>
          <p:cNvGrpSpPr/>
          <p:nvPr/>
        </p:nvGrpSpPr>
        <p:grpSpPr>
          <a:xfrm>
            <a:off x="574560" y="404640"/>
            <a:ext cx="8569440" cy="5262840"/>
            <a:chOff x="574560" y="404640"/>
            <a:chExt cx="8569440" cy="5262840"/>
          </a:xfrm>
        </p:grpSpPr>
        <p:sp>
          <p:nvSpPr>
            <p:cNvPr id="159" name="WordArt 4"/>
            <p:cNvSpPr txBox="1"/>
            <p:nvPr/>
          </p:nvSpPr>
          <p:spPr>
            <a:xfrm>
              <a:off x="1979640" y="404640"/>
              <a:ext cx="511344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ние 2: 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1042920" y="1989000"/>
              <a:ext cx="727416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cc66"/>
                  </a:solidFill>
                  <a:latin typeface="Times New Roman"/>
                </a:rPr>
                <a:t>Доказать, что при любых </a:t>
              </a:r>
              <a:r>
                <a:rPr b="1" lang="en-US" sz="4800" spc="-1" strike="noStrike">
                  <a:solidFill>
                    <a:srgbClr val="ffcc66"/>
                  </a:solidFill>
                  <a:latin typeface="Times New Roman"/>
                </a:rPr>
                <a:t>x, y, z</a:t>
              </a:r>
              <a:r>
                <a:rPr b="1" lang="ru-RU" sz="4800" spc="-1" strike="noStrike">
                  <a:solidFill>
                    <a:srgbClr val="ffcc66"/>
                  </a:solidFill>
                  <a:latin typeface="Times New Roman"/>
                </a:rPr>
                <a:t>   справедливо неравенство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6"/>
                <p:cNvSpPr txBox="1"/>
                <p:nvPr/>
              </p:nvSpPr>
              <p:spPr>
                <a:xfrm>
                  <a:off x="574560" y="4822920"/>
                  <a:ext cx="85694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yz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z</m:t>
                          </m:r>
                        </m:e>
                      </m:d>
                      <m:r>
                        <m:t xml:space="preserve">≤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1692360" y="260280"/>
            <a:ext cx="590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: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179280" y="1052640"/>
            <a:ext cx="8263080" cy="649080"/>
            <a:chOff x="179280" y="1052640"/>
            <a:chExt cx="8263080" cy="649080"/>
          </a:xfrm>
        </p:grpSpPr>
        <p:sp>
          <p:nvSpPr>
            <p:cNvPr id="164" name="Text Box 5"/>
            <p:cNvSpPr/>
            <p:nvPr/>
          </p:nvSpPr>
          <p:spPr>
            <a:xfrm>
              <a:off x="179280" y="1052640"/>
              <a:ext cx="352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66"/>
                  </a:solidFill>
                  <a:latin typeface="Times New Roman"/>
                </a:rPr>
                <a:t>Введем векторы: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Object 6"/>
                <p:cNvSpPr txBox="1"/>
                <p:nvPr/>
              </p:nvSpPr>
              <p:spPr>
                <a:xfrm>
                  <a:off x="6372360" y="1052640"/>
                  <a:ext cx="2070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Text Box 7"/>
            <p:cNvSpPr/>
            <p:nvPr/>
          </p:nvSpPr>
          <p:spPr>
            <a:xfrm>
              <a:off x="5724360" y="105264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66"/>
                  </a:solidFill>
                  <a:latin typeface="Times New Roman"/>
                </a:rPr>
                <a:t>и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Object 8"/>
                <p:cNvSpPr txBox="1"/>
                <p:nvPr/>
              </p:nvSpPr>
              <p:spPr>
                <a:xfrm>
                  <a:off x="3564000" y="1125360"/>
                  <a:ext cx="20368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z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1042920" y="1700280"/>
                <a:ext cx="7345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yz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1968480" y="2287440"/>
                <a:ext cx="5424480" cy="304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0" name="Group 16"/>
          <p:cNvGrpSpPr/>
          <p:nvPr/>
        </p:nvGrpSpPr>
        <p:grpSpPr>
          <a:xfrm>
            <a:off x="1835280" y="5013360"/>
            <a:ext cx="4968720" cy="863640"/>
            <a:chOff x="1835280" y="5013360"/>
            <a:chExt cx="4968720" cy="863640"/>
          </a:xfrm>
        </p:grpSpPr>
        <p:sp>
          <p:nvSpPr>
            <p:cNvPr id="171" name="Text Box 11"/>
            <p:cNvSpPr/>
            <p:nvPr/>
          </p:nvSpPr>
          <p:spPr>
            <a:xfrm>
              <a:off x="1835280" y="508464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66"/>
                  </a:solidFill>
                  <a:latin typeface="Times New Roman"/>
                </a:rPr>
                <a:t>Так как,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4067280" y="5013360"/>
                  <a:ext cx="27367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≤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3" name="Group 17"/>
          <p:cNvGrpSpPr/>
          <p:nvPr/>
        </p:nvGrpSpPr>
        <p:grpSpPr>
          <a:xfrm>
            <a:off x="1908000" y="5877000"/>
            <a:ext cx="6767640" cy="701640"/>
            <a:chOff x="1908000" y="5877000"/>
            <a:chExt cx="6767640" cy="701640"/>
          </a:xfrm>
        </p:grpSpPr>
        <p:sp>
          <p:nvSpPr>
            <p:cNvPr id="174" name="Text Box 13"/>
            <p:cNvSpPr/>
            <p:nvPr/>
          </p:nvSpPr>
          <p:spPr>
            <a:xfrm>
              <a:off x="1908000" y="595008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66"/>
                  </a:solidFill>
                  <a:latin typeface="Times New Roman"/>
                </a:rPr>
                <a:t>то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4"/>
                <p:cNvSpPr txBox="1"/>
                <p:nvPr/>
              </p:nvSpPr>
              <p:spPr>
                <a:xfrm>
                  <a:off x="2627280" y="5877000"/>
                  <a:ext cx="60483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yz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z</m:t>
                          </m:r>
                        </m:e>
                      </m:d>
                      <m:r>
                        <m:t xml:space="preserve">≤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9"/>
          <p:cNvGrpSpPr/>
          <p:nvPr/>
        </p:nvGrpSpPr>
        <p:grpSpPr>
          <a:xfrm>
            <a:off x="395280" y="836640"/>
            <a:ext cx="8497800" cy="4785840"/>
            <a:chOff x="395280" y="836640"/>
            <a:chExt cx="8497800" cy="4785840"/>
          </a:xfrm>
        </p:grpSpPr>
        <p:sp>
          <p:nvSpPr>
            <p:cNvPr id="177" name="WordArt 4"/>
            <p:cNvSpPr txBox="1"/>
            <p:nvPr/>
          </p:nvSpPr>
          <p:spPr>
            <a:xfrm>
              <a:off x="1187280" y="836640"/>
              <a:ext cx="6769440" cy="23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ние 3: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ешите уравнение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Object 5"/>
                <p:cNvSpPr txBox="1"/>
                <p:nvPr/>
              </p:nvSpPr>
              <p:spPr>
                <a:xfrm>
                  <a:off x="395280" y="3645000"/>
                  <a:ext cx="84978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Text Box 6"/>
            <p:cNvSpPr/>
            <p:nvPr/>
          </p:nvSpPr>
          <p:spPr>
            <a:xfrm>
              <a:off x="2124000" y="4797360"/>
              <a:ext cx="151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cc66"/>
                  </a:solidFill>
                  <a:latin typeface="Times New Roman"/>
                </a:rPr>
                <a:t>если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8"/>
                <p:cNvSpPr txBox="1"/>
                <p:nvPr/>
              </p:nvSpPr>
              <p:spPr>
                <a:xfrm>
                  <a:off x="3924360" y="4869000"/>
                  <a:ext cx="21589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1"/>
          <p:cNvGrpSpPr/>
          <p:nvPr/>
        </p:nvGrpSpPr>
        <p:grpSpPr>
          <a:xfrm>
            <a:off x="684360" y="260280"/>
            <a:ext cx="7848360" cy="1739880"/>
            <a:chOff x="684360" y="260280"/>
            <a:chExt cx="7848360" cy="1739880"/>
          </a:xfrm>
        </p:grpSpPr>
        <p:sp>
          <p:nvSpPr>
            <p:cNvPr id="182" name="WordArt 4"/>
            <p:cNvSpPr txBox="1"/>
            <p:nvPr/>
          </p:nvSpPr>
          <p:spPr>
            <a:xfrm>
              <a:off x="1692360" y="260280"/>
              <a:ext cx="5904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РЕШЕНИЕ: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5"/>
                <p:cNvSpPr txBox="1"/>
                <p:nvPr/>
              </p:nvSpPr>
              <p:spPr>
                <a:xfrm>
                  <a:off x="684360" y="1052640"/>
                  <a:ext cx="7848360" cy="94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x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;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rad>
                          <m:r>
                            <m:t xml:space="preserve">;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x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900000" y="2060640"/>
                <a:ext cx="741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773280" y="2971800"/>
                <a:ext cx="783576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2997360" y="4653000"/>
                <a:ext cx="2644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" name="Group 12"/>
          <p:cNvGrpSpPr/>
          <p:nvPr/>
        </p:nvGrpSpPr>
        <p:grpSpPr>
          <a:xfrm>
            <a:off x="1523880" y="5486400"/>
            <a:ext cx="5105160" cy="993600"/>
            <a:chOff x="1523880" y="5486400"/>
            <a:chExt cx="5105160" cy="993600"/>
          </a:xfrm>
        </p:grpSpPr>
        <p:sp>
          <p:nvSpPr>
            <p:cNvPr id="188" name="Text Box 9"/>
            <p:cNvSpPr/>
            <p:nvPr/>
          </p:nvSpPr>
          <p:spPr>
            <a:xfrm>
              <a:off x="1523880" y="5703840"/>
              <a:ext cx="212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cc66"/>
                  </a:solidFill>
                  <a:latin typeface="Times New Roman"/>
                </a:rPr>
                <a:t>значит,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Object 10"/>
                <p:cNvSpPr txBox="1"/>
                <p:nvPr/>
              </p:nvSpPr>
              <p:spPr>
                <a:xfrm>
                  <a:off x="4076280" y="5486400"/>
                  <a:ext cx="255276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042920" y="163440"/>
                <a:ext cx="748980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sin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1116000" y="2781360"/>
                <a:ext cx="5689440" cy="35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Ζ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m>
                          <m:mr>
                            <m:e/>
                            <m:e/>
                          </m:mr>
                        </m: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6"/>
          <p:cNvGrpSpPr/>
          <p:nvPr/>
        </p:nvGrpSpPr>
        <p:grpSpPr>
          <a:xfrm>
            <a:off x="395280" y="907920"/>
            <a:ext cx="8424720" cy="4897440"/>
            <a:chOff x="395280" y="907920"/>
            <a:chExt cx="8424720" cy="4897440"/>
          </a:xfrm>
        </p:grpSpPr>
        <p:sp>
          <p:nvSpPr>
            <p:cNvPr id="193" name="WordArt 4"/>
            <p:cNvSpPr txBox="1"/>
            <p:nvPr/>
          </p:nvSpPr>
          <p:spPr>
            <a:xfrm>
              <a:off x="395280" y="907920"/>
              <a:ext cx="842472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ние 4: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ешите систему уравнений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5"/>
                <p:cNvSpPr txBox="1"/>
                <p:nvPr/>
              </p:nvSpPr>
              <p:spPr>
                <a:xfrm>
                  <a:off x="611280" y="3357720"/>
                  <a:ext cx="7848360" cy="24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rad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0"/>
          <p:cNvGrpSpPr/>
          <p:nvPr/>
        </p:nvGrpSpPr>
        <p:grpSpPr>
          <a:xfrm>
            <a:off x="179280" y="260280"/>
            <a:ext cx="8964720" cy="6193080"/>
            <a:chOff x="179280" y="260280"/>
            <a:chExt cx="8964720" cy="6193080"/>
          </a:xfrm>
        </p:grpSpPr>
        <p:sp>
          <p:nvSpPr>
            <p:cNvPr id="196" name="WordArt 4"/>
            <p:cNvSpPr txBox="1"/>
            <p:nvPr/>
          </p:nvSpPr>
          <p:spPr>
            <a:xfrm>
              <a:off x="1692360" y="260280"/>
              <a:ext cx="5904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РЕШЕНИЕ: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7" name="Text Box 5"/>
            <p:cNvSpPr/>
            <p:nvPr/>
          </p:nvSpPr>
          <p:spPr>
            <a:xfrm>
              <a:off x="250920" y="105264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66"/>
                  </a:solidFill>
                  <a:latin typeface="Times New Roman"/>
                </a:rPr>
                <a:t>Пусть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6"/>
                <p:cNvSpPr txBox="1"/>
                <p:nvPr/>
              </p:nvSpPr>
              <p:spPr>
                <a:xfrm>
                  <a:off x="1835280" y="981000"/>
                  <a:ext cx="7092720" cy="547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;</m:t>
                              </m:r>
                              <m:r>
                                <m:t xml:space="preserve">y</m:t>
                              </m:r>
                            </m:e>
                          </m:d>
                          <m:r>
                            <m:t xml:space="preserve">;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  <m:r>
                                <m:t xml:space="preserve">;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тогда</m:t>
                          </m:r>
                          <m:m>
                            <m:mr>
                              <m:e/>
                              <m:e/>
                            </m:mr>
                          </m:m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⋅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  <m:r>
                            <m:t xml:space="preserve">,</m:t>
                          </m:r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4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,</m:t>
                          </m:r>
                          <m:m>
                            <m:mr>
                              <m:e/>
                              <m:e/>
                            </m:mr>
                          </m:m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rad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⋅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,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rPr>
                              <m:lit/>
                              <m:nor/>
                            </m:rPr>
                            <m:t xml:space="preserve">то</m:t>
                          </m:r>
                          <m:m>
                            <m:mr>
                              <m:e/>
                              <m:e/>
                            </m:mr>
                          </m:m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  <m:r>
                            <m:t xml:space="preserve">,</m:t>
                          </m:r>
                        </m:e>
                        <m:e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y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Text Box 7"/>
            <p:cNvSpPr/>
            <p:nvPr/>
          </p:nvSpPr>
          <p:spPr>
            <a:xfrm>
              <a:off x="6119640" y="2492280"/>
              <a:ext cx="30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imes New Roman"/>
                </a:rPr>
                <a:t>(учитывая второе уравнение системы)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250920" y="5445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66"/>
                  </a:solidFill>
                  <a:latin typeface="Times New Roman"/>
                </a:rPr>
                <a:t>то есть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179280" y="436572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66"/>
                  </a:solidFill>
                  <a:latin typeface="Times New Roman"/>
                </a:rPr>
                <a:t>Так как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564000" y="260280"/>
                <a:ext cx="3816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y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3" name="Group 13"/>
          <p:cNvGrpSpPr/>
          <p:nvPr/>
        </p:nvGrpSpPr>
        <p:grpSpPr>
          <a:xfrm>
            <a:off x="179280" y="1125360"/>
            <a:ext cx="8066160" cy="703440"/>
            <a:chOff x="179280" y="1125360"/>
            <a:chExt cx="8066160" cy="703440"/>
          </a:xfrm>
        </p:grpSpPr>
        <p:sp>
          <p:nvSpPr>
            <p:cNvPr id="204" name="Text Box 5"/>
            <p:cNvSpPr/>
            <p:nvPr/>
          </p:nvSpPr>
          <p:spPr>
            <a:xfrm>
              <a:off x="179280" y="1125360"/>
              <a:ext cx="309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cc66"/>
                  </a:solidFill>
                  <a:latin typeface="Times New Roman"/>
                </a:rPr>
                <a:t>Рассмотрим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Object 6"/>
                <p:cNvSpPr txBox="1"/>
                <p:nvPr/>
              </p:nvSpPr>
              <p:spPr>
                <a:xfrm>
                  <a:off x="3132000" y="1125360"/>
                  <a:ext cx="5113440" cy="69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t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  <m:r>
                        <m:t xml:space="preserve">;</m:t>
                      </m:r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f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6" name="Group 14"/>
          <p:cNvGrpSpPr/>
          <p:nvPr/>
        </p:nvGrpSpPr>
        <p:grpSpPr>
          <a:xfrm>
            <a:off x="227160" y="1916280"/>
            <a:ext cx="6937200" cy="3817800"/>
            <a:chOff x="227160" y="1916280"/>
            <a:chExt cx="6937200" cy="3817800"/>
          </a:xfrm>
        </p:grpSpPr>
        <p:sp>
          <p:nvSpPr>
            <p:cNvPr id="207" name="Text Box 7"/>
            <p:cNvSpPr/>
            <p:nvPr/>
          </p:nvSpPr>
          <p:spPr>
            <a:xfrm>
              <a:off x="1908000" y="1916280"/>
              <a:ext cx="525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cc66"/>
                  </a:solidFill>
                  <a:latin typeface="Times New Roman"/>
                </a:rPr>
                <a:t>Система примет вид: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Object 8"/>
                <p:cNvSpPr txBox="1"/>
                <p:nvPr/>
              </p:nvSpPr>
              <p:spPr>
                <a:xfrm>
                  <a:off x="227160" y="2708280"/>
                  <a:ext cx="2820960" cy="302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3492360" y="2781360"/>
                <a:ext cx="2808360" cy="25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0"/>
              <p:cNvSpPr txBox="1"/>
              <p:nvPr/>
            </p:nvSpPr>
            <p:spPr>
              <a:xfrm>
                <a:off x="6804000" y="3068640"/>
                <a:ext cx="19432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1" name="Group 15"/>
          <p:cNvGrpSpPr/>
          <p:nvPr/>
        </p:nvGrpSpPr>
        <p:grpSpPr>
          <a:xfrm>
            <a:off x="2050920" y="5734080"/>
            <a:ext cx="4321440" cy="807840"/>
            <a:chOff x="2050920" y="5734080"/>
            <a:chExt cx="4321440" cy="807840"/>
          </a:xfrm>
        </p:grpSpPr>
        <p:sp>
          <p:nvSpPr>
            <p:cNvPr id="212" name="Text Box 11"/>
            <p:cNvSpPr/>
            <p:nvPr/>
          </p:nvSpPr>
          <p:spPr>
            <a:xfrm>
              <a:off x="2050920" y="5805360"/>
              <a:ext cx="22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cc66"/>
                  </a:solidFill>
                  <a:latin typeface="Times New Roman"/>
                </a:rPr>
                <a:t>Ответ: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Object 12"/>
                <p:cNvSpPr txBox="1"/>
                <p:nvPr/>
              </p:nvSpPr>
              <p:spPr>
                <a:xfrm>
                  <a:off x="4500720" y="5734080"/>
                  <a:ext cx="1871640" cy="80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;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9:09:53Z</dcterms:created>
  <dc:creator>Viktoro Urso</dc:creator>
  <dc:description/>
  <dc:language>en-US</dc:language>
  <cp:lastModifiedBy>Пользователь Windows</cp:lastModifiedBy>
  <dcterms:modified xsi:type="dcterms:W3CDTF">2013-10-21T12:49:30Z</dcterms:modified>
  <cp:revision>40</cp:revision>
  <dc:subject/>
  <dc:title>Слайд 1</dc:title>
</cp:coreProperties>
</file>