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0ED-4AFA-4E54-BFCC-EA0AA1AE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66F-9302-4AE5-BB7F-349DC340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CFE-6BE7-4310-A83B-FFFDDF67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6B5-0858-43CD-B991-6BEDBE45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AA00-A61F-4ED0-8E5F-49910D2C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D3B8-0D0A-43D5-8130-1216CF68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3BDC-BAD6-41B0-A7AE-A6100A80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6767-586D-4971-BA70-9AFCD074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4AF5-F890-44E0-A918-6D30230F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EEA7-74AB-43F6-BE7E-D729555B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C2CA-F837-49F2-8D0A-6B02D18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D7A-4A55-4A56-9D7A-293D7A91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7681-74B7-47D6-A713-6601D77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8F5B-DAE6-40BF-A0D5-F8B8E878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6671-6476-4400-9D3F-0773CECE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A06C-2956-4046-AC3A-1D0806B4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F0E-EB7C-4BCE-A616-4619F575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F4D-EF1C-4B28-9F6E-EEA7EB54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138-D0E5-417B-9734-74CF0DE8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359-F3A9-477B-A986-4C4CB01E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78D-F19E-4C20-9FD6-DC60D986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AAF-609B-4599-84E7-CF81308E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A87-810E-4146-B91C-8A00C350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83D-1629-44C2-9295-5153962D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17E0-29D0-45DD-860F-AF1BD37D2D3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527F-4A32-41F6-955F-34227B8194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&#1060;&#1072;&#1081;&#1083;:Batu.gif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42;&#1077;&#1085;&#1077;&#1094;&#1080;&#1103;" TargetMode="External"/><Relationship Id="rId3" Type="http://schemas.openxmlformats.org/officeDocument/2006/relationships/hyperlink" Target="http://ru.wikipedia.org/wiki/&#1052;&#1072;&#1088;&#1082;&#1086;_&#1055;&#1086;&#1083;&#1086;" TargetMode="External"/><Relationship Id="rId4" Type="http://schemas.openxmlformats.org/officeDocument/2006/relationships/hyperlink" Target="http://ru.wikipedia.org/wiki/&#1060;&#1072;&#1081;&#1083;:Marco_Polo_portrait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ru.wikipedia.org/wiki/&#1060;&#1072;&#1081;&#1083;:&#1055;&#1091;&#1090;&#1077;&#1096;&#1077;&#1089;&#1090;&#1074;&#1080;&#1103;_&#1052;&#1072;&#1088;&#1082;&#1086;_&#1055;&#1086;&#1083;&#1086;_(1271-1295)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8;&#1072;&#1073;&#1099;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863200" cy="2524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im2-tub.yandex.net/i?id=132250351-27-72"/>
          <p:cNvPicPr/>
          <p:nvPr/>
        </p:nvPicPr>
        <p:blipFill>
          <a:blip r:embed="rId2"/>
          <a:stretch/>
        </p:blipFill>
        <p:spPr>
          <a:xfrm>
            <a:off x="4643280" y="2421000"/>
            <a:ext cx="4351320" cy="392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http://im7-tub.yandex.net/i?id=71127430-69-72"/>
          <p:cNvPicPr/>
          <p:nvPr/>
        </p:nvPicPr>
        <p:blipFill>
          <a:blip r:embed="rId3"/>
          <a:stretch/>
        </p:blipFill>
        <p:spPr>
          <a:xfrm>
            <a:off x="1440" y="2492280"/>
            <a:ext cx="45784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-108360" y="1599840"/>
            <a:ext cx="10225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 городе действовал водопровод из керамических труб. Археолог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бнаружили следы русской колонии в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ороде Увеке.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собен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знаменитой является находка каменной печати великого княз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ихаила, на месте которой была воздвигнута православная часов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ород Увек исчез с лица земли в 1395 году в результат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шествия Тамерлана (Тиму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http://im8-tub.yandex.net/i?id=11030906-01-72"/>
          <p:cNvPicPr/>
          <p:nvPr/>
        </p:nvPicPr>
        <p:blipFill>
          <a:blip r:embed="rId1"/>
          <a:stretch/>
        </p:blipFill>
        <p:spPr>
          <a:xfrm>
            <a:off x="3348000" y="333360"/>
            <a:ext cx="2660760" cy="374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im6-tub.yandex.net/i?id=159408787-57-72"/>
          <p:cNvPicPr/>
          <p:nvPr/>
        </p:nvPicPr>
        <p:blipFill>
          <a:blip r:embed="rId2"/>
          <a:stretch/>
        </p:blipFill>
        <p:spPr>
          <a:xfrm>
            <a:off x="179280" y="404640"/>
            <a:ext cx="2797200" cy="367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im5-tub.yandex.net/i?id=383633204-59-72"/>
          <p:cNvPicPr/>
          <p:nvPr/>
        </p:nvPicPr>
        <p:blipFill>
          <a:blip r:embed="rId3"/>
          <a:stretch/>
        </p:blipFill>
        <p:spPr>
          <a:xfrm>
            <a:off x="6443640" y="404640"/>
            <a:ext cx="2449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-108360" y="1599840"/>
            <a:ext cx="10225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Но существует версия, что его разрушение началось раньш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следствие оседания почвы, размыва берегов Волгой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ползневых проце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http://oldsaratov.ru/sites/default/files/photos/847.jpg"/>
          <p:cNvPicPr/>
          <p:nvPr/>
        </p:nvPicPr>
        <p:blipFill>
          <a:blip r:embed="rId1"/>
          <a:stretch/>
        </p:blipFill>
        <p:spPr>
          <a:xfrm>
            <a:off x="250920" y="260280"/>
            <a:ext cx="87598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http://img823.imageshack.us/img823/2792/10bta.jpg"/>
          <p:cNvPicPr/>
          <p:nvPr/>
        </p:nvPicPr>
        <p:blipFill>
          <a:blip r:embed="rId1"/>
          <a:stretch/>
        </p:blipFill>
        <p:spPr>
          <a:xfrm>
            <a:off x="539640" y="333360"/>
            <a:ext cx="7704360" cy="5300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01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-108000" y="475920"/>
            <a:ext cx="9252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В 1241 году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появилось одно из крупнейших государств средневековья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известное под названием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Золотая Орда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. В ее состав входили земл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Средней Азии , Казахстана, Сибири, Поволжья, Северного Кавказа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и Северного Причерноморь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http://upload.wikimedia.org/wikipedia/commons/thumb/e/eb/Batu.gif/150px-Batu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76640"/>
            <a:ext cx="2694240" cy="4465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http://img13.nnm.ru/f/9/3/3/9/3240be75c7153606188d393f79d_prev.jpg"/>
          <p:cNvPicPr/>
          <p:nvPr/>
        </p:nvPicPr>
        <p:blipFill>
          <a:blip r:embed="rId4"/>
          <a:stretch/>
        </p:blipFill>
        <p:spPr>
          <a:xfrm>
            <a:off x="179280" y="2205000"/>
            <a:ext cx="59054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108000" y="3715920"/>
            <a:ext cx="9252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Основателем государства был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внук Чингисхана Хан-Батый, 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столицей — город Сарай-Бату. Центром Золотой орды стало Нижне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Поволжь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Золотая Орда Поволжье"/>
          <p:cNvPicPr/>
          <p:nvPr/>
        </p:nvPicPr>
        <p:blipFill>
          <a:blip r:embed="rId1"/>
          <a:stretch/>
        </p:blipFill>
        <p:spPr>
          <a:xfrm>
            <a:off x="0" y="476280"/>
            <a:ext cx="4427640" cy="36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elsso.ru/cont/images/h7.jpg"/>
          <p:cNvPicPr/>
          <p:nvPr/>
        </p:nvPicPr>
        <p:blipFill>
          <a:blip r:embed="rId2"/>
          <a:stretch/>
        </p:blipFill>
        <p:spPr>
          <a:xfrm>
            <a:off x="4356000" y="1700280"/>
            <a:ext cx="478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-324000"/>
            <a:ext cx="8242560" cy="1311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-468720" y="620280"/>
            <a:ext cx="96123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 середине 13 века на территории современного Саратова был основан город под названием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век.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Буквальный перевод названи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век- «Башня».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о оценкам современных исследователей, Увек являлся вторым по величине городом Золотой Орды. Крупным торговым и ремесленным центром. Первое упоминание об Увеке имеется в книге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веницианского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купца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Марко Поло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Портре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927520"/>
            <a:ext cx="2808360" cy="3794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upload.wikimedia.org/wikipedia/commons/thumb/4/42/%D0%9F%D1%83%D1%82%D0%B5%D1%88%D0%B5%D1%81%D1%82%D0%B2%D0%B8%D1%8F_%D0%9C%D0%B0%D1%80%D0%BA%D0%BE_%D0%9F%D0%BE%D0%BB%D0%BE_%281271-1295%29.jpg/300px-%D0%9F%D1%83%D1%82%D0%B5%D1%88%D0%B5%D1%81%D1%82%D0%B2%D0%B8%D1%8F_%D0%9C%D0%B0%D1%80%D0%BA%D0%BE_%D0%9F%D0%BE%D0%BB%D0%BE_%281271-1295%29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03640" y="3068640"/>
            <a:ext cx="57402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541800" y="115560"/>
            <a:ext cx="993780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1334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году здесь побывал </a:t>
            </a: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1"/>
              </a:rPr>
              <a:t>арабский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путешественник Ибн Баттута, который записал, что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кек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— город «средней величины, но красивой постройки, с обильными благами и сильной стужей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http://upload.wikimedia.org/wikipedia/commons/thumb/5/5a/IbnBattuta.jpg/220px-IbnBattuta.jpg"/>
          <p:cNvPicPr/>
          <p:nvPr/>
        </p:nvPicPr>
        <p:blipFill>
          <a:blip r:embed="rId2"/>
          <a:stretch/>
        </p:blipFill>
        <p:spPr>
          <a:xfrm>
            <a:off x="179280" y="2133720"/>
            <a:ext cx="2689200" cy="403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Orda01.jpg"/>
          <p:cNvPicPr/>
          <p:nvPr/>
        </p:nvPicPr>
        <p:blipFill>
          <a:blip r:embed="rId3"/>
          <a:stretch/>
        </p:blipFill>
        <p:spPr>
          <a:xfrm>
            <a:off x="6156360" y="1989000"/>
            <a:ext cx="2663640" cy="393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Orda03.jpg"/>
          <p:cNvPicPr/>
          <p:nvPr/>
        </p:nvPicPr>
        <p:blipFill>
          <a:blip r:embed="rId4"/>
          <a:stretch/>
        </p:blipFill>
        <p:spPr>
          <a:xfrm>
            <a:off x="3132000" y="2997360"/>
            <a:ext cx="27352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-181440" y="2923920"/>
            <a:ext cx="9937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Установлено, что н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Увеке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уществовал монетный двор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чеканили свою собственную монету. На одной стороне монет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имелась надпись вроде: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«Вечная слава и сопутствующая 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есть»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. На обороте указывались место чеканки — Увек — и год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ыпуска. Почти все надписи сделаны по-араб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im7-tub.yandex.net/i?id=143029-26-72"/>
          <p:cNvPicPr/>
          <p:nvPr/>
        </p:nvPicPr>
        <p:blipFill>
          <a:blip r:embed="rId1"/>
          <a:stretch/>
        </p:blipFill>
        <p:spPr>
          <a:xfrm>
            <a:off x="179280" y="26028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im2-tub.yandex.net/i?id=212103723-00-72"/>
          <p:cNvPicPr/>
          <p:nvPr/>
        </p:nvPicPr>
        <p:blipFill>
          <a:blip r:embed="rId2"/>
          <a:stretch/>
        </p:blipFill>
        <p:spPr>
          <a:xfrm>
            <a:off x="4568760" y="333360"/>
            <a:ext cx="423720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-541800" y="2491920"/>
            <a:ext cx="9937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ород был построен в форме треугольника и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имел квартально-усадебную планировку. В центральном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районе Увека находились дворцы вельмож, мечети, медресе (мусульманские учебные заведения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http://uvek.sgu.ru/library/map/plan.jpg"/>
          <p:cNvPicPr/>
          <p:nvPr/>
        </p:nvPicPr>
        <p:blipFill>
          <a:blip r:embed="rId1"/>
          <a:stretch/>
        </p:blipFill>
        <p:spPr>
          <a:xfrm>
            <a:off x="0" y="0"/>
            <a:ext cx="8820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-541800" y="2491920"/>
            <a:ext cx="9937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Вдоль Волги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тянулись ремесленно-торговые районы. Здесь были базары, караван-сараи (строения служившие кровом для путешественников), ремесленные мастерские, кузницы, ювелиры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отдельных районах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жили рабы-ремесленники. Они обитали в землянках со стенами из сырцового кирпича и обогревались с помощью жаровни с горячими углям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4" descr="http://www.kurortrussia.ru/upload/iblock/859/85938ae9bc823c0e2bc57a8d44c094ff.jpg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-541800" y="2491920"/>
            <a:ext cx="9937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северной части города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был «христианский квартал». Здесь жили русские, армяне и другие не мусульмане. Здесь имелись христианские церкви и часов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южной части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города располагалс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некрополь (большое кладбище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5" descr="http://oldsaratov.ru/sites/default/files/styles/post_image/public/photos/uvek.jpg"/>
          <p:cNvPicPr/>
          <p:nvPr/>
        </p:nvPicPr>
        <p:blipFill>
          <a:blip r:embed="rId1"/>
          <a:stretch/>
        </p:blipFill>
        <p:spPr>
          <a:xfrm>
            <a:off x="539640" y="189000"/>
            <a:ext cx="82314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13:22Z</dcterms:created>
  <dc:creator>XP GAME 2009</dc:creator>
  <dc:description/>
  <dc:language>en-US</dc:language>
  <cp:lastModifiedBy>Александр</cp:lastModifiedBy>
  <dcterms:modified xsi:type="dcterms:W3CDTF">2013-10-21T19:02:19Z</dcterms:modified>
  <cp:revision>26</cp:revision>
  <dc:subject/>
  <dc:title>История заселения и освоения Саратовского края</dc:title>
</cp:coreProperties>
</file>