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3.gif" ContentType="image/gif"/>
  <Override PartName="/ppt/media/click.wav" ContentType="audio/x-wav"/>
  <Override PartName="/ppt/media/image1.wmf" ContentType="image/x-wmf"/>
  <Override PartName="/ppt/media/camera.wav" ContentType="audio/x-wav"/>
  <Override PartName="/ppt/media/image7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A209-6B5C-411C-853F-75B6B1676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F79-2313-40A9-88F1-640AD63995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365-2354-4C9B-92F4-AA7F5F8F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7BD-A903-40D0-A715-A67B84B0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318-F1A7-4EA4-B37D-B2FAA0B2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FEA-1F3D-47DD-A98C-611CEBD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8EDB-AA93-4103-8C76-528C11E0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89F2-A70C-4FB7-9C94-2FC1E2B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5C00-97A4-44A1-AE04-CFF696C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6BBD-E3E7-4477-A10B-F56A2DDD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E73-E54E-4FA8-ACE6-ABC7809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5AC-D336-4B37-A97A-25A68EB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3D6-AB35-42BC-9788-10E9B11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9EC-5C64-4AD7-82EE-6D799EF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15BF-D268-4319-8053-729C006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59F5-1BE3-4E48-8F74-5D9D2C6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90C-A99D-415F-999A-403E588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E1F-8AC8-45C6-B167-7E0E64B3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D5D-5046-4447-BB27-81712701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B9B0-2062-4F2A-9F39-E2262F5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F8C4-76D4-4807-84C3-84622DC8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93FC-4042-4CD7-8B3A-52C5AC10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9454-4816-444B-B635-73980A63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4061-F607-4198-A54E-D37504C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3B0-3F35-4840-B22B-3F63CB23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EFDE-87F9-4007-B3EB-0A9FDE8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EE6D-9281-4746-B472-3A99D11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F4B6-E453-4C99-9D64-F372328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BF40-B22F-470F-B81B-95E9B4C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1D1D-44AB-4A58-9F65-30158066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8D42-91A3-4377-A95E-5765F5F9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2F7D-55CB-4D75-A296-61F43D07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6F9-FDD0-4897-8E14-67E017BE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34A-73CF-4D85-AD26-1DE5F13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59F-B1AA-43FC-9CC7-6E79EF48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D01-EE58-4B21-9F86-13BE425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22F-7B62-4CCF-BA0C-76BAEF3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D95-7E54-4FFD-8A66-59E2C90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FA3C-F061-4BA5-A5AE-C7B3531EF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77E-C23E-4759-B851-7362B9A95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У "СОШ № 59" г. Барнаула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426-EA44-47DE-A523-90C0B84A3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42680" y="1071360"/>
            <a:ext cx="70722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ТЕМАТИЧЕСКИЙ КОНТРОЛЬ»</a:t>
            </a:r>
            <a:br>
              <a:rPr sz="4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ПО МАТЕРИАЛАМ Н.С. ГОЛИЦИНОЙ «ОРГАНИЗАЦИЯ И ПРОВЕДЕНИЕ ТЕМАТИЧЕСКОГО КОНТРОЛЯ В ДОУ»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ГОТОВИЛА: ВОРОТНИКОВА.Т.Г., СТ. ВОСПИТАТЕЛЬ МБДОУ № 39 «СКАЗКА» Г. КЫЗЫЛА 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214800" y="60721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14526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00040" y="1500120"/>
            <a:ext cx="8220240" cy="466416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txBody>
          <a:bodyPr anchor="ctr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кетирование родителей по вопросам тематического контро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каз открытого зан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каз видеозаписи занятий, игровой и других видов детс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ятельности по теме контро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тражение тематики на родительском собра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тражение тематики контроля в индивидуальных и группов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консультац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ривлечение родителей к участию в воспитательно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бразовательной работе в группе (участие в занятиях, трудов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ятельности и т.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рганизация практических занятий, круглых столов по вопрос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контроля и др. форм организации сотрудни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рганизация выставок детского и совместного творчества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 родителей по тематике контро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Анализ нагляд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заимодействие род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00040" y="1500120"/>
            <a:ext cx="8220240" cy="466416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1. Результаты оценки уровня развития детей разных возрастных групп, их знания, умения и навы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2. Выявленные проблем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уровне профессионализма воспитат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Знание педагогами разделов программы, по которой работает ДОУ по контролируемому направлению воспитательно-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Знания педагогов об особенностях развития детей своей возрастной группы, специфики образовательно-воспитательной работы с детьми дан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Умение педагогов учитывать индивидуальные особенности каждого ребенка в группе при построении оптимальной модели образовательно-воспитательного проце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Результативность работы старшего воспитателя в направлении повышения квалификации педагогов по вопросу контроля, по руководству самообразованием педагог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Результаты оценки создания усло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41768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ГОРИТМ СОСТАВЛЕН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НАЛИТИЧЕСКОЙ СПРАВКИ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РЕЗУЛЬТАТАМ ТЕМАТИЧЕСКОГО КОНТРОЛ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80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0" y="608040"/>
            <a:ext cx="9144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нирование воспитательно-образовательной работы вне занятий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ажение в плане индивидуальной работы с детьми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ленный положительный опыт и проблемы во взаимодействии с родителями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лядная информация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ытые показы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ажение тематики на родительских собраниях, индивидуальных и групповых консультациях, в работе специалистов с родителями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Samsung\Desktop\картинки\мать и дитя_jpg.jpg"/>
          <p:cNvPicPr/>
          <p:nvPr/>
        </p:nvPicPr>
        <p:blipFill>
          <a:blip r:embed="rId1"/>
          <a:stretch/>
        </p:blipFill>
        <p:spPr>
          <a:xfrm>
            <a:off x="5940360" y="472428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ими причинами объясняется высокий уровень развития детей, их знаний, умений и навыков в отдельных возрастных группах, почему в других группах этот уровень более низкий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основе выводов даются рекоменд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8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 опыта работы успешно работающих воспитателей, организация   открытых   показов, наставничества, рекомендации по самообразованию педагогов, взаимопосещению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комендации по регулированию и коррекции воспитательно-образовательного процесс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C:\Users\Samsung\Desktop\картинки\52562893.jpg"/>
          <p:cNvPicPr/>
          <p:nvPr/>
        </p:nvPicPr>
        <p:blipFill>
          <a:blip r:embed="rId1"/>
          <a:stretch/>
        </p:blipFill>
        <p:spPr>
          <a:xfrm>
            <a:off x="2843280" y="4724280"/>
            <a:ext cx="324144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611280" y="554400"/>
            <a:ext cx="82087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Аналитическая справка по результатам контроля зачитывается на заседании педагогического совета, рекомендации по коррекции воспитательно-образовательного процесса выносятся в проект решения совета педагогов. Решения педагогического совета прилагаются к материалам тематического контроля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Users\Samsung\Desktop\картинки\158_DOU30.jpg"/>
          <p:cNvPicPr/>
          <p:nvPr/>
        </p:nvPicPr>
        <p:blipFill>
          <a:blip r:embed="rId1"/>
          <a:stretch/>
        </p:blipFill>
        <p:spPr>
          <a:xfrm>
            <a:off x="6012000" y="4437000"/>
            <a:ext cx="26636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C:\Users\Samsung\Desktop\картинки\embl.png"/>
          <p:cNvPicPr/>
          <p:nvPr/>
        </p:nvPicPr>
        <p:blipFill>
          <a:blip r:embed="rId1"/>
          <a:stretch/>
        </p:blipFill>
        <p:spPr>
          <a:xfrm>
            <a:off x="324000" y="1600200"/>
            <a:ext cx="8496000" cy="5068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500880" cy="1071720"/>
          </a:xfrm>
          <a:prstGeom prst="rect">
            <a:avLst/>
          </a:prstGeom>
          <a:gradFill rotWithShape="0">
            <a:gsLst>
              <a:gs pos="0">
                <a:srgbClr val="d5d3f7"/>
              </a:gs>
              <a:gs pos="50000">
                <a:srgbClr val="deffbd"/>
              </a:gs>
              <a:gs pos="100000">
                <a:srgbClr val="d5d3f7"/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АДАЧИ ТЕМАТИЧЕСКОГО КОНТРО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7160" y="1643040"/>
            <a:ext cx="7672320" cy="466560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Определение уровня отдельных параметров педагоги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Сбор, систематизация и хранение информации о ходе воспитательно-образовательн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дагогический анализ уровня образовательной работы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ыявление причин, определяющих уровень воспитательно-образовательн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ыработка рекомендаций по устранению недочетов в работе, определение путей повышения качества педагогической деятельности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ыявление передового опыта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оиск новых эффективных методов работы с детьми, форм организации работы педагогов с детьми, родителями, с социум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Фактор воспитания молодых кадров, усиление личной ответственности молодого специалиста за исполнение своих обязан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7315200" y="428760"/>
            <a:ext cx="1828800" cy="16048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97440" cy="134604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АЛГОРИТМ ПРОВЕДЕНИЯ  ТЕМАТИЧЕСКОГО  КОНТРОЛ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032680" cy="44402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* О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еделение названия тематического контроля, его цели, сроков пр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зработка плана тематического контр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оставление графика тематического контр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бор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нализ собранного матер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работка рекомендаций и путей исправления недоста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верка исполнения рекоменд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15360" y="476280"/>
            <a:ext cx="14526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9D16-0E84-47A0-9FE6-FBFDFDEAEF9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8788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Динамика качества знаний учащихся по русскому языку заметно растёт  в связи с использованием И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308720" y="692280"/>
            <a:ext cx="1368720" cy="1008000"/>
          </a:xfrm>
          <a:prstGeom prst="rect">
            <a:avLst/>
          </a:prstGeom>
          <a:gradFill rotWithShape="0">
            <a:gsLst>
              <a:gs pos="0">
                <a:srgbClr val="fffed5"/>
              </a:gs>
              <a:gs pos="100000">
                <a:srgbClr val="ffaa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Рисунок8"/>
          <p:cNvPicPr/>
          <p:nvPr/>
        </p:nvPicPr>
        <p:blipFill>
          <a:blip r:embed="rId1"/>
          <a:stretch/>
        </p:blipFill>
        <p:spPr>
          <a:xfrm>
            <a:off x="7380360" y="765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785880" y="1785960"/>
            <a:ext cx="770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97440" cy="134604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ОСНОВНЫЕ НАПРАВЛЕНИЯ ТЕМАТИЧЕСКОГО КОНТРОЛ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1724760"/>
            <a:ext cx="91440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.    Выявление уровня знаний, умений, навыков, воспитанности детей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.   Определение профессионального уровня педагогов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. Оценка создания условий, обеспечивающих выполнение образовательной программ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. Оценка системы планирования воспитательно-образовательной работы по данному направлению развития дете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.   Определение форм и методов взаимодействия, сотрудничества с семьей, педагогической грамотности родителей, согласованности действий педагогов и родителей, позволяющих повысить эффективность воспитательно-образовательной работ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(К.Ю. Белая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0B2C-9300-4A26-A894-3F7541153FA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580716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429680" y="500040"/>
            <a:ext cx="136836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Рисунок8"/>
          <p:cNvPicPr/>
          <p:nvPr/>
        </p:nvPicPr>
        <p:blipFill>
          <a:blip r:embed="rId1"/>
          <a:stretch/>
        </p:blipFill>
        <p:spPr>
          <a:xfrm>
            <a:off x="7429680" y="571680"/>
            <a:ext cx="1223640" cy="917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468360" y="1484280"/>
            <a:ext cx="8278920" cy="489744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916280"/>
          <a:ext cx="7704360" cy="3743280"/>
        </p:xfrm>
        <a:graphic>
          <a:graphicData uri="http://schemas.openxmlformats.org/drawingml/2006/table">
            <a:tbl>
              <a:tblPr/>
              <a:tblGrid>
                <a:gridCol w="2378160"/>
                <a:gridCol w="1957320"/>
                <a:gridCol w="3368880"/>
              </a:tblGrid>
              <a:tr h="777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рабо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нтро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методы контро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0" rIns="0" tIns="0" bIns="0" anchor="t">
                      <a:noAutofit/>
                    </a:bodyPr>
                    <a:p>
                      <a:pPr marL="600120" indent="-399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следование уровня развития дете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00120" indent="-399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ровень профессионального мастерства педагог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0" rIns="0" tIns="0" bIns="0" anchor="t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ценка создания услов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истема планирования работы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Взаимодействие с родителя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1"/>
          <p:cNvSpPr/>
          <p:nvPr/>
        </p:nvSpPr>
        <p:spPr>
          <a:xfrm>
            <a:off x="0" y="79200"/>
            <a:ext cx="7236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ХЕМА  ПЛАНА  ТЕМАТИЧЕСКОГО  КОНТРОЛ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6" descr="C:\Users\Samsung\Desktop\картинки\emblema_w273_h173.jpg"/>
          <p:cNvPicPr/>
          <p:nvPr/>
        </p:nvPicPr>
        <p:blipFill>
          <a:blip r:embed="rId2"/>
          <a:stretch/>
        </p:blipFill>
        <p:spPr>
          <a:xfrm>
            <a:off x="5219640" y="4076640"/>
            <a:ext cx="338472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3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0040" y="1500120"/>
            <a:ext cx="8220240" cy="466416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txBody>
          <a:bodyPr anchor="ctr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 Обследование уровня   развития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седы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иагностика уровня развития детей в соответствии с  образовательной    программой и темой контро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бследование отдельных детей по стандартам образовательной  программы (знания, умения, навыки дете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нализ детских работ в продуктивных видах деятельности        (изобразительной, трудовой, театрализованной  и др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нализ деятельности детей на занятиях (интерес к деятельности, активность ребенка, навыки общения со сверстниками и взрослыми, уровень сформированности познавательной и учебной деятельности и  т.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блюдение за самостоятельной деятельностью детей в режиме д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нализ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нализ навыков общения со сверстниками,  взросл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тервьюирование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идеозаписи наблю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effbd"/>
              </a:gs>
              <a:gs pos="50000">
                <a:srgbClr val="ffffff"/>
              </a:gs>
              <a:gs pos="100000">
                <a:srgbClr val="deffbd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ОРМЫ И МЕТОДЫ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Samsung\Desktop\картинки\1.JPG"/>
          <p:cNvPicPr/>
          <p:nvPr/>
        </p:nvPicPr>
        <p:blipFill>
          <a:blip r:embed="rId1"/>
          <a:stretch/>
        </p:blipFill>
        <p:spPr>
          <a:xfrm>
            <a:off x="7020000" y="4941720"/>
            <a:ext cx="212400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ценка профессиональной компетентности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обеседование с педагогами (знание дошкольной  педагогики и  психологии, владение методиками воспитания и обучения детей дошкольного возраста, знание образовательных программ и технологий, владение современными методами  диагностики и коррекци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блюдение за педагогической деятельностью воспитателя в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Анкетирование воспита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Анализ проведения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рганизация и анализ открытых показов воспитательно-образователь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Анализ предметно-развивающей среды в группе с точки зрения компетентности педагога при ее созд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Анализ самообразования воспита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C:\Users\Samsung\Desktop\картинки\43_DOU66.jpg"/>
          <p:cNvPicPr/>
          <p:nvPr/>
        </p:nvPicPr>
        <p:blipFill>
          <a:blip r:embed="rId1"/>
          <a:stretch/>
        </p:blipFill>
        <p:spPr>
          <a:xfrm>
            <a:off x="7020000" y="5013360"/>
            <a:ext cx="212400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. Оценка планирования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Анализ планирования воспитательно-образователь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группе по теме контр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ланирование занятий (наличие систе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ланирование игров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ланирование работы в групповых уголках и з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ланирование предварительной работы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ланирование индивидуальной работы с детьми по формированию знаний, умений и навыков, коррекции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C:\Users\Samsung\Desktop\картинки\184_DOU28_Zhemchuzhina.jpg"/>
          <p:cNvPicPr/>
          <p:nvPr/>
        </p:nvPicPr>
        <p:blipFill>
          <a:blip r:embed="rId1"/>
          <a:stretch/>
        </p:blipFill>
        <p:spPr>
          <a:xfrm>
            <a:off x="3635280" y="5084640"/>
            <a:ext cx="187344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. Создание условий для реализации воспитательно-образователь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 групп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 методическом кабине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 учрежд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групп. Анализ предметно-развивающей среды в группе, ее соответствие современным требованиям (реализация потребностей и интересов детей в содержательной и разнообразной деятельности; обеспечение эмоционального комфорта; развитие творческой, познавательной активности, социальной компетентности ребенк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методической литера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идактического материала для реализации образовательных задач, его соответствие современным требов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C:\Users\Samsung\Desktop\картинки\1332417596logo1_big.jpg"/>
          <p:cNvPicPr/>
          <p:nvPr/>
        </p:nvPicPr>
        <p:blipFill>
          <a:blip r:embed="rId1"/>
          <a:stretch/>
        </p:blipFill>
        <p:spPr>
          <a:xfrm>
            <a:off x="6156360" y="5300640"/>
            <a:ext cx="208764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02:37Z</dcterms:created>
  <dc:creator>Кирилина</dc:creator>
  <dc:description/>
  <dc:language>en-US</dc:language>
  <cp:lastModifiedBy>Admin</cp:lastModifiedBy>
  <dcterms:modified xsi:type="dcterms:W3CDTF">2013-10-21T03:01:14Z</dcterms:modified>
  <cp:revision>73</cp:revision>
  <dc:subject/>
  <dc:title>Составитель                    презентации                    Кирилина Наталья                     Ивановна, учитель                     русского  языка                     и литературы                    МОУ «СОШ № 59»</dc:title>
</cp:coreProperties>
</file>