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F2E-879D-469D-B99D-1FFEEE62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503-1135-41BA-A16C-B59D6BA2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8E6-0AD7-4E8E-945A-17663326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480-407C-4E41-BBC3-E64E7DE0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1CD-DE2E-4B1A-B39D-9FD1A4ED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42A-9A29-4D77-80F6-7947546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2FF-6D44-48EF-A064-AF784CB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627-E143-462E-B255-DDEB6CF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C22-418D-4BD8-86FA-D6384653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C7F-A4FD-4448-984E-597E8E8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55-87AF-47F4-9296-AC4BED7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8E6-2B43-4729-BA82-07F6F69E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41B7-8E2F-4EFF-82D7-AC1D3711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034.radikal.ru/0805/00/d7185e34bb71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katalogsuvenirov.ru/uploads/0066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hyperlink" Target="http://s49.radikal.ru/i126/0812/6e/dfa1084dd0ba.jpg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hyperlink" Target="http://s48.radikal.ru/i122/0905/1f/3b427e40d630.jpg" TargetMode="External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2087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Урок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413000"/>
            <a:ext cx="61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едмет стереометрии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"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3789360"/>
            <a:ext cx="2171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19280" y="5157720"/>
            <a:ext cx="5329080" cy="1150920"/>
          </a:xfrm>
          <a:prstGeom prst="parallelogram">
            <a:avLst>
              <a:gd name="adj" fmla="val 115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3645000"/>
            <a:ext cx="3095640" cy="5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4076640"/>
            <a:ext cx="0" cy="187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71628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414972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371808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4149720"/>
            <a:ext cx="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07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33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сли ножки стола не одинаковы по длине, то стол стоит на трех ножках, т.е. опирается на три «точки», а конец четвертой ножки (четвертая точка) не лежит в плоскости пола, а висит в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981000"/>
            <a:ext cx="7129800" cy="3456000"/>
          </a:xfrm>
          <a:prstGeom prst="parallelogram">
            <a:avLst>
              <a:gd name="adj" fmla="val 5157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35280" y="260280"/>
            <a:ext cx="516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99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13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47640" y="1844280"/>
            <a:ext cx="5472360" cy="15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2671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1773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378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36572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сли две точки прямой лежат в плоскости, то и все точки этой прямой лежат в эт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722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ят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ямая лежит в плос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лоскость проходит через 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692280"/>
            <a:ext cx="4176720" cy="1873080"/>
          </a:xfrm>
          <a:prstGeom prst="parallelogram">
            <a:avLst>
              <a:gd name="adj" fmla="val 5574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19280" y="1125360"/>
            <a:ext cx="2089080" cy="9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3429000"/>
            <a:ext cx="4753080" cy="2089080"/>
          </a:xfrm>
          <a:prstGeom prst="parallelogram">
            <a:avLst>
              <a:gd name="adj" fmla="val 5688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2276640"/>
            <a:ext cx="720720" cy="21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4437000"/>
            <a:ext cx="358920" cy="107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5516640"/>
            <a:ext cx="28872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34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00720" y="4508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429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4200" y="2637000"/>
            <a:ext cx="34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ая лежит в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59500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ая пересекает плос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60948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общих точек имеют прямая и плоск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835280" y="260280"/>
            <a:ext cx="516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3789360"/>
            <a:ext cx="4248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637000"/>
            <a:ext cx="273528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156000" y="3213000"/>
            <a:ext cx="16556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79640" y="342864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411280" y="2421000"/>
            <a:ext cx="129708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0" y="2421000"/>
            <a:ext cx="129672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2708280"/>
            <a:ext cx="1728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195640" y="981000"/>
            <a:ext cx="1871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981000"/>
            <a:ext cx="100944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24360" y="436536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6720" y="263700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932360" y="3645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059280" y="2636640"/>
            <a:ext cx="194436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51944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Если две плоскости имеют общую точку, то они имеют общую прямую, на которой лежат все общие точки этих плоскостей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ворят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: плоскости пересекаются п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920" y="1159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задачи: №1(а,б); 2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3860640"/>
            <a:ext cx="201600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627280" y="4005000"/>
            <a:ext cx="129528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3860640"/>
            <a:ext cx="3313080" cy="1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10920" y="1557360"/>
            <a:ext cx="1873080" cy="23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1557360"/>
            <a:ext cx="14292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1557360"/>
            <a:ext cx="1440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258920" y="1557360"/>
            <a:ext cx="122544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39640" y="2349360"/>
            <a:ext cx="1152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2781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486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52720" y="3854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126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328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1628640"/>
            <a:ext cx="3095640" cy="3095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1628640"/>
            <a:ext cx="71640" cy="237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3933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292360" y="3933720"/>
            <a:ext cx="86364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3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37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1708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220500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1268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4000" y="1341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22766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56360" y="1628280"/>
            <a:ext cx="64764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1333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2205000"/>
            <a:ext cx="71640" cy="7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198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08720" y="2924280"/>
            <a:ext cx="183528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388360" y="3284280"/>
            <a:ext cx="5763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75640" y="35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7080" y="335772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299736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60436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1708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920" y="47628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рисун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362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плоскости, в которых лежат прямые ДВ, АВ, МК, РЕ, ЕС; б) точки пересечения прямой ДК с плоскостью АВС, прямой СЕ с плоскостью АД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5373720"/>
            <a:ext cx="388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точки, лежащие в плоскостях Д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105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(а,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5080" y="105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59280" y="2925720"/>
            <a:ext cx="2519280" cy="936720"/>
          </a:xfrm>
          <a:prstGeom prst="parallelogram">
            <a:avLst>
              <a:gd name="adj" fmla="val 67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418000">
            <a:off x="7093800" y="3213720"/>
            <a:ext cx="1295280" cy="865440"/>
          </a:xfrm>
          <a:prstGeom prst="parallelogram">
            <a:avLst>
              <a:gd name="adj" fmla="val 37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8000" y="115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ведем итог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692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Как называется раздел геометрии, который мы будем изучать в 10-11 класс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1413000"/>
            <a:ext cx="88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Что такое стереометр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773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Сформулируйте с помощью рисунка аксиомы стереометрии, которые вы изучили сегодн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925720"/>
            <a:ext cx="2519280" cy="936720"/>
          </a:xfrm>
          <a:prstGeom prst="parallelogram">
            <a:avLst>
              <a:gd name="adj" fmla="val 67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141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800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3500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32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2917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2846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2925720"/>
            <a:ext cx="1368720" cy="865080"/>
          </a:xfrm>
          <a:prstGeom prst="parallelogram">
            <a:avLst>
              <a:gd name="adj" fmla="val 39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6000" y="2925720"/>
            <a:ext cx="1368360" cy="865080"/>
          </a:xfrm>
          <a:prstGeom prst="parallelogram">
            <a:avLst>
              <a:gd name="adj" fmla="val 395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7518200">
            <a:off x="6383880" y="2639160"/>
            <a:ext cx="1295280" cy="865440"/>
          </a:xfrm>
          <a:prstGeom prst="parallelogram">
            <a:avLst>
              <a:gd name="adj" fmla="val 37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59640" y="2925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96360" y="292572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100720" y="343044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5640" y="2924280"/>
            <a:ext cx="36036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8720" y="335772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8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764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272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924000" y="3141720"/>
            <a:ext cx="863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692280"/>
            <a:ext cx="7991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ть аксиомы плани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учить аксиомы А1-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ть пункт 1,2 (стр. 3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 задачи: 1(в,г); 2(б,д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о: № 3; 4 ( 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Что такое геометр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549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метрия – наука о свойствах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8100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еометрия» - (греч.) – «землемер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48428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Что такое планиметр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1628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иметрия – раздел геометрии, в котором изучаются свойства фигур на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3284640"/>
            <a:ext cx="58323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492360" y="4437000"/>
            <a:ext cx="266400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4471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332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новные понятия планимет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37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1080" y="2708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Основные понятия планимет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-387360"/>
            <a:ext cx="6480000" cy="58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тер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78936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- раздел геометрии, в котором изучаются свойства фигур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8900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новные фигуры в пространст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очка                      прямая                            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242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56000" y="1341000"/>
            <a:ext cx="2305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4560" y="1052640"/>
            <a:ext cx="3889440" cy="1944720"/>
          </a:xfrm>
          <a:custGeom>
            <a:avLst/>
            <a:gdLst/>
            <a:ahLst/>
            <a:rect l="l" t="t" r="r" b="b"/>
            <a:pathLst>
              <a:path w="2450" h="1496">
                <a:moveTo>
                  <a:pt x="114" y="771"/>
                </a:moveTo>
                <a:cubicBezTo>
                  <a:pt x="114" y="680"/>
                  <a:pt x="121" y="725"/>
                  <a:pt x="159" y="680"/>
                </a:cubicBezTo>
                <a:cubicBezTo>
                  <a:pt x="197" y="635"/>
                  <a:pt x="296" y="575"/>
                  <a:pt x="341" y="499"/>
                </a:cubicBezTo>
                <a:cubicBezTo>
                  <a:pt x="386" y="423"/>
                  <a:pt x="333" y="294"/>
                  <a:pt x="431" y="226"/>
                </a:cubicBezTo>
                <a:cubicBezTo>
                  <a:pt x="529" y="158"/>
                  <a:pt x="801" y="60"/>
                  <a:pt x="930" y="90"/>
                </a:cubicBezTo>
                <a:cubicBezTo>
                  <a:pt x="1059" y="120"/>
                  <a:pt x="1090" y="355"/>
                  <a:pt x="1203" y="408"/>
                </a:cubicBezTo>
                <a:cubicBezTo>
                  <a:pt x="1316" y="461"/>
                  <a:pt x="1513" y="469"/>
                  <a:pt x="1611" y="408"/>
                </a:cubicBezTo>
                <a:cubicBezTo>
                  <a:pt x="1709" y="347"/>
                  <a:pt x="1664" y="83"/>
                  <a:pt x="1792" y="45"/>
                </a:cubicBezTo>
                <a:cubicBezTo>
                  <a:pt x="1920" y="7"/>
                  <a:pt x="2314" y="0"/>
                  <a:pt x="2382" y="181"/>
                </a:cubicBezTo>
                <a:cubicBezTo>
                  <a:pt x="2450" y="362"/>
                  <a:pt x="2306" y="1006"/>
                  <a:pt x="2200" y="1134"/>
                </a:cubicBezTo>
                <a:cubicBezTo>
                  <a:pt x="2094" y="1262"/>
                  <a:pt x="1936" y="899"/>
                  <a:pt x="1747" y="952"/>
                </a:cubicBezTo>
                <a:cubicBezTo>
                  <a:pt x="1558" y="1005"/>
                  <a:pt x="1331" y="1406"/>
                  <a:pt x="1066" y="1451"/>
                </a:cubicBezTo>
                <a:cubicBezTo>
                  <a:pt x="801" y="1496"/>
                  <a:pt x="318" y="1337"/>
                  <a:pt x="159" y="1224"/>
                </a:cubicBezTo>
                <a:cubicBezTo>
                  <a:pt x="0" y="1111"/>
                  <a:pt x="114" y="862"/>
                  <a:pt x="114" y="771"/>
                </a:cubicBezTo>
                <a:close/>
              </a:path>
            </a:pathLst>
          </a:custGeom>
          <a:solidFill>
            <a:srgbClr val="dce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410000"/>
            <a:ext cx="4176720" cy="2016360"/>
          </a:xfrm>
          <a:prstGeom prst="parallelogram">
            <a:avLst>
              <a:gd name="adj" fmla="val 51785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45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значение: А; В; С;  …; М;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155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860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7640" y="350028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44720" y="5273640"/>
            <a:ext cx="86328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55280" y="6453360"/>
            <a:ext cx="28908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522936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5805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3573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60720" y="5877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6453360"/>
            <a:ext cx="0" cy="40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5057640"/>
            <a:ext cx="1873440" cy="865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4842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5418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643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60720" y="6461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6570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60720" y="6570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13372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 b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…, m, n,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ли двумя заглавными латински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31305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ение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4424400"/>
            <a:ext cx="478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ьте на вопросы по рисун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зовите точки, лежащие в плоскост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 не лежащие в плоскост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Назовите прямые, лежащие в плоскост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 не лежащие в плоскост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95640" y="921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которые геометрически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125360"/>
            <a:ext cx="1800360" cy="1582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12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00000" y="234900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054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1341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83664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836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268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3043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981000"/>
            <a:ext cx="3313080" cy="1871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98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421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572000" y="242100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1258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126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6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76500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134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06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87280" y="4508640"/>
            <a:ext cx="79236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4508640"/>
            <a:ext cx="122364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4508640"/>
            <a:ext cx="8632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87640" y="508464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2920" y="5084640"/>
            <a:ext cx="28908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5805360"/>
            <a:ext cx="16556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587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623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етр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221000"/>
            <a:ext cx="1296720" cy="17290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578560"/>
            <a:ext cx="1296720" cy="155520"/>
          </a:xfrm>
          <a:custGeom>
            <a:avLst/>
            <a:gdLst/>
            <a:ahLst/>
            <a:rect l="l" t="t" r="r" b="b"/>
            <a:pathLst>
              <a:path w="817" h="98">
                <a:moveTo>
                  <a:pt x="0" y="98"/>
                </a:moveTo>
                <a:cubicBezTo>
                  <a:pt x="8" y="82"/>
                  <a:pt x="16" y="67"/>
                  <a:pt x="46" y="52"/>
                </a:cubicBezTo>
                <a:cubicBezTo>
                  <a:pt x="76" y="37"/>
                  <a:pt x="137" y="14"/>
                  <a:pt x="182" y="7"/>
                </a:cubicBezTo>
                <a:cubicBezTo>
                  <a:pt x="227" y="0"/>
                  <a:pt x="280" y="7"/>
                  <a:pt x="318" y="7"/>
                </a:cubicBezTo>
                <a:cubicBezTo>
                  <a:pt x="356" y="7"/>
                  <a:pt x="355" y="7"/>
                  <a:pt x="408" y="7"/>
                </a:cubicBezTo>
                <a:cubicBezTo>
                  <a:pt x="461" y="7"/>
                  <a:pt x="582" y="0"/>
                  <a:pt x="635" y="7"/>
                </a:cubicBezTo>
                <a:cubicBezTo>
                  <a:pt x="688" y="14"/>
                  <a:pt x="696" y="37"/>
                  <a:pt x="726" y="52"/>
                </a:cubicBezTo>
                <a:cubicBezTo>
                  <a:pt x="756" y="67"/>
                  <a:pt x="802" y="90"/>
                  <a:pt x="817" y="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093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659640" y="4292640"/>
            <a:ext cx="720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4292640"/>
            <a:ext cx="720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5640" y="6165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805360"/>
            <a:ext cx="1441440" cy="1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5734080"/>
            <a:ext cx="144144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409400" cy="1057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45 из 1958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765000"/>
            <a:ext cx="1297080" cy="1160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356000" y="549360"/>
            <a:ext cx="1047960" cy="133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Картинка 10 из 35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656000" cy="1455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651640" y="549360"/>
            <a:ext cx="1587240" cy="1728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Картинка 45 из 5964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08720" y="620640"/>
            <a:ext cx="1536840" cy="1976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5796000" y="2637000"/>
            <a:ext cx="91440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236000" y="299736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6372360" y="436572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3492360" y="422100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1 из 127155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8360" y="4076640"/>
            <a:ext cx="1962000" cy="14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356000" y="278136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3080" y="-27000"/>
            <a:ext cx="90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какие геометрические тела вам напоминают предметы, изображенные на этих рисун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6093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едметы из окружающей вас обстановки ( нашей классной комнаты) напоминающие вам геометрические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95640" y="109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549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образ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тетради куб (видимые линии – сплошной линией, невидимые – пунктир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197000"/>
            <a:ext cx="3313080" cy="2952720"/>
          </a:xfrm>
          <a:prstGeom prst="cube">
            <a:avLst>
              <a:gd name="adj" fmla="val 25000"/>
            </a:avLst>
          </a:prstGeom>
          <a:solidFill>
            <a:srgbClr val="dcef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19700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42900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836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92720" y="1484280"/>
            <a:ext cx="4751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означь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ершины куба заглавными буквами АВСД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149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6920" y="32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9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907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83664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77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92720" y="2205000"/>
            <a:ext cx="46432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ыдел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цветным карандаш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ы А, С, 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АВ, СД, 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, 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гонали квадрата А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0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3357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1125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4560" y="1844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95280" y="342900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87640" y="342900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197000"/>
            <a:ext cx="2592360" cy="223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1916280"/>
            <a:ext cx="72072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5280" y="1197000"/>
            <a:ext cx="720720" cy="295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916280"/>
            <a:ext cx="72072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189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Что такое акси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92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ксиома – это утверждение о свойствах геометрических фигур, принимается в качестве исходных положений, на основе которых доказываются далее теоремы и вообще строится вся геоме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492280"/>
            <a:ext cx="8136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ксиомы планимет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ерез любые две точки можно провести прямую и притом  только од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трех точек прямой одна, и только одна, лежит между двумя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меются по крайней мере три точки, не лежащие на одной прям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4392360" cy="2087640"/>
          </a:xfrm>
          <a:prstGeom prst="parallelogram">
            <a:avLst>
              <a:gd name="adj" fmla="val 526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835280" y="260280"/>
            <a:ext cx="516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2492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700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4720" y="1766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413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99420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Через любые три точки, не лежащие на одной прямой, проходит плоскость и притом только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1:23:26Z</dcterms:created>
  <dc:creator>Зиновьевы</dc:creator>
  <dc:description/>
  <dc:language>en-US</dc:language>
  <cp:lastModifiedBy>ufssp</cp:lastModifiedBy>
  <dcterms:modified xsi:type="dcterms:W3CDTF">2011-04-04T15:57:41Z</dcterms:modified>
  <cp:revision>51</cp:revision>
  <dc:subject/>
  <dc:title>Слайд 1</dc:title>
</cp:coreProperties>
</file>