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726B-E025-4773-9CC5-BE7EF3714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31AE-6E9E-4ACE-98D1-71DA3315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609F-E230-4579-A73B-F8790D194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EDC8-1A61-4087-94A9-09594E294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1B93-9A7A-4C00-869F-4E158912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F79D-5CD4-42C0-90AB-9D391E7F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A036-9291-437D-9D1A-3DC6BBC9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3E5B-865C-4EE4-B8E7-46142BC4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68A7-0202-4250-BEE7-9948B509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31C4-2CEF-4431-B37E-F1F63BBB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7541-5144-42EC-BC9F-7B71CB62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B571-78D6-4E2B-8054-58DAEC5B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177D-C3F5-4B75-BBC3-E7D297F92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03.olx.ru/ui/1/97/72/41979572_1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404640"/>
            <a:ext cx="24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ff"/>
                </a:solidFill>
                <a:latin typeface="Arial"/>
              </a:rPr>
              <a:t>Урок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58920" y="1916280"/>
            <a:ext cx="6697800" cy="31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Некоторые следств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из аксио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pic>
        <p:nvPicPr>
          <p:cNvPr id="43" name="" descr="Картинка 10 из 68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0" y="3795840"/>
            <a:ext cx="213516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11280" y="3860640"/>
            <a:ext cx="2016000" cy="10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627280" y="4005000"/>
            <a:ext cx="1295280" cy="93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3860640"/>
            <a:ext cx="3313080" cy="144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610920" y="1557360"/>
            <a:ext cx="1873080" cy="23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557360"/>
            <a:ext cx="142920" cy="33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84360" y="1557360"/>
            <a:ext cx="144000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1258920" y="1557360"/>
            <a:ext cx="122544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339640" y="2349360"/>
            <a:ext cx="1152360" cy="22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63640" y="3429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56000" y="4078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2781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789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11280" y="4869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52720" y="385452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68360" y="1268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47640" y="3213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03280" y="4365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565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56000" y="4005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92720" y="1628640"/>
            <a:ext cx="3095640" cy="30956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84720" y="1628640"/>
            <a:ext cx="71640" cy="2376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56360" y="3933720"/>
            <a:ext cx="2232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292360" y="3933720"/>
            <a:ext cx="863640" cy="790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03640" y="4653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96000" y="3716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317080" y="371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24720" y="465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32360" y="2205000"/>
            <a:ext cx="719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67280" y="126828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44000" y="134136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96360" y="227664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6156360" y="1628280"/>
            <a:ext cx="647640" cy="2305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732720" y="13334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588000" y="2205000"/>
            <a:ext cx="71640" cy="7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00720" y="19828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08720" y="2924280"/>
            <a:ext cx="183528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8388360" y="3284280"/>
            <a:ext cx="576360" cy="64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675640" y="350028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317080" y="3357720"/>
            <a:ext cx="712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96360" y="2997360"/>
            <a:ext cx="712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604360" y="3500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96360" y="2781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317080" y="3068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920" y="981000"/>
            <a:ext cx="53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 №1 (в,г); 2(б,д)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зовит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о рисунк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3625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) точки, лежащие в плоскостях АДВ и ДВС; г) прямые по которым пересекаются плоскости АВС и ДСВ, АВД и СДА, РДС и АВ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03640" y="5373720"/>
            <a:ext cx="388944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) плоскости, в которых лежит прямая А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 д) точки пересечения прямых МК и ДС, В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и ВР, С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 и Д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11280" y="115920"/>
            <a:ext cx="44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верка домашнего зад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0" y="476280"/>
            <a:ext cx="907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формулируйт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ксиомы стереометрии и оформите рисунки на дос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50920" y="1628640"/>
            <a:ext cx="3960720" cy="2016360"/>
          </a:xfrm>
          <a:prstGeom prst="parallelogram">
            <a:avLst>
              <a:gd name="adj" fmla="val 49107"/>
            </a:avLst>
          </a:prstGeom>
          <a:solidFill>
            <a:srgbClr val="e2e9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33336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орема 1.   Через прямую и не лежащую на ней точку проходит плоскость и притом только од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59280" y="14130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но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59280" y="692280"/>
            <a:ext cx="1008000" cy="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27640" y="692280"/>
            <a:ext cx="3097080" cy="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1413000"/>
            <a:ext cx="22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, 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¢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59280" y="191628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каз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981000"/>
            <a:ext cx="251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72360" y="1916280"/>
            <a:ext cx="24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а, М) с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03640" y="2349360"/>
            <a:ext cx="25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единстве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84360" y="1989000"/>
            <a:ext cx="2735280" cy="136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6000" y="321300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3141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2728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64000" y="98100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87280" y="1557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32360" y="2852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казательство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88000" y="35622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  Р, О с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,О,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¢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19280" y="2781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1640" y="220500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32000" y="256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84360" y="19828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414972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 аксиоме А1: через точки Р, О, М проходит плоскость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44370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аксиоме А2: т.к. две точки прямой принадлежат плоскости, то и вся прямая принадлежит этой плоскости, т.е. (а, М) с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522936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 Любая плоскость проходящая через прямую а и точку М проходит через точки Р, О, и М, значит по аксиоме А1 она – единственная.  Ч.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9280" y="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Некоторые следствия из акси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 rot="1548600">
            <a:off x="14040" y="1323720"/>
            <a:ext cx="5352840" cy="2317680"/>
          </a:xfrm>
          <a:prstGeom prst="parallelogram">
            <a:avLst>
              <a:gd name="adj" fmla="val 5773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11592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орема 2.   Через две пересекающиеся прямые проходит плоскость, и притом только од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16360" y="1341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549360"/>
            <a:ext cx="4464000" cy="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80000" y="1341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16360" y="17733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каз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907920"/>
            <a:ext cx="30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19640" y="907920"/>
            <a:ext cx="172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84720" y="1773360"/>
            <a:ext cx="288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 с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 единств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971640" y="1699920"/>
            <a:ext cx="2736720" cy="10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26920" y="1844640"/>
            <a:ext cx="381636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26920" y="1557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00000" y="2708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50920" y="1989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32000" y="1844640"/>
            <a:ext cx="7308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87640" y="15494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32360" y="249228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4360" y="3860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казательств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9280" y="4365720"/>
            <a:ext cx="878544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Через а и Н     а, Н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роходит плоскость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М , Н)     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(М,Н)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начит по А2 все точк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принадлежат плос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. Плоскость проходит через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и она единственная, т.к. любая плоскость, проходящая через прямые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проходит и  через Н, значит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– единствен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817640" y="4435560"/>
                <a:ext cx="23328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0" y="33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484360" y="443700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0" y="33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195640" y="4869000"/>
                <a:ext cx="21564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3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042920" y="4869000"/>
                <a:ext cx="21600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1197000"/>
            <a:ext cx="5327640" cy="2519280"/>
          </a:xfrm>
          <a:prstGeom prst="parallelogram">
            <a:avLst>
              <a:gd name="adj" fmla="val 5286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8000" y="9216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шить задачу №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71640" y="350028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292428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27280" y="1413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042920" y="1483920"/>
            <a:ext cx="1656000" cy="20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71640" y="1484280"/>
            <a:ext cx="1871640" cy="15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116000" y="2997360"/>
            <a:ext cx="352728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4360" y="335772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68360" y="12682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43280" y="274464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19640" y="1341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35280" y="115920"/>
            <a:ext cx="532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и данны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чки соединены попарно отрезками. Докажите, что все отрезки лежат в одной плос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105264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казательств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24360" y="1413000"/>
            <a:ext cx="34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(А,В,С)      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значит по А1 через А,В,С проходит единственная плоск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64000" y="2205000"/>
            <a:ext cx="37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Две точки каждого отрезка лежат в плоскости, значит по А2 все точки каждого из отрезков лежат в плоскости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64000" y="3357720"/>
            <a:ext cx="37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Вывод: АВ, ВС, АС лежат в плоскости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836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случа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1280" y="4149720"/>
            <a:ext cx="3889440" cy="1800360"/>
          </a:xfrm>
          <a:prstGeom prst="parallelogram">
            <a:avLst>
              <a:gd name="adj" fmla="val 5400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187280" y="4365720"/>
            <a:ext cx="259272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16000" y="558972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68360" y="501336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10160" y="4292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00000" y="51577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52720" y="46530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19640" y="407664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33800" y="5516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3860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случа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03640" y="41497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казательств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27640" y="4930920"/>
            <a:ext cx="44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ак как 3 точки принадлежат одной прямой, то по А2 все точки этой прямой лежат в плос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3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6948360" y="1484280"/>
                <a:ext cx="28908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08000" y="11592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Зада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0920" y="443700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32000" y="558972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331640" y="4437000"/>
            <a:ext cx="718920" cy="1152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635280" y="4437000"/>
            <a:ext cx="719280" cy="11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332000" y="4437000"/>
            <a:ext cx="3024000" cy="115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50920" y="4437000"/>
            <a:ext cx="1584360" cy="115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843280" y="1844640"/>
            <a:ext cx="0" cy="316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2050560" y="1844640"/>
            <a:ext cx="792360" cy="2592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332000" y="1844640"/>
            <a:ext cx="1511280" cy="374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43280" y="1844640"/>
            <a:ext cx="1512720" cy="25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43280" y="1844640"/>
            <a:ext cx="792000" cy="374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16000" y="551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50920" y="41418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1164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64000" y="5445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627280" y="15494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627280" y="4941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92360" y="260280"/>
            <a:ext cx="72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СД – ромб, О – точка пересечения его диагоналей, М – точка пространства, не лежащая в плоскости ромба. Точки А, Д, О лежат в плоскости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43280" y="1700280"/>
            <a:ext cx="450072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ить и обоснов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жат ли в плоскости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точки В и С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Лежит ли в плоскости МОВ точка Д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зовите линию пересечения плоскостей МОВ и АД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ычислите площадь ромба, если сторона его равна 4 см, а угол равен 6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Предложите различные способы вычисления площади ром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26920" y="981000"/>
            <a:ext cx="3889440" cy="2376720"/>
          </a:xfrm>
          <a:prstGeom prst="parallelogram">
            <a:avLst>
              <a:gd name="adj" fmla="val 40912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3640" y="981000"/>
            <a:ext cx="1944720" cy="23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1280" y="3357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47640" y="6858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692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37080" y="328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71640" y="2997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71640" y="1844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86520" y="20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61080" y="62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2616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00000" y="4843440"/>
            <a:ext cx="360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АВСД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А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АД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895360" y="4772160"/>
            <a:ext cx="293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АВСД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(ВД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АС):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908000" y="40705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рмулы для вычисления площади ромб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76720" y="333360"/>
            <a:ext cx="38880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ВД = ∆ВСД (по трем сторонам), значи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АВД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ВСД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221440" y="907920"/>
                <a:ext cx="3095640" cy="287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∠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∠</m:t>
                        </m:r>
                        <m:r>
                          <m:t xml:space="preserve">C</m:t>
                        </m:r>
                      </m:e>
                      <m:e>
                        <m:r>
                          <m:t xml:space="preserve">∠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C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∠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∠</m:t>
                        </m:r>
                        <m:r>
                          <m:t xml:space="preserve">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D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D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∠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79280" y="765000"/>
            <a:ext cx="86407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Прочитать пункты 2; 3 на стр. 4 –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Выучить теоремы 1, 2 ( с доказательством); повторить аксиомы А1 – 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Решить задачу №8 ( с объяснением отве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11:45:02Z</dcterms:created>
  <dc:creator>Зиновьевы</dc:creator>
  <dc:description/>
  <dc:language>en-US</dc:language>
  <cp:lastModifiedBy>Зиновьевы</cp:lastModifiedBy>
  <dcterms:modified xsi:type="dcterms:W3CDTF">2010-08-13T08:59:21Z</dcterms:modified>
  <cp:revision>30</cp:revision>
  <dc:subject/>
  <dc:title>Слайд 1</dc:title>
</cp:coreProperties>
</file>