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CAA-2B99-4464-BABB-41F7376E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274-5017-4B63-90D8-849FD02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1B8-A7FC-434C-9DBA-00228B21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66E-2DC1-4532-8A7A-81CE7E1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9DE-B010-4ED3-B154-7552642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F47-EC86-420A-AFF4-05D005A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715-4C35-4569-978B-F2577691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FBB-0453-43B6-B82B-21496DD7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C64-D834-41BF-9AB7-2FFBB79D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83F-1DF2-4993-A82B-2D8D58F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60E-9079-42CE-AE52-A860FF6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D75-CBF5-4328-932E-2DAF3C1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107D-7757-4D96-A31C-B1C5CE99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рок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05264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приме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ксиом стер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941720"/>
            <a:ext cx="135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549360"/>
            <a:ext cx="435600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уб АВСД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точек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точек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 которые пересекают прямую 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пересекают прямую 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76500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33360"/>
            <a:ext cx="6481800" cy="2087640"/>
          </a:xfrm>
          <a:prstGeom prst="parallelogram">
            <a:avLst>
              <a:gd name="adj" fmla="val 77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3640" y="907920"/>
            <a:ext cx="475308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92280"/>
            <a:ext cx="309708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56000" y="620640"/>
            <a:ext cx="8636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628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1268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052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76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907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14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5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068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пуски, чтобы получилось верное утвержд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3443400"/>
                <a:ext cx="576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3080" y="4724280"/>
                <a:ext cx="6586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С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60360" y="5380200"/>
                <a:ext cx="7343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М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М</m:t>
                    </m:r>
                    <m:r>
                      <m:t xml:space="preserve">∈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4076640"/>
                <a:ext cx="5715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724280"/>
            <a:ext cx="338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проходят через точку А, но не лежат в одной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125360"/>
            <a:ext cx="345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т ли 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в одной плос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9842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адачи из учебного пособ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. 8    № 7, 10,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8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бота учащихся на доске и в тетрад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197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20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2060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9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011480"/>
            <a:ext cx="36007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9840"/>
            <a:ext cx="4608720" cy="18716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63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4294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27000"/>
            <a:ext cx="4968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 АВСД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М лежит на ребре В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жит на ребре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чка К лежит на ребре Д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2560" y="507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и, в которых лежат точки М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56844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у пересечения прямых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С. Каким свойством обладает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41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у пересечения прямой 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лоскост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3280" y="3141720"/>
            <a:ext cx="1512720" cy="23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71280" y="4797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954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инию пересечения плоскостей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644640"/>
            <a:ext cx="576108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89000"/>
            <a:ext cx="6408720" cy="2376360"/>
          </a:xfrm>
          <a:prstGeom prst="parallelogram">
            <a:avLst>
              <a:gd name="adj" fmla="val 674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82920" y="549000"/>
            <a:ext cx="576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9280" y="259920"/>
            <a:ext cx="1296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60280"/>
            <a:ext cx="64764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2060280"/>
            <a:ext cx="2519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84360" y="260280"/>
            <a:ext cx="1873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49360"/>
            <a:ext cx="194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0680" y="2421000"/>
                <a:ext cx="2508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0036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046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64000" y="71136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256500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348000" y="852480"/>
                <a:ext cx="262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64000" y="2637000"/>
                <a:ext cx="216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1840" y="4697280"/>
                <a:ext cx="24876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5440" y="3274920"/>
                <a:ext cx="5327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4581360"/>
                <a:ext cx="540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27400" y="5603760"/>
                <a:ext cx="3397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1280" y="38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5280" y="1159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Формула для вычисления площади четырех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692280"/>
            <a:ext cx="4608360" cy="2305080"/>
          </a:xfrm>
          <a:prstGeom prst="parallelogram">
            <a:avLst>
              <a:gd name="adj" fmla="val 499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26828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1268280"/>
            <a:ext cx="79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916280"/>
            <a:ext cx="792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95640" y="191592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1268280"/>
            <a:ext cx="1655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69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18900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то все вершины четырехугольника АВСД лежат в одной плоскости, если его диагонали АС и ВД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лощадь четырехугольника, если 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ВД, АС = 10см, ВД = 12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39942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(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∩ ВД) 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АС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Д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        (А, В, С, Д )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68360" y="4076640"/>
                <a:ext cx="287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32360" y="4076640"/>
                <a:ext cx="2872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32000" y="407664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40360" y="407664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005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0920" y="4653000"/>
            <a:ext cx="80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А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90º = 10 · 12 = 120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551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08000" y="765000"/>
            <a:ext cx="73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кты 1-3 про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задачи № 9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ельно № 11; 15 ( 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01:14Z</dcterms:created>
  <dc:creator>Зиновьевы</dc:creator>
  <dc:description/>
  <dc:language>en-US</dc:language>
  <cp:lastModifiedBy>ufssp</cp:lastModifiedBy>
  <dcterms:modified xsi:type="dcterms:W3CDTF">2011-04-14T14:05:21Z</dcterms:modified>
  <cp:revision>25</cp:revision>
  <dc:subject/>
  <dc:title>Слайд 1</dc:title>
</cp:coreProperties>
</file>