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D783-E992-43B5-9B19-C4F2E704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927-4B53-4C05-83E7-BCB32A23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E3D-4DE0-45B0-837D-CE13D53E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50B-1549-4DF1-AE18-DA8608F8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0FC7-092E-4B44-8582-5510CF02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FFD4-B8FD-4E55-A7C4-23D4BC2C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047-E68F-4D8A-8742-AD1937F8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CFD9-6F8E-48B7-A7DF-BA680BA8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C23-B47D-4778-A891-A5E096AD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932-A70A-4B7A-B011-0A73B4D6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0E3F-6A04-4C58-B02F-6ED353B8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EC01-D91B-4EE3-91B6-9822DC44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441D-C579-4DF5-95EF-F4F2DA4C1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03.olx.ru/ui/1/97/72/41979572_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Урок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920" y="1125360"/>
            <a:ext cx="8642160" cy="42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ешение зада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на применение аксиом стереометри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и их следстви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43" name="" descr="Картинка 10 из 68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0" y="4437000"/>
            <a:ext cx="17146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792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Математический дикт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07920"/>
            <a:ext cx="4572000" cy="498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ак называется раздел геометрии, изучающий фигуры в пространств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азовите основные фигуры в пространств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формулируйте аксиому А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формулируйте аксиому А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Могут ли прямая и плоскость иметь две общие точк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колько плоскостей можно провести через одну точк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40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72360" y="404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907920"/>
            <a:ext cx="4572000" cy="565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ак называется раздел геометрии, изучающий фигуры на плоскост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азовите основные фигуры на плоск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формулируйте аксиому А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колько плоскостей можно провести через прямую и не лежащую на ней точк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колько может быть точек у прямой и плоскост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Могут ли прямая и плоскость иметь одну общую точк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8760" y="65160"/>
            <a:ext cx="16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Задача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826920" y="2276280"/>
            <a:ext cx="2449800" cy="10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771280" y="2276640"/>
            <a:ext cx="505080" cy="165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3357720"/>
            <a:ext cx="194472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826920" y="1052640"/>
            <a:ext cx="1152720" cy="23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1052640"/>
            <a:ext cx="792000" cy="28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1052640"/>
            <a:ext cx="129708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38545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7588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285264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0328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764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357336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1693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7640" y="1693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76360" y="364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4428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н тетраэдр МАВС, каждое ребро которого равно 6 с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276720" y="476280"/>
                <a:ext cx="50655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МВ</m:t>
                    </m:r>
                    <m:r>
                      <m:t xml:space="preserve">,</m:t>
                    </m:r>
                    <m:r>
                      <m:t xml:space="preserve">Е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МС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АВ,А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В,М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140360" y="981000"/>
            <a:ext cx="4679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зови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ямую, по которой пересекаются плоскости: а) МАВ и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; б) М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АВ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йди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ину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АВ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остроить точку пересечения прямой ДЕ с плоскостью АВ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763640" y="1052640"/>
            <a:ext cx="21600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763640" y="2276280"/>
            <a:ext cx="151308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484360" y="1052280"/>
            <a:ext cx="1224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276720" y="980640"/>
            <a:ext cx="431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64000" y="1052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4653000"/>
            <a:ext cx="2016000" cy="1681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6165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6157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8000" y="4365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24000" y="4653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79640" y="6308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623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623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356000" y="6004080"/>
                <a:ext cx="33847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равносто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треуг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3851280" y="3284640"/>
            <a:ext cx="4824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правочный матери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войство медианы равнобедренного треугольника: </a:t>
            </a: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В равнобедренном треугольнике медиана, проведенная из вершины треугольника к основанию, является биссектрисой и высо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орема Пифаго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В прямоугольном треугольнике квадрат гипотенузы равен сумме квадратов кат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16000" y="1557360"/>
            <a:ext cx="3240000" cy="3240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908000" y="400536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116000" y="4005360"/>
            <a:ext cx="79200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155736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4724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47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8472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6560" y="364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2205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227664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1262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11905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228760" y="149400"/>
                <a:ext cx="54770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ано</m:t>
                    </m:r>
                    <m:r>
                      <m:t xml:space="preserve">: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АВСД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куб</m:t>
                    </m:r>
                    <m:r>
                      <m:t xml:space="preserve">,</m:t>
                    </m:r>
                    <m:r>
                      <m:t xml:space="preserve">Р</m:t>
                    </m:r>
                    <m:r>
                      <m:t xml:space="preserve">∈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Р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58760" y="65160"/>
            <a:ext cx="15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Задача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549360"/>
            <a:ext cx="3527640" cy="32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ак построить точку пересечения плоскости АВС с прямой 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ак построить линию пересечения плоскости А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 и АВ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ычислите длину отрезков АР и А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если АВ =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92360" y="3645000"/>
            <a:ext cx="1429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33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1557360"/>
            <a:ext cx="1656000" cy="21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3716280"/>
            <a:ext cx="2520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4005360"/>
            <a:ext cx="165600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4797360"/>
            <a:ext cx="2448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5734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551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16000" y="1557360"/>
            <a:ext cx="792000" cy="32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116000" y="3715920"/>
            <a:ext cx="244800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8760" y="65160"/>
            <a:ext cx="17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Задача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907920"/>
            <a:ext cx="4537080" cy="2449800"/>
          </a:xfrm>
          <a:prstGeom prst="parallelogram">
            <a:avLst>
              <a:gd name="adj" fmla="val 463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1125360"/>
            <a:ext cx="172872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42920" y="1125000"/>
            <a:ext cx="374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348000" y="1125360"/>
            <a:ext cx="1008000" cy="18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184464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206064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2492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2520" y="2781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3080" y="1341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242100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2560" y="1052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2486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3280" y="1549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43280" y="198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278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234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42102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Точки А, В, С не лежат на одной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914400" y="4724280"/>
                <a:ext cx="37861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,</m:t>
                    </m:r>
                    <m:r>
                      <m:t xml:space="preserve">К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,</m:t>
                    </m:r>
                    <m:r>
                      <m:t xml:space="preserve">Р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М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55640" y="522936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кажит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что точка Р лежит в плоскости АВ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2924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050920" y="765000"/>
            <a:ext cx="3313080" cy="15116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2276640"/>
            <a:ext cx="4392360" cy="1008000"/>
          </a:xfrm>
          <a:prstGeom prst="parallelogram">
            <a:avLst>
              <a:gd name="adj" fmla="val 108938"/>
            </a:avLst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227664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1916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95640" y="836640"/>
                <a:ext cx="2887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403280" y="2924280"/>
                <a:ext cx="274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059280" y="1125360"/>
            <a:ext cx="1008000" cy="115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2276640"/>
            <a:ext cx="57600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2924280"/>
            <a:ext cx="6494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32000" y="981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2205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8760" y="651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Задача №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436572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лоскости         и          пересекаются по прямой с. Прямая а лежит в плоскости         и пересекает плоскость      . Пересекаются ли прямые а и с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56000" y="4437000"/>
                <a:ext cx="2887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924360" y="4741920"/>
                <a:ext cx="2887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348000" y="4437000"/>
                <a:ext cx="274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667640" y="4724280"/>
                <a:ext cx="274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79520" y="212760"/>
            <a:ext cx="5761080" cy="3768840"/>
          </a:xfrm>
          <a:custGeom>
            <a:avLst/>
            <a:gdLst/>
            <a:ahLst/>
            <a:rect l="l" t="t" r="r" b="b"/>
            <a:pathLst>
              <a:path w="3629" h="2374">
                <a:moveTo>
                  <a:pt x="61" y="1890"/>
                </a:moveTo>
                <a:cubicBezTo>
                  <a:pt x="23" y="1815"/>
                  <a:pt x="0" y="1663"/>
                  <a:pt x="15" y="1572"/>
                </a:cubicBezTo>
                <a:cubicBezTo>
                  <a:pt x="30" y="1481"/>
                  <a:pt x="106" y="1452"/>
                  <a:pt x="151" y="1346"/>
                </a:cubicBezTo>
                <a:cubicBezTo>
                  <a:pt x="196" y="1240"/>
                  <a:pt x="264" y="1065"/>
                  <a:pt x="287" y="937"/>
                </a:cubicBezTo>
                <a:cubicBezTo>
                  <a:pt x="310" y="809"/>
                  <a:pt x="219" y="703"/>
                  <a:pt x="287" y="575"/>
                </a:cubicBezTo>
                <a:cubicBezTo>
                  <a:pt x="355" y="447"/>
                  <a:pt x="545" y="242"/>
                  <a:pt x="696" y="166"/>
                </a:cubicBezTo>
                <a:cubicBezTo>
                  <a:pt x="847" y="90"/>
                  <a:pt x="983" y="113"/>
                  <a:pt x="1195" y="121"/>
                </a:cubicBezTo>
                <a:cubicBezTo>
                  <a:pt x="1407" y="129"/>
                  <a:pt x="1732" y="220"/>
                  <a:pt x="1966" y="212"/>
                </a:cubicBezTo>
                <a:cubicBezTo>
                  <a:pt x="2200" y="204"/>
                  <a:pt x="2427" y="99"/>
                  <a:pt x="2601" y="76"/>
                </a:cubicBezTo>
                <a:cubicBezTo>
                  <a:pt x="2775" y="53"/>
                  <a:pt x="2850" y="0"/>
                  <a:pt x="3009" y="76"/>
                </a:cubicBezTo>
                <a:cubicBezTo>
                  <a:pt x="3168" y="152"/>
                  <a:pt x="3477" y="386"/>
                  <a:pt x="3553" y="529"/>
                </a:cubicBezTo>
                <a:cubicBezTo>
                  <a:pt x="3629" y="672"/>
                  <a:pt x="3493" y="786"/>
                  <a:pt x="3463" y="937"/>
                </a:cubicBezTo>
                <a:cubicBezTo>
                  <a:pt x="3433" y="1088"/>
                  <a:pt x="3372" y="1330"/>
                  <a:pt x="3372" y="1436"/>
                </a:cubicBezTo>
                <a:cubicBezTo>
                  <a:pt x="3372" y="1542"/>
                  <a:pt x="3478" y="1459"/>
                  <a:pt x="3463" y="1572"/>
                </a:cubicBezTo>
                <a:cubicBezTo>
                  <a:pt x="3448" y="1685"/>
                  <a:pt x="3402" y="2011"/>
                  <a:pt x="3281" y="2117"/>
                </a:cubicBezTo>
                <a:cubicBezTo>
                  <a:pt x="3160" y="2223"/>
                  <a:pt x="3024" y="2169"/>
                  <a:pt x="2737" y="2207"/>
                </a:cubicBezTo>
                <a:cubicBezTo>
                  <a:pt x="2450" y="2245"/>
                  <a:pt x="1874" y="2374"/>
                  <a:pt x="1557" y="2344"/>
                </a:cubicBezTo>
                <a:cubicBezTo>
                  <a:pt x="1240" y="2314"/>
                  <a:pt x="1051" y="2079"/>
                  <a:pt x="832" y="2026"/>
                </a:cubicBezTo>
                <a:cubicBezTo>
                  <a:pt x="613" y="1973"/>
                  <a:pt x="370" y="2041"/>
                  <a:pt x="242" y="2026"/>
                </a:cubicBezTo>
                <a:cubicBezTo>
                  <a:pt x="114" y="2011"/>
                  <a:pt x="99" y="1965"/>
                  <a:pt x="61" y="189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8760" y="65160"/>
            <a:ext cx="17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Задача №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1125360"/>
            <a:ext cx="3600360" cy="1727280"/>
          </a:xfrm>
          <a:prstGeom prst="parallelogram">
            <a:avLst>
              <a:gd name="adj" fmla="val 52110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836640"/>
                <a:ext cx="2887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2268360" y="278136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8000" y="836640"/>
            <a:ext cx="4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3800" y="83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556000" y="1125360"/>
            <a:ext cx="360036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19640" y="1125360"/>
            <a:ext cx="180000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67280" y="2060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2728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771280" y="2637000"/>
            <a:ext cx="71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43520" y="1917720"/>
            <a:ext cx="168120" cy="216000"/>
          </a:xfrm>
          <a:custGeom>
            <a:avLst/>
            <a:gdLst/>
            <a:ahLst/>
            <a:rect l="l" t="t" r="r" b="b"/>
            <a:pathLst>
              <a:path w="106" h="136">
                <a:moveTo>
                  <a:pt x="106" y="0"/>
                </a:moveTo>
                <a:cubicBezTo>
                  <a:pt x="68" y="11"/>
                  <a:pt x="30" y="22"/>
                  <a:pt x="15" y="45"/>
                </a:cubicBezTo>
                <a:cubicBezTo>
                  <a:pt x="0" y="68"/>
                  <a:pt x="15" y="113"/>
                  <a:pt x="15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184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4005360"/>
            <a:ext cx="799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а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ямоугольник АВСД, О – точка пересечения его диагоналей. Известно, что точки А, В, О лежат в плоскости     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каж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то точки С и Д также лежат в плоскости     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числ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ощадь прямоугольника, если АС = 8 см, угол АОВ = 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556000" y="5229360"/>
                <a:ext cx="2887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68360" y="4869000"/>
                <a:ext cx="2890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5640" y="549360"/>
            <a:ext cx="71294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ашнее задание:  пункты 1-3 прочи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ь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ые а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ресекаются в точке О, А       а, В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Р     АВ. Докажите, что прямые а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точка Р лежат в одной плос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анном рисунке плоскость     содержит точки А, В, С, Д, но не содержит точку М. Постройте точку К – точку пересечения прямой АВ и плоскости МСД. Лежит ли точка К в плоскости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788000" y="2637000"/>
                <a:ext cx="28728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24360" y="3500280"/>
                <a:ext cx="28728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084720" y="1557360"/>
                <a:ext cx="287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7020000" y="155736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403280" y="1844640"/>
                <a:ext cx="289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1476360" y="4940280"/>
            <a:ext cx="2664000" cy="1297080"/>
          </a:xfrm>
          <a:prstGeom prst="parallelogram">
            <a:avLst>
              <a:gd name="adj" fmla="val 51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0360" y="4149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2000" y="5373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51577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24000" y="58770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3640" y="57340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5280" y="5661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32000" y="51498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95640" y="49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5734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40000" y="39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9:33:40Z</dcterms:created>
  <dc:creator>Зиновьевы</dc:creator>
  <dc:description/>
  <dc:language>en-US</dc:language>
  <cp:lastModifiedBy>ufssp</cp:lastModifiedBy>
  <dcterms:modified xsi:type="dcterms:W3CDTF">2011-04-14T14:07:40Z</dcterms:modified>
  <cp:revision>23</cp:revision>
  <dc:subject/>
  <dc:title>Слайд 1</dc:title>
</cp:coreProperties>
</file>