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76F-5B21-4AE1-9098-440E17BC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CBD-198E-40B6-9674-6514A81A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7ED-7828-4720-8A86-394D19C5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32F-E8B7-42C6-AE5F-452E012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7A8-FD1C-40F2-94A7-38F50282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710-54AD-49A5-B174-A0AB15B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E4F-D672-44BF-B97D-DCFC6E5B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E3E-DA98-4EE0-9C25-7DA0534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96F-A7A7-4B33-BA6F-0B3AF00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83B-10B0-44DD-906A-B168CC0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321-B2C8-4F48-8487-85CA7D0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A1C-BD63-449C-9809-A027054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E14-7E2D-447B-9A20-58C17B27E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Урок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981000"/>
            <a:ext cx="81961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 применение аксиом стер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292640"/>
            <a:ext cx="181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4111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ые а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секаются в точке О, А       а, В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     АВ. Докажите, что прямые а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очка Р лежат в од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3280" y="47772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508720" y="476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227640" y="47628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flipV="1">
            <a:off x="755640" y="2276280"/>
            <a:ext cx="35290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708280"/>
            <a:ext cx="30974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422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39640" y="3644640"/>
            <a:ext cx="4032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93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64000" y="4834080"/>
                <a:ext cx="510516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О</m:t>
                        </m:r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∈</m:t>
                        </m:r>
                        <m:r>
                          <m:t xml:space="preserve">а</m:t>
                        </m:r>
                        <m:r>
                          <m:t xml:space="preserve">,</m:t>
                        </m:r>
                        <m:r>
                          <m:t xml:space="preserve">А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t xml:space="preserve">;</m:t>
                        </m:r>
                        <m:r>
                          <m:t xml:space="preserve">В</m:t>
                        </m:r>
                        <m:r>
                          <m:t xml:space="preserve">∈</m:t>
                        </m:r>
                        <m:r>
                          <m:t xml:space="preserve">в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Р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Р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дач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анном рисунке плоскость     содержит точки А, В, С, Д, но не содержит точку М. Постройте точку К – точку пересечения прямой АВ и плоскости МСД. Лежит ли точка К в плоскости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24360" y="62064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740720" y="126828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653000"/>
            <a:ext cx="4140000" cy="1585800"/>
          </a:xfrm>
          <a:prstGeom prst="parallelogram">
            <a:avLst>
              <a:gd name="adj" fmla="val 652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508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5877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734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7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38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442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верка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42920" y="4869000"/>
            <a:ext cx="2737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619280" y="3213000"/>
            <a:ext cx="720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3284640"/>
            <a:ext cx="79236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1584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373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643280" y="2492280"/>
                <a:ext cx="41767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М</m:t>
                            </m:r>
                            <m:r>
                              <m:t xml:space="preserve">,</m:t>
                            </m:r>
                            <m:r>
                              <m:t xml:space="preserve">С</m:t>
                            </m:r>
                            <m:r>
                              <m:t xml:space="preserve">,</m:t>
                            </m:r>
                            <m:r>
                              <m:t xml:space="preserve">Д</m:t>
                            </m:r>
                            <m:d>
                              <m:dPr>
                                <m:begChr m:val=""/>
                                <m:endChr m:val="}"/>
                              </m:dPr>
                            </m:d>
                          </m:e>
                        </m:d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∩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  <m:r>
                          <m:t xml:space="preserve">⇒</m:t>
                        </m:r>
                        <m:r>
                          <m:t xml:space="preserve">К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932360" y="198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115920"/>
            <a:ext cx="16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ус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4437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5589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31640" y="4437000"/>
            <a:ext cx="71892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5280" y="4437000"/>
            <a:ext cx="7192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32000" y="4437000"/>
            <a:ext cx="3024000" cy="115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4437000"/>
            <a:ext cx="1584360" cy="115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43280" y="1844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0560" y="1844640"/>
            <a:ext cx="79236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32000" y="1844640"/>
            <a:ext cx="151128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844640"/>
            <a:ext cx="15127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844640"/>
            <a:ext cx="79200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51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414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15494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159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Д – ромб, О – точка пересечения его диагоналей, М – точка пространства, не лежащая в плоскости ромба. Точки А, Д, О лежат в плоскост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052640"/>
            <a:ext cx="450072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ределить и обосн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ие еще точки лежат в плоскост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ат ли в плоскост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ки В и 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жит ли в плоскости МОД точка 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линию пересечения плоскостей МОС и 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а О – общая точка плоскостей МОВ и МОС. Верно ли что эти плоскости пересекаются по прямой М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три прямые, лежащие в одной плоскости; не лежащие в одной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189000"/>
            <a:ext cx="12970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ус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989000"/>
            <a:ext cx="4680000" cy="2376720"/>
          </a:xfrm>
          <a:prstGeom prst="parallelogram">
            <a:avLst>
              <a:gd name="adj" fmla="val 49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87280" y="400536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V="1">
            <a:off x="1979640" y="2276280"/>
            <a:ext cx="1728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79640" y="3573000"/>
            <a:ext cx="244800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276640"/>
            <a:ext cx="71928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79640" y="2924280"/>
            <a:ext cx="208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0560" y="34225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780000" y="256500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67280" y="3141720"/>
            <a:ext cx="215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6028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ы АВ и АС треугольника АВС лежат в плоскости      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то и медиана лежит в плоскости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164360" y="1074600"/>
                <a:ext cx="3603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724360" y="716040"/>
                <a:ext cx="358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H="1">
            <a:off x="1692360" y="2492280"/>
            <a:ext cx="100800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3860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491920"/>
            <a:ext cx="9352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079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51280" y="2997000"/>
            <a:ext cx="720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71640" y="1413000"/>
            <a:ext cx="93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1413000"/>
            <a:ext cx="14292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1413000"/>
            <a:ext cx="863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49228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206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112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356000" y="3429000"/>
                <a:ext cx="3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348000" y="206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771640" y="299700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115920"/>
            <a:ext cx="18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ус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189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шибка чертежа, где О     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айте объяснение. Как должен выглядеть правиль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0360" y="260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92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9280" y="549360"/>
            <a:ext cx="57636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549360"/>
            <a:ext cx="10080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9640" y="1197000"/>
            <a:ext cx="158436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1700280"/>
            <a:ext cx="86364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03280" y="1197000"/>
            <a:ext cx="72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549360"/>
            <a:ext cx="28728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692280"/>
            <a:ext cx="719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39640" y="1988640"/>
            <a:ext cx="503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2920" y="1916280"/>
            <a:ext cx="504720" cy="7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547640" y="184428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55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26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982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1844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16000" y="0"/>
            <a:ext cx="709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ьзуясь данным рисунком, назовите: а) четыре точки, лежащие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; б)плоскость, в которой лежит прямая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в) прямую по которой пересекаются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Точка С – общая точка плоскости       и       . Прямая с проходит через точку С. Верно ли, что плоскости      и        пересекаются по прямой с. Ответ объяс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Через прямую а и точку А можно провести две различные плоскости. Каково взаимное расположение прямой а и точки А. Ответ объяс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172360" y="155736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300720" y="128592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877080" y="1268280"/>
                <a:ext cx="262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675640" y="155736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0800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68360" y="3573360"/>
            <a:ext cx="5745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3573360"/>
            <a:ext cx="28908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3573360"/>
            <a:ext cx="936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68360" y="4220640"/>
            <a:ext cx="151128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797360"/>
            <a:ext cx="8636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332000" y="4220640"/>
            <a:ext cx="64764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365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716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581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40000" y="3357720"/>
            <a:ext cx="6804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льзуясь данным рисунком назовите: а) две плоскости, содержащие прямую ДЕ; б) прямую, по которой пересекаются плоскости А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; в) плоскости, которые пересекает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ямые а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с имеют общую точку. Верно ли, что данные прямые лежат в одной плоскости? Ответ обосну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лоскости         и         пересекаются по прямой с. Прямая а лежит в плоскости      и пересекает плоскость      . Каково взаимное расположение прямых а и 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067280" y="560556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87700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95640" y="616428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16360" y="558972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692280"/>
            <a:ext cx="3168720" cy="1655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00000" y="191628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9280" y="1916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765000"/>
            <a:ext cx="0" cy="115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16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200" y="90792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33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40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981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428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ровень 3 (на карточ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333360"/>
            <a:ext cx="45370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Пользуясь данным рисунком, назовите: а) две плоскости, содержащие прямую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; б) прямую, по которой пересекаются плоскости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 и А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в) плоскость, не пересекающуюся с прямой С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781360"/>
            <a:ext cx="842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Четыре прямые попарно пересекаются. Верно ли, что если любые три из них лежат в одной плоскости, то все четыре прямые лежат в одной плоскости? Ответ объяс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ершина С плоского четырехугольника АВСД лежит в плоскости       , а а точки А, В, Д не лежат в этой плоскости. Прямые АВ и АД пересекают плоскость      в точках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оответственно. Каково взаимное расположение точек С,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? Ответ объяс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203640" y="436572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403280" y="566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388360" y="378936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4360" y="765000"/>
            <a:ext cx="7704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торить материал из планиметрии и сделать в тетрадях конспект по следующим вопрос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ределение параллельных пря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ное расположение двух прямых на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е прямой, параллельной д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сиому о параллельных пря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3:06:06Z</dcterms:created>
  <dc:creator>Зиновьевы</dc:creator>
  <dc:description/>
  <dc:language>en-US</dc:language>
  <cp:lastModifiedBy>Зиновьевы</cp:lastModifiedBy>
  <dcterms:modified xsi:type="dcterms:W3CDTF">2010-09-14T19:01:23Z</dcterms:modified>
  <cp:revision>29</cp:revision>
  <dc:subject/>
  <dc:title>Слайд 1</dc:title>
</cp:coreProperties>
</file>