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A4CD-9F2F-43D2-A59A-A462EBF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0449-8BA7-4FAB-87C5-41C6DE8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E9598-A12F-4277-B5D3-9D8C288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58EAE-8F7B-40EF-85BD-7625063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D2E0-81E7-4514-9E2C-028ECB07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71586-B7D9-45A1-959E-86D127D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432C-E675-4027-B554-23CF3714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B2FD-913F-4E5F-B7C4-78F6E24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1330-BF80-484E-8335-48AF3F4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0C32-3066-45EA-9791-8710E3CE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EE92C-D879-4F0B-BF72-53B38B5D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9CF50-1017-43DE-B723-3CB85890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F445-3EE9-4119-8D94-DD441EEB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D8C1-95F5-4406-AC20-14F5BE7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EF9F7-28E0-43B2-A7FE-5670A0D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3A59E-78FC-4217-B2F0-1BD4AAC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C524D-F5EF-4B4F-9696-16ED262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7BC9-322F-49B0-8D95-604FA8E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C03A-ADDC-48D2-99CC-5778CCC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2544E-17F2-4AAA-AC03-DBE81CC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81F17-2AEF-4418-8D46-BFEEF8EA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E35A-8F81-4CD9-8FD3-FD1809A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95AB0-BE89-47E6-ADBA-245235C5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8884-E93D-4DAD-AD8A-7B3AF670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8003A-591A-4887-841A-D98B8714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DE26-C890-4867-80DF-97F40D16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B7B2-E206-4853-A818-C17FD959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68BD-C836-4D90-9114-40298F0A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20FC9-60DB-4F4F-B237-346C9B7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EBCF8-8C26-4022-A0C5-A7BA2CE4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FCE4-0472-42A6-9955-57ADE03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8C1BE-E60F-4FC1-A0F4-E7636B5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DEB0-8963-406F-ACDB-0840310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5376-9CBC-4949-BABD-3C917AE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F7DE-19AF-4D06-8DAC-D242DCF5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DBA57-F51B-4E3C-BF3B-64EF396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2E60E-C210-4DD2-B63D-F764CBA4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3532C-4C63-4A10-ABA7-B62C24C4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48E50-987D-4EFD-BD0E-DBF9186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1105-0950-4473-876E-75F8ADA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1991F-0677-4A5F-A854-1430461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14BDE-C9AE-47B2-87A6-B2ABE62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D757C-F659-4467-968E-2F3CD479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9A0F-EA83-4A05-8E27-9F027F2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75CD3-C170-4072-8A31-50FF0E1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483B-CA24-407A-A7B5-8FF0DAA2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B3D20-E34E-4AAE-BDBC-7D5FCE5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17D30-E35B-4D23-801A-69CDB4B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97963-3AD3-4B39-ABB4-49F5FEE7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D8927-4ADE-4AF7-A383-BFD7F12F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E3147-A3E8-4DAD-9EC9-3E50BCD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FB191-A1FC-4704-95B0-468995AB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6720-B5CF-49C9-884C-2A4E7A6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3FB28-BFC1-4AC1-B127-797CCBE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1A940-AA40-42EB-9E8D-821F2B1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CE9F2-653B-4F4E-B4EE-22225E6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1713-BA01-4EBA-B6C1-89880EB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5DA27-BDE0-44BD-8BD6-634CCBB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750CA-9CCC-437D-940B-C0BB3EC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5FDAE-7816-4CFC-82C1-9A248A3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A0626-315B-4260-B831-1A8AF67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60F12-85D3-4BD5-8803-5205D918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414F8-35E8-4A7B-AFBA-779CD94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85CB2-68A3-4C9E-8673-A472C70A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7427D-B1D3-432E-9B2A-104CFD2A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F17AE-3A78-4821-AE0D-295F3A0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23FFD-7C1E-4786-BDAC-5277F5BF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73F4-E9C0-4EE2-AF57-B1337A2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F1233-80CD-448F-BFC9-23AC8679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F7982-2859-4193-8ACD-FAFD3F31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37618-6A1B-4C08-99FF-E0E771B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419E2-952D-480B-A3AD-A3319799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FA381-E9C3-4D76-8479-A182F6E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40D08-B6F7-4858-8768-B4FAF00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32CFF-422C-4640-825E-20E21E75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78D2A-2F0F-4E82-84D3-CB6CB29D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05989-2B3C-4A42-A67A-8F78B904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F7290-390F-4A39-ACCA-EF034B6A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C3F-AEE2-43CF-A787-2038EE4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D704C-B0C3-4BF7-9035-503F8234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3EF02-C30F-40F6-B490-61D526BA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BE3D1-AF98-4C5F-AA78-1125E1F5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B2D7C-7C24-41AE-BBF2-897943DE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08582-33FB-497A-A48B-F29F0B3B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8B52A-500B-428E-A6E4-6343929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146DA-50F7-4B21-A689-D2B9D25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80407-A949-4B38-AD7A-BC8244D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DF09D-F000-4917-8785-FBA9DB2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4B7B7-6CDB-40D6-91FE-97617403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6B9-47EA-43DE-9B64-584CDB5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BB7D5-F030-4B9E-B456-CF01DD9A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BAF9E-C831-4E95-AFC4-D8181E5B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FB5D6-8000-495E-A45F-837BC74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37A5F-951D-428A-A799-6B922FE4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2A612-32C7-4CCA-8251-520DE1B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E4DE1-3AC3-4437-9EDD-7D6C970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5C876-A18C-4C20-92D1-88483708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ED2C3-189A-4482-A0B1-4309D61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BDE7D-B6A0-475D-8067-1511DBA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555FF-89A9-4E37-9A83-0590BEB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4750-88DC-4B62-A4C2-8B6574B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55596-53E6-4315-A61E-AFEDF89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BEBB7-C6EF-457A-9533-55F7CA2F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3F2A9-FC9A-470C-BBF7-A228DD0C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40FD5-0AE4-43C7-899E-89D12160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1F878-4826-47F9-A646-F34CEC7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72245-C2CC-4CE8-B627-A25FE47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B1A5A-E048-4917-AF2A-8F17D30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ED1C9-5C48-4263-8DA2-1DFB1460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6C038-1DDB-4C44-A212-BEFB6BB1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598BF-228A-45B5-BAB8-4B9B976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DF9A-7469-4FB4-AC25-48669E3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97CC-54B2-466F-A983-B737A5E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DE553-4991-45EF-97DC-7BCC03F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F6EBB-C824-4148-BBB4-0E952A7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A71BE-C972-421A-8D07-9D4699D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E1ADD-3AC0-4449-B535-6E4DB8B9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5CDBD-D3D3-47AA-A206-66C4ADF6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46D-445B-4484-92BC-A1409FD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9CE0-4B6C-4DC5-9DB2-2F655D22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B20-75D8-4BA2-AD9B-E279EB5B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EA6-6481-40E0-BD06-568B0A16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7675-DA41-43D9-98E7-1DE0BC52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2F07-E170-4EC2-8F18-5A7783D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6FDF-67A2-4E00-93E1-40F6ED1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F8B3-3A18-4F41-B79E-A5C8C8FD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47AF-575B-4031-99E9-0422F4C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1202-E2E3-42AA-BA60-7070F86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46A8-99B5-4D6D-B901-3F1078F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0AFC-A1F6-442F-B578-FFF26ED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58EB-5320-4B28-ADCF-EE198EE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D47D-EF70-4972-8586-5C9EC4C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6D4F-6002-4D45-B22E-E5E370E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CA2E-CB54-48C3-9895-CB1C8E4D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1797-6850-4B90-82C4-7B9E3890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7850-849A-421F-84B4-6B8E1DBF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5F2B-25BB-4F9C-9849-5C86F89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56EF-E942-4466-A7A6-6D9338D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7D98-2757-4E23-93FC-9B5F6AE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6E8A-71FE-4C62-985F-8F843FC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39F3-E5CB-4170-BBE3-D69C455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A26A-2E1B-43FE-A24B-A8EBA2C6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F189-B7E3-4087-89FE-0B1FC7C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918A-1876-484F-BDA8-49FB571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6FB8-52CE-4616-8226-3C33055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8A80-C18C-4730-BB10-15F0EA7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8E1E-6F90-4BCC-9310-1B4AE9C6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0831-DC04-4CE1-9D2C-E2D8D6EE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4B82-B6CF-495E-8C78-2C5A10EA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F451-499D-4D66-AE3F-659EA36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6A0F-AEBA-449D-A1F4-54BB4CF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6B14-A089-4DA8-B8CA-223C503E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C4E6-67A0-48C4-9CAE-C387ED3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92AF-4F2D-457C-A964-09FC207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9672-9DA2-45DB-99E7-BE2C35A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79E4-1B6D-4EE4-8095-6C9B7C3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70DE-4A9E-47EE-B105-DC70F0F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D5B6-8E6A-4862-B613-B959B02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5792-1540-4D62-807D-E49C95A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7504-5640-474B-AAD6-5EF948EC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BED5-166C-4AD3-BCFA-0583F878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2D44-A7E4-470F-A981-1355EEAE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91D7-6DBA-4E1C-BDA3-9221A42F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5C7C-AD1D-47CF-8770-0B34171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1125-9A05-4E60-9AB2-61195B39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EBB5-EFA8-4B38-9771-EB84208B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8C2C-7E9A-4FAC-A957-474AF4C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CCD0-A05B-439D-992E-DAAD8848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44BD3-DDFF-4707-AB7C-5D91EEF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5E06-B70D-4104-A0C2-D4421204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52FC-E059-4D1C-9001-748A85E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A41C-046D-41C4-B021-AC70D64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D13F5-BA61-44E4-A0F2-4B6FD9B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EA92-B3D2-4BC0-ADD6-044F4377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111B8-75CA-40FB-842F-B5AE9816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EC87-D7C1-4E9D-AC38-8A11BAE8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83301-28F8-4ACB-8680-55DB618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748D-392E-4D95-B05C-4F70000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EBD6-1EF6-4491-A9EF-D5B7F51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AC29-5819-405A-89FD-64858731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F5A7B-23C0-438C-81A5-2EF6A57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3F0CB-AAF3-4D3C-B563-F49827C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85E4-A4C7-4F0B-A97F-F5CD9F6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BEB0B-8A6C-409B-B532-CFF30C5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3C51-BD58-494E-9885-7FAFD2C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0E20-7C8F-4B7B-8BFF-1579784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7A21-25FB-42E5-AAE9-8A2A7BF3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8B2A8-9630-481F-ADB8-B50E0FB8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3629-0582-4219-9876-3BA3128B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6D09-52C4-4D50-B8A5-E713B09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78CC-B691-4B24-AF7C-ACFD903C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F143-878F-46D0-A1D9-286DD50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8A17-090A-4048-B0F2-5886D18C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CDA1-E6E5-456F-A41A-D675B6D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36BD9-2BE0-4E01-ADAE-E322E95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C159-D53E-42B2-BFA2-7E370A6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8742D-CFFB-4176-966F-72FBE72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57C6-E223-47B1-8E03-6705D84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F650-A9AD-40BA-B858-D64C350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41A8-D5E0-4304-A9B8-79EC7BDA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591C-9E8E-46EC-8E03-6D1C10F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C9E86-1BE2-4760-A277-8ACD0D44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9D753-0F23-4397-A45E-7FAEB70D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44181-F768-4F14-81C8-1CD5CC8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569E-AF55-4F0F-96C3-4B54BA89E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5CB-42BE-4C85-B379-6B8C77AE4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619" name="Group 3"/>
            <p:cNvGrpSpPr/>
            <p:nvPr/>
          </p:nvGrpSpPr>
          <p:grpSpPr>
            <a:xfrm>
              <a:off x="3484080" y="956160"/>
              <a:ext cx="945720" cy="709920"/>
              <a:chOff x="3484080" y="956160"/>
              <a:chExt cx="945720" cy="709920"/>
            </a:xfrm>
          </p:grpSpPr>
          <p:sp>
            <p:nvSpPr>
              <p:cNvPr id="620" name="Oval 4"/>
              <p:cNvSpPr/>
              <p:nvPr/>
            </p:nvSpPr>
            <p:spPr>
              <a:xfrm>
                <a:off x="3484080" y="9561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"/>
              <p:cNvSpPr/>
              <p:nvPr/>
            </p:nvSpPr>
            <p:spPr>
              <a:xfrm>
                <a:off x="3823920" y="12679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2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62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24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625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6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28" name="Group 12"/>
                  <p:cNvGrpSpPr/>
                  <p:nvPr/>
                </p:nvGrpSpPr>
                <p:grpSpPr>
                  <a:xfrm>
                    <a:off x="5761080" y="2321280"/>
                    <a:ext cx="2559600" cy="2739960"/>
                    <a:chOff x="5761080" y="2321280"/>
                    <a:chExt cx="2559600" cy="2739960"/>
                  </a:xfrm>
                </p:grpSpPr>
                <p:sp>
                  <p:nvSpPr>
                    <p:cNvPr id="629" name="Freeform 13"/>
                    <p:cNvSpPr/>
                    <p:nvPr/>
                  </p:nvSpPr>
                  <p:spPr>
                    <a:xfrm rot="2711400">
                      <a:off x="558360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0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1" name="Group 15"/>
                  <p:cNvGrpSpPr/>
                  <p:nvPr/>
                </p:nvGrpSpPr>
                <p:grpSpPr>
                  <a:xfrm>
                    <a:off x="5787720" y="2144160"/>
                    <a:ext cx="3039480" cy="2529720"/>
                    <a:chOff x="5787720" y="2144160"/>
                    <a:chExt cx="3039480" cy="2529720"/>
                  </a:xfrm>
                </p:grpSpPr>
                <p:sp>
                  <p:nvSpPr>
                    <p:cNvPr id="632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3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4" name="Group 18"/>
                  <p:cNvGrpSpPr/>
                  <p:nvPr/>
                </p:nvGrpSpPr>
                <p:grpSpPr>
                  <a:xfrm>
                    <a:off x="5774760" y="2061000"/>
                    <a:ext cx="3097800" cy="1993320"/>
                    <a:chOff x="5774760" y="2061000"/>
                    <a:chExt cx="3097800" cy="1993320"/>
                  </a:xfrm>
                </p:grpSpPr>
                <p:sp>
                  <p:nvSpPr>
                    <p:cNvPr id="635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6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7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638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9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0" name="Group 24"/>
                  <p:cNvGrpSpPr/>
                  <p:nvPr/>
                </p:nvGrpSpPr>
                <p:grpSpPr>
                  <a:xfrm>
                    <a:off x="5805720" y="1874880"/>
                    <a:ext cx="2939040" cy="1002960"/>
                    <a:chOff x="5805720" y="1874880"/>
                    <a:chExt cx="2939040" cy="1002960"/>
                  </a:xfrm>
                </p:grpSpPr>
                <p:sp>
                  <p:nvSpPr>
                    <p:cNvPr id="641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2" name="Freeform 26"/>
                    <p:cNvSpPr/>
                    <p:nvPr/>
                  </p:nvSpPr>
                  <p:spPr>
                    <a:xfrm rot="463200">
                      <a:off x="7685640" y="22082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3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644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5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6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647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8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9" name="Group 33"/>
                  <p:cNvGrpSpPr/>
                  <p:nvPr/>
                </p:nvGrpSpPr>
                <p:grpSpPr>
                  <a:xfrm>
                    <a:off x="2646360" y="2471760"/>
                    <a:ext cx="2556720" cy="2740680"/>
                    <a:chOff x="2646360" y="2471760"/>
                    <a:chExt cx="2556720" cy="2740680"/>
                  </a:xfrm>
                </p:grpSpPr>
                <p:sp>
                  <p:nvSpPr>
                    <p:cNvPr id="650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1" name="Freeform 35"/>
                    <p:cNvSpPr/>
                    <p:nvPr/>
                  </p:nvSpPr>
                  <p:spPr>
                    <a:xfrm flipH="1" rot="18888600">
                      <a:off x="2691360" y="42922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2" name="Group 36"/>
                  <p:cNvGrpSpPr/>
                  <p:nvPr/>
                </p:nvGrpSpPr>
                <p:grpSpPr>
                  <a:xfrm>
                    <a:off x="2084040" y="2365920"/>
                    <a:ext cx="3039480" cy="2531520"/>
                    <a:chOff x="2084040" y="2365920"/>
                    <a:chExt cx="3039480" cy="2531520"/>
                  </a:xfrm>
                </p:grpSpPr>
                <p:sp>
                  <p:nvSpPr>
                    <p:cNvPr id="653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4" name="Freeform 38"/>
                    <p:cNvSpPr/>
                    <p:nvPr/>
                  </p:nvSpPr>
                  <p:spPr>
                    <a:xfrm flipH="1" rot="19496400">
                      <a:off x="2167920" y="394020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5" name="Group 39"/>
                  <p:cNvGrpSpPr/>
                  <p:nvPr/>
                </p:nvGrpSpPr>
                <p:grpSpPr>
                  <a:xfrm>
                    <a:off x="2040120" y="2278080"/>
                    <a:ext cx="3097080" cy="1992240"/>
                    <a:chOff x="2040120" y="2278080"/>
                    <a:chExt cx="3097080" cy="1992240"/>
                  </a:xfrm>
                </p:grpSpPr>
                <p:sp>
                  <p:nvSpPr>
                    <p:cNvPr id="656" name="Freeform 40"/>
                    <p:cNvSpPr/>
                    <p:nvPr/>
                  </p:nvSpPr>
                  <p:spPr>
                    <a:xfrm flipH="1" rot="20017200">
                      <a:off x="3023640" y="27338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7" name="Freeform 41"/>
                    <p:cNvSpPr/>
                    <p:nvPr/>
                  </p:nvSpPr>
                  <p:spPr>
                    <a:xfrm flipH="1" rot="20017200">
                      <a:off x="2110320" y="3458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8" name="Group 42"/>
                  <p:cNvGrpSpPr/>
                  <p:nvPr/>
                </p:nvGrpSpPr>
                <p:grpSpPr>
                  <a:xfrm>
                    <a:off x="2010960" y="2185560"/>
                    <a:ext cx="3134160" cy="1607400"/>
                    <a:chOff x="2010960" y="2185560"/>
                    <a:chExt cx="3134160" cy="1607400"/>
                  </a:xfrm>
                </p:grpSpPr>
                <p:sp>
                  <p:nvSpPr>
                    <p:cNvPr id="659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0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1" name="Group 45"/>
                  <p:cNvGrpSpPr/>
                  <p:nvPr/>
                </p:nvGrpSpPr>
                <p:grpSpPr>
                  <a:xfrm>
                    <a:off x="2167560" y="2093400"/>
                    <a:ext cx="2937240" cy="1004040"/>
                    <a:chOff x="2167560" y="2093400"/>
                    <a:chExt cx="2937240" cy="1004040"/>
                  </a:xfrm>
                </p:grpSpPr>
                <p:sp>
                  <p:nvSpPr>
                    <p:cNvPr id="662" name="Freeform 46"/>
                    <p:cNvSpPr/>
                    <p:nvPr/>
                  </p:nvSpPr>
                  <p:spPr>
                    <a:xfrm flipH="1" rot="21136800">
                      <a:off x="3183480" y="221940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3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4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665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6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7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668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9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0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671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2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3" name="Group 57"/>
                  <p:cNvGrpSpPr/>
                  <p:nvPr/>
                </p:nvGrpSpPr>
                <p:grpSpPr>
                  <a:xfrm>
                    <a:off x="3161520" y="828000"/>
                    <a:ext cx="2169720" cy="1505880"/>
                    <a:chOff x="3161520" y="828000"/>
                    <a:chExt cx="2169720" cy="1505880"/>
                  </a:xfrm>
                </p:grpSpPr>
                <p:sp>
                  <p:nvSpPr>
                    <p:cNvPr id="674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60"/>
                  <p:cNvGrpSpPr/>
                  <p:nvPr/>
                </p:nvGrpSpPr>
                <p:grpSpPr>
                  <a:xfrm>
                    <a:off x="3437280" y="435240"/>
                    <a:ext cx="1987560" cy="1828440"/>
                    <a:chOff x="3437280" y="435240"/>
                    <a:chExt cx="1987560" cy="1828440"/>
                  </a:xfrm>
                </p:grpSpPr>
                <p:sp>
                  <p:nvSpPr>
                    <p:cNvPr id="677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62"/>
                    <p:cNvSpPr/>
                    <p:nvPr/>
                  </p:nvSpPr>
                  <p:spPr>
                    <a:xfrm flipH="1" rot="2664600">
                      <a:off x="3464280" y="66528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63"/>
                  <p:cNvGrpSpPr/>
                  <p:nvPr/>
                </p:nvGrpSpPr>
                <p:grpSpPr>
                  <a:xfrm>
                    <a:off x="4028400" y="324360"/>
                    <a:ext cx="1461600" cy="1895760"/>
                    <a:chOff x="4028400" y="324360"/>
                    <a:chExt cx="1461600" cy="1895760"/>
                  </a:xfrm>
                </p:grpSpPr>
                <p:sp>
                  <p:nvSpPr>
                    <p:cNvPr id="680" name="Freeform 64"/>
                    <p:cNvSpPr/>
                    <p:nvPr/>
                  </p:nvSpPr>
                  <p:spPr>
                    <a:xfrm flipH="1" rot="3474000">
                      <a:off x="4335840" y="144108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65"/>
                    <p:cNvSpPr/>
                    <p:nvPr/>
                  </p:nvSpPr>
                  <p:spPr>
                    <a:xfrm flipH="1" rot="3474000">
                      <a:off x="4033800" y="53496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66"/>
                  <p:cNvGrpSpPr/>
                  <p:nvPr/>
                </p:nvGrpSpPr>
                <p:grpSpPr>
                  <a:xfrm>
                    <a:off x="4448160" y="245520"/>
                    <a:ext cx="1122120" cy="1947240"/>
                    <a:chOff x="4448160" y="245520"/>
                    <a:chExt cx="1122120" cy="1947240"/>
                  </a:xfrm>
                </p:grpSpPr>
                <p:sp>
                  <p:nvSpPr>
                    <p:cNvPr id="683" name="Freeform 67"/>
                    <p:cNvSpPr/>
                    <p:nvPr/>
                  </p:nvSpPr>
                  <p:spPr>
                    <a:xfrm flipH="1" rot="4126800">
                      <a:off x="4555800" y="140256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68"/>
                    <p:cNvSpPr/>
                    <p:nvPr/>
                  </p:nvSpPr>
                  <p:spPr>
                    <a:xfrm flipH="1" rot="4126800">
                      <a:off x="441684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69"/>
                  <p:cNvGrpSpPr/>
                  <p:nvPr/>
                </p:nvGrpSpPr>
                <p:grpSpPr>
                  <a:xfrm>
                    <a:off x="5661720" y="948240"/>
                    <a:ext cx="2318760" cy="1112400"/>
                    <a:chOff x="5661720" y="948240"/>
                    <a:chExt cx="2318760" cy="1112400"/>
                  </a:xfrm>
                </p:grpSpPr>
                <p:sp>
                  <p:nvSpPr>
                    <p:cNvPr id="686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689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91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2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3" name="Group 77"/>
                  <p:cNvGrpSpPr/>
                  <p:nvPr/>
                </p:nvGrpSpPr>
                <p:grpSpPr>
                  <a:xfrm>
                    <a:off x="5358240" y="267840"/>
                    <a:ext cx="1191600" cy="1897560"/>
                    <a:chOff x="5358240" y="267840"/>
                    <a:chExt cx="1191600" cy="1897560"/>
                  </a:xfrm>
                </p:grpSpPr>
                <p:sp>
                  <p:nvSpPr>
                    <p:cNvPr id="694" name="Freeform 78"/>
                    <p:cNvSpPr/>
                    <p:nvPr/>
                  </p:nvSpPr>
                  <p:spPr>
                    <a:xfrm rot="17742000">
                      <a:off x="5089680" y="1413360"/>
                      <a:ext cx="130824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6" name="Group 80"/>
                  <p:cNvGrpSpPr/>
                  <p:nvPr/>
                </p:nvGrpSpPr>
                <p:grpSpPr>
                  <a:xfrm>
                    <a:off x="5350680" y="381600"/>
                    <a:ext cx="1889640" cy="1796760"/>
                    <a:chOff x="5350680" y="381600"/>
                    <a:chExt cx="1889640" cy="1796760"/>
                  </a:xfrm>
                </p:grpSpPr>
                <p:sp>
                  <p:nvSpPr>
                    <p:cNvPr id="697" name="Freeform 81"/>
                    <p:cNvSpPr/>
                    <p:nvPr/>
                  </p:nvSpPr>
                  <p:spPr>
                    <a:xfrm rot="18822600">
                      <a:off x="5250600" y="1380960"/>
                      <a:ext cx="142668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8" name="Freeform 82"/>
                    <p:cNvSpPr/>
                    <p:nvPr/>
                  </p:nvSpPr>
                  <p:spPr>
                    <a:xfrm rot="18822600">
                      <a:off x="6402960" y="57852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9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700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1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2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703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4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5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706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7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8" name="Group 92"/>
                  <p:cNvGrpSpPr/>
                  <p:nvPr/>
                </p:nvGrpSpPr>
                <p:grpSpPr>
                  <a:xfrm>
                    <a:off x="4507560" y="2694960"/>
                    <a:ext cx="876600" cy="2932560"/>
                    <a:chOff x="4507560" y="2694960"/>
                    <a:chExt cx="876600" cy="2932560"/>
                  </a:xfrm>
                </p:grpSpPr>
                <p:sp>
                  <p:nvSpPr>
                    <p:cNvPr id="709" name="Freeform 93"/>
                    <p:cNvSpPr/>
                    <p:nvPr/>
                  </p:nvSpPr>
                  <p:spPr>
                    <a:xfrm flipH="1" rot="16870800">
                      <a:off x="4084920" y="3483000"/>
                      <a:ext cx="189180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0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1" name="Group 95"/>
                  <p:cNvGrpSpPr/>
                  <p:nvPr/>
                </p:nvGrpSpPr>
                <p:grpSpPr>
                  <a:xfrm>
                    <a:off x="5678280" y="2479320"/>
                    <a:ext cx="2280600" cy="2955240"/>
                    <a:chOff x="5678280" y="2479320"/>
                    <a:chExt cx="2280600" cy="2955240"/>
                  </a:xfrm>
                </p:grpSpPr>
                <p:sp>
                  <p:nvSpPr>
                    <p:cNvPr id="712" name="Freeform 96"/>
                    <p:cNvSpPr/>
                    <p:nvPr/>
                  </p:nvSpPr>
                  <p:spPr>
                    <a:xfrm rot="3144000">
                      <a:off x="5415120" y="3247560"/>
                      <a:ext cx="2128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3" name="Freeform 97"/>
                    <p:cNvSpPr/>
                    <p:nvPr/>
                  </p:nvSpPr>
                  <p:spPr>
                    <a:xfrm rot="3144000">
                      <a:off x="680148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4" name="Group 98"/>
                  <p:cNvGrpSpPr/>
                  <p:nvPr/>
                </p:nvGrpSpPr>
                <p:grpSpPr>
                  <a:xfrm>
                    <a:off x="5646600" y="2591640"/>
                    <a:ext cx="1757880" cy="3031200"/>
                    <a:chOff x="5646600" y="2591640"/>
                    <a:chExt cx="1757880" cy="3031200"/>
                  </a:xfrm>
                </p:grpSpPr>
                <p:sp>
                  <p:nvSpPr>
                    <p:cNvPr id="715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6" name="Freeform 100"/>
                    <p:cNvSpPr/>
                    <p:nvPr/>
                  </p:nvSpPr>
                  <p:spPr>
                    <a:xfrm rot="3745200">
                      <a:off x="635220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7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718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9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0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721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2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3" name="Group 107"/>
                  <p:cNvGrpSpPr/>
                  <p:nvPr/>
                </p:nvGrpSpPr>
                <p:grpSpPr>
                  <a:xfrm>
                    <a:off x="4965120" y="2882520"/>
                    <a:ext cx="663480" cy="2719800"/>
                    <a:chOff x="4965120" y="2882520"/>
                    <a:chExt cx="663480" cy="2719800"/>
                  </a:xfrm>
                </p:grpSpPr>
                <p:sp>
                  <p:nvSpPr>
                    <p:cNvPr id="724" name="Freeform 108"/>
                    <p:cNvSpPr/>
                    <p:nvPr/>
                  </p:nvSpPr>
                  <p:spPr>
                    <a:xfrm rot="5755200">
                      <a:off x="4533480" y="366192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5" name="Freeform 109"/>
                    <p:cNvSpPr/>
                    <p:nvPr/>
                  </p:nvSpPr>
                  <p:spPr>
                    <a:xfrm rot="5755200">
                      <a:off x="4718880" y="492840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26" name="Group 110"/>
              <p:cNvGrpSpPr/>
              <p:nvPr/>
            </p:nvGrpSpPr>
            <p:grpSpPr>
              <a:xfrm>
                <a:off x="2174400" y="677880"/>
                <a:ext cx="6732720" cy="4525200"/>
                <a:chOff x="2174400" y="677880"/>
                <a:chExt cx="6732720" cy="4525200"/>
              </a:xfrm>
            </p:grpSpPr>
            <p:grpSp>
              <p:nvGrpSpPr>
                <p:cNvPr id="727" name="Group 111"/>
                <p:cNvGrpSpPr/>
                <p:nvPr/>
              </p:nvGrpSpPr>
              <p:grpSpPr>
                <a:xfrm>
                  <a:off x="2174400" y="677880"/>
                  <a:ext cx="6732720" cy="4525200"/>
                  <a:chOff x="2174400" y="677880"/>
                  <a:chExt cx="6732720" cy="4525200"/>
                </a:xfrm>
              </p:grpSpPr>
              <p:sp>
                <p:nvSpPr>
                  <p:cNvPr id="728" name="Arc 112"/>
                  <p:cNvSpPr/>
                  <p:nvPr/>
                </p:nvSpPr>
                <p:spPr>
                  <a:xfrm flipV="1">
                    <a:off x="5740560" y="851400"/>
                    <a:ext cx="3166560" cy="25286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Arc 113"/>
                  <p:cNvSpPr/>
                  <p:nvPr/>
                </p:nvSpPr>
                <p:spPr>
                  <a:xfrm flipH="1">
                    <a:off x="2561400" y="2268360"/>
                    <a:ext cx="24868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Arc 114"/>
                  <p:cNvSpPr/>
                  <p:nvPr/>
                </p:nvSpPr>
                <p:spPr>
                  <a:xfrm>
                    <a:off x="5818320" y="1747440"/>
                    <a:ext cx="1758240" cy="2938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Arc 115"/>
                  <p:cNvSpPr/>
                  <p:nvPr/>
                </p:nvSpPr>
                <p:spPr>
                  <a:xfrm flipH="1">
                    <a:off x="2174400" y="129384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Freeform 118"/>
                  <p:cNvSpPr/>
                  <p:nvPr/>
                </p:nvSpPr>
                <p:spPr>
                  <a:xfrm flipH="1">
                    <a:off x="4302000" y="82980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5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36" name="Group 120"/>
            <p:cNvGrpSpPr/>
            <p:nvPr/>
          </p:nvGrpSpPr>
          <p:grpSpPr>
            <a:xfrm>
              <a:off x="2343960" y="735120"/>
              <a:ext cx="6411960" cy="4712040"/>
              <a:chOff x="2343960" y="735120"/>
              <a:chExt cx="6411960" cy="4712040"/>
            </a:xfrm>
          </p:grpSpPr>
          <p:sp>
            <p:nvSpPr>
              <p:cNvPr id="737" name="Freeform 121"/>
              <p:cNvSpPr/>
              <p:nvPr/>
            </p:nvSpPr>
            <p:spPr>
              <a:xfrm flipH="1">
                <a:off x="4470840" y="32590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Arc 122"/>
              <p:cNvSpPr/>
              <p:nvPr/>
            </p:nvSpPr>
            <p:spPr>
              <a:xfrm flipH="1">
                <a:off x="3385440" y="260352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Arc 123"/>
              <p:cNvSpPr/>
              <p:nvPr/>
            </p:nvSpPr>
            <p:spPr>
              <a:xfrm flipH="1">
                <a:off x="3646800" y="214560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Arc 124"/>
              <p:cNvSpPr/>
              <p:nvPr/>
            </p:nvSpPr>
            <p:spPr>
              <a:xfrm flipH="1">
                <a:off x="2343600" y="176184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Arc 125"/>
              <p:cNvSpPr/>
              <p:nvPr/>
            </p:nvSpPr>
            <p:spPr>
              <a:xfrm>
                <a:off x="5588640" y="217404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Arc 126"/>
              <p:cNvSpPr/>
              <p:nvPr/>
            </p:nvSpPr>
            <p:spPr>
              <a:xfrm>
                <a:off x="5711760" y="216036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27"/>
              <p:cNvSpPr/>
              <p:nvPr/>
            </p:nvSpPr>
            <p:spPr>
              <a:xfrm>
                <a:off x="6155640" y="3571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28"/>
              <p:cNvSpPr/>
              <p:nvPr/>
            </p:nvSpPr>
            <p:spPr>
              <a:xfrm flipV="1" rot="19660800">
                <a:off x="5227200" y="297072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29"/>
              <p:cNvSpPr/>
              <p:nvPr/>
            </p:nvSpPr>
            <p:spPr>
              <a:xfrm flipH="1">
                <a:off x="2688120" y="340848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30"/>
              <p:cNvSpPr/>
              <p:nvPr/>
            </p:nvSpPr>
            <p:spPr>
              <a:xfrm flipH="1">
                <a:off x="3318840" y="142128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31"/>
              <p:cNvSpPr/>
              <p:nvPr/>
            </p:nvSpPr>
            <p:spPr>
              <a:xfrm>
                <a:off x="7513920" y="31320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32"/>
              <p:cNvSpPr/>
              <p:nvPr/>
            </p:nvSpPr>
            <p:spPr>
              <a:xfrm>
                <a:off x="6868800" y="213336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3"/>
              <p:cNvSpPr/>
              <p:nvPr/>
            </p:nvSpPr>
            <p:spPr>
              <a:xfrm>
                <a:off x="6937920" y="73512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34"/>
              <p:cNvSpPr/>
              <p:nvPr/>
            </p:nvSpPr>
            <p:spPr>
              <a:xfrm flipH="1" rot="1347000">
                <a:off x="4183920" y="21780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1D0E-E38E-401A-B556-6AB4F33F707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93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1A3-45E1-473B-BE70-B515E180C7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52B-98BD-4ED8-8AA7-94DB903C80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88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88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408-7430-4369-A09E-7A0A2883E064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4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934-7D8C-47F8-A87E-B8006E52BB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85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7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88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2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4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4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4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896-AF56-4984-A525-64810F1C23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035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5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5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896-ADBE-46C0-BFC4-890E0955E42A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5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6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72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73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1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82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4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85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8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91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94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7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9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2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0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06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9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7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8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27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2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3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38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47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50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3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5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62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65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8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77B-95B1-4D78-A9B8-83BD475B089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3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3B6-A2D5-440A-B450-5342229C3F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3805-8CE2-435B-88F4-997C14BDE6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1B72-E44F-4609-BFB1-70066A92C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7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11D-048C-4549-905E-1B27202EBB5E}" type="slidenum"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8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55C-6C87-44B6-8D91-5AE59BEDFD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6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1BE-6A79-4210-9984-691CFBF868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6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5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7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613-47E7-4A4A-BA50-0641F0E089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1f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лшебный мир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женщины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1" name="Picture 7" descr="сканирование0015"/>
          <p:cNvPicPr/>
          <p:nvPr/>
        </p:nvPicPr>
        <p:blipFill>
          <a:blip r:embed="rId1"/>
          <a:stretch/>
        </p:blipFill>
        <p:spPr>
          <a:xfrm rot="20156400">
            <a:off x="1135080" y="1940040"/>
            <a:ext cx="2381400" cy="432108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1082" name="TextBox 9"/>
          <p:cNvSpPr/>
          <p:nvPr/>
        </p:nvSpPr>
        <p:spPr>
          <a:xfrm>
            <a:off x="3573360" y="3143160"/>
            <a:ext cx="48045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зентация на т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тделка и аксессу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швейных изделия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: учитель шв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«Школа – интернат № 3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йх Светлана Викт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Во  всем  блеске!!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5" name="Picture 4" descr="сканирование0059"/>
          <p:cNvPicPr/>
          <p:nvPr/>
        </p:nvPicPr>
        <p:blipFill>
          <a:blip r:embed="rId1"/>
          <a:srcRect l="0" t="-6887" r="0" b="0"/>
          <a:stretch/>
        </p:blipFill>
        <p:spPr>
          <a:xfrm>
            <a:off x="3276720" y="1268280"/>
            <a:ext cx="2089080" cy="55897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сканирование0061"/>
          <p:cNvPicPr/>
          <p:nvPr/>
        </p:nvPicPr>
        <p:blipFill>
          <a:blip r:embed="rId2"/>
          <a:stretch/>
        </p:blipFill>
        <p:spPr>
          <a:xfrm rot="1715400">
            <a:off x="6516720" y="3357360"/>
            <a:ext cx="1440000" cy="172080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7" name="Picture 7" descr="сканирование0060"/>
          <p:cNvPicPr/>
          <p:nvPr/>
        </p:nvPicPr>
        <p:blipFill>
          <a:blip r:embed="rId3"/>
          <a:stretch/>
        </p:blipFill>
        <p:spPr>
          <a:xfrm rot="21047400">
            <a:off x="971640" y="1773360"/>
            <a:ext cx="1657440" cy="1295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8" name="Picture 8" descr="сканирование0063"/>
          <p:cNvPicPr/>
          <p:nvPr/>
        </p:nvPicPr>
        <p:blipFill>
          <a:blip r:embed="rId4"/>
          <a:stretch/>
        </p:blipFill>
        <p:spPr>
          <a:xfrm rot="1818600">
            <a:off x="7075080" y="1790640"/>
            <a:ext cx="1108080" cy="881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9" name="Picture 9" descr="сканирование0062"/>
          <p:cNvPicPr/>
          <p:nvPr/>
        </p:nvPicPr>
        <p:blipFill>
          <a:blip r:embed="rId5"/>
          <a:stretch/>
        </p:blipFill>
        <p:spPr>
          <a:xfrm rot="20883600">
            <a:off x="1045800" y="3855960"/>
            <a:ext cx="1500120" cy="129384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Модно и эффектно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1" name="Picture 7" descr="сканирование0040"/>
          <p:cNvPicPr/>
          <p:nvPr/>
        </p:nvPicPr>
        <p:blipFill>
          <a:blip r:embed="rId1"/>
          <a:stretch/>
        </p:blipFill>
        <p:spPr>
          <a:xfrm>
            <a:off x="3714840" y="1785960"/>
            <a:ext cx="1974600" cy="4754520"/>
          </a:xfrm>
          <a:prstGeom prst="rect">
            <a:avLst/>
          </a:prstGeom>
          <a:ln w="31680">
            <a:solidFill>
              <a:srgbClr val="00ccff"/>
            </a:solidFill>
            <a:miter/>
          </a:ln>
        </p:spPr>
      </p:pic>
      <p:pic>
        <p:nvPicPr>
          <p:cNvPr id="1122" name="Picture 8" descr="сканирование0030"/>
          <p:cNvPicPr/>
          <p:nvPr/>
        </p:nvPicPr>
        <p:blipFill>
          <a:blip r:embed="rId2"/>
          <a:stretch/>
        </p:blipFill>
        <p:spPr>
          <a:xfrm>
            <a:off x="428760" y="1643040"/>
            <a:ext cx="2158920" cy="489744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123" name="Picture 10" descr="сканирование0037"/>
          <p:cNvPicPr/>
          <p:nvPr/>
        </p:nvPicPr>
        <p:blipFill>
          <a:blip r:embed="rId3"/>
          <a:stretch/>
        </p:blipFill>
        <p:spPr>
          <a:xfrm>
            <a:off x="7000920" y="1928880"/>
            <a:ext cx="1798560" cy="456228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24" name="Picture 17" descr=""/>
          <p:cNvPicPr/>
          <p:nvPr/>
        </p:nvPicPr>
        <p:blipFill>
          <a:blip r:embed="rId4"/>
          <a:stretch/>
        </p:blipFill>
        <p:spPr>
          <a:xfrm>
            <a:off x="7715160" y="642960"/>
            <a:ext cx="986040" cy="1079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енщина – красота и гармония!!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6" name="Picture 9" descr=""/>
          <p:cNvPicPr/>
          <p:nvPr/>
        </p:nvPicPr>
        <p:blipFill>
          <a:blip r:embed="rId1"/>
          <a:srcRect l="7317" t="7315" r="0" b="12156"/>
          <a:stretch/>
        </p:blipFill>
        <p:spPr>
          <a:xfrm>
            <a:off x="285840" y="5643720"/>
            <a:ext cx="77616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5" descr="сканирование0038"/>
          <p:cNvPicPr/>
          <p:nvPr/>
        </p:nvPicPr>
        <p:blipFill>
          <a:blip r:embed="rId2"/>
          <a:stretch/>
        </p:blipFill>
        <p:spPr>
          <a:xfrm>
            <a:off x="1214280" y="1500120"/>
            <a:ext cx="2160720" cy="4942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7" descr="сканирование0049"/>
          <p:cNvPicPr/>
          <p:nvPr/>
        </p:nvPicPr>
        <p:blipFill>
          <a:blip r:embed="rId3"/>
          <a:stretch/>
        </p:blipFill>
        <p:spPr>
          <a:xfrm>
            <a:off x="4214880" y="1571760"/>
            <a:ext cx="1272960" cy="4935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8" descr="сканирование0050"/>
          <p:cNvPicPr/>
          <p:nvPr/>
        </p:nvPicPr>
        <p:blipFill>
          <a:blip r:embed="rId4"/>
          <a:stretch/>
        </p:blipFill>
        <p:spPr>
          <a:xfrm>
            <a:off x="6588000" y="1628640"/>
            <a:ext cx="1397160" cy="4824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сканирование0001"/>
          <p:cNvPicPr/>
          <p:nvPr/>
        </p:nvPicPr>
        <p:blipFill>
          <a:blip r:embed="rId1"/>
          <a:stretch/>
        </p:blipFill>
        <p:spPr>
          <a:xfrm rot="20722200">
            <a:off x="874440" y="1528560"/>
            <a:ext cx="2933640" cy="504000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084" name="Picture 6" descr="сканирование0003"/>
          <p:cNvPicPr/>
          <p:nvPr/>
        </p:nvPicPr>
        <p:blipFill>
          <a:blip r:embed="rId2"/>
          <a:stretch/>
        </p:blipFill>
        <p:spPr>
          <a:xfrm rot="1171200">
            <a:off x="6875280" y="2205000"/>
            <a:ext cx="1728720" cy="223056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1085" name="WordArt 8"/>
          <p:cNvSpPr txBox="1"/>
          <p:nvPr/>
        </p:nvSpPr>
        <p:spPr>
          <a:xfrm>
            <a:off x="500040" y="214200"/>
            <a:ext cx="8424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205f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ы - во всем своём великолепии</a:t>
            </a:r>
            <a:endParaRPr b="0" lang="en-US" sz="4000" spc="1" strike="noStrike">
              <a:ln w="0">
                <a:noFill/>
              </a:ln>
              <a:solidFill>
                <a:srgbClr val="2205f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43a0c"/>
                </a:solidFill>
                <a:latin typeface="Arial"/>
              </a:rPr>
              <a:t>Ваш стиль – изысканная простота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5" descr="сканирование0004"/>
          <p:cNvPicPr/>
          <p:nvPr/>
        </p:nvPicPr>
        <p:blipFill>
          <a:blip r:embed="rId1"/>
          <a:stretch/>
        </p:blipFill>
        <p:spPr>
          <a:xfrm rot="1806600">
            <a:off x="6659640" y="2997000"/>
            <a:ext cx="1806480" cy="23414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88" name="Picture 6" descr="сканирование0006"/>
          <p:cNvPicPr/>
          <p:nvPr/>
        </p:nvPicPr>
        <p:blipFill>
          <a:blip r:embed="rId2"/>
          <a:stretch/>
        </p:blipFill>
        <p:spPr>
          <a:xfrm>
            <a:off x="3203640" y="2133720"/>
            <a:ext cx="2305080" cy="38890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1089" name="Picture 8" descr="j0281904"/>
          <p:cNvPicPr/>
          <p:nvPr/>
        </p:nvPicPr>
        <p:blipFill>
          <a:blip r:embed="rId3"/>
          <a:stretch/>
        </p:blipFill>
        <p:spPr>
          <a:xfrm rot="19938000">
            <a:off x="527040" y="2890440"/>
            <a:ext cx="2041560" cy="19303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p:transition advTm="3000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Интересный  нюан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1" name="Picture 5" descr="сканирование0016"/>
          <p:cNvPicPr/>
          <p:nvPr/>
        </p:nvPicPr>
        <p:blipFill>
          <a:blip r:embed="rId1"/>
          <a:stretch/>
        </p:blipFill>
        <p:spPr>
          <a:xfrm rot="1017000">
            <a:off x="5598720" y="1609200"/>
            <a:ext cx="2600280" cy="42912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092" name="Picture 6" descr="сканирование0017"/>
          <p:cNvPicPr/>
          <p:nvPr/>
        </p:nvPicPr>
        <p:blipFill>
          <a:blip r:embed="rId2"/>
          <a:stretch/>
        </p:blipFill>
        <p:spPr>
          <a:xfrm rot="19779600">
            <a:off x="1187280" y="1557000"/>
            <a:ext cx="2737080" cy="4338720"/>
          </a:xfrm>
          <a:prstGeom prst="rect">
            <a:avLst/>
          </a:prstGeom>
          <a:ln w="31680">
            <a:solidFill>
              <a:srgbClr val="ee941c"/>
            </a:solidFill>
            <a:miter/>
          </a:ln>
        </p:spPr>
      </p:pic>
    </p:spTree>
  </p:cSld>
  <p:transition advTm="3000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ьше   крас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4" name="Picture 4" descr="сканирование0009"/>
          <p:cNvPicPr/>
          <p:nvPr/>
        </p:nvPicPr>
        <p:blipFill>
          <a:blip r:embed="rId1"/>
          <a:stretch/>
        </p:blipFill>
        <p:spPr>
          <a:xfrm rot="21058800">
            <a:off x="461520" y="1774800"/>
            <a:ext cx="2313000" cy="42498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5" name="Picture 5" descr="сканирование0012"/>
          <p:cNvPicPr/>
          <p:nvPr/>
        </p:nvPicPr>
        <p:blipFill>
          <a:blip r:embed="rId2"/>
          <a:stretch/>
        </p:blipFill>
        <p:spPr>
          <a:xfrm rot="20674200">
            <a:off x="3247560" y="4586040"/>
            <a:ext cx="1892520" cy="15145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6" name="Picture 6" descr="сканирование0010"/>
          <p:cNvPicPr/>
          <p:nvPr/>
        </p:nvPicPr>
        <p:blipFill>
          <a:blip r:embed="rId3"/>
          <a:stretch/>
        </p:blipFill>
        <p:spPr>
          <a:xfrm rot="889200">
            <a:off x="6134040" y="1365120"/>
            <a:ext cx="2400480" cy="50720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</p:spTree>
  </p:cSld>
  <p:transition advTm="3000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553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Мой  любимый  костю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98" name="Picture 4" descr="сканирование0019"/>
          <p:cNvPicPr/>
          <p:nvPr/>
        </p:nvPicPr>
        <p:blipFill>
          <a:blip r:embed="rId1"/>
          <a:stretch/>
        </p:blipFill>
        <p:spPr>
          <a:xfrm rot="21073200">
            <a:off x="393480" y="2055960"/>
            <a:ext cx="2162160" cy="4027320"/>
          </a:xfrm>
          <a:prstGeom prst="rect">
            <a:avLst/>
          </a:prstGeom>
          <a:ln w="31680">
            <a:solidFill>
              <a:srgbClr val="800080"/>
            </a:solidFill>
            <a:miter/>
          </a:ln>
        </p:spPr>
      </p:pic>
      <p:pic>
        <p:nvPicPr>
          <p:cNvPr id="1099" name="Picture 7" descr="сканирование"/>
          <p:cNvPicPr/>
          <p:nvPr/>
        </p:nvPicPr>
        <p:blipFill>
          <a:blip r:embed="rId2"/>
          <a:stretch/>
        </p:blipFill>
        <p:spPr>
          <a:xfrm>
            <a:off x="3571920" y="1500120"/>
            <a:ext cx="2084400" cy="465300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00" name="Picture 8" descr="Untitled-Scanned-03"/>
          <p:cNvPicPr/>
          <p:nvPr/>
        </p:nvPicPr>
        <p:blipFill>
          <a:blip r:embed="rId3"/>
          <a:stretch/>
        </p:blipFill>
        <p:spPr>
          <a:xfrm rot="815400">
            <a:off x="6537240" y="1472760"/>
            <a:ext cx="211932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иль, воплощенный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блестящем шел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2" name="Picture 4" descr="Untitled-Scanned-01"/>
          <p:cNvPicPr/>
          <p:nvPr/>
        </p:nvPicPr>
        <p:blipFill>
          <a:blip r:embed="rId1"/>
          <a:stretch/>
        </p:blipFill>
        <p:spPr>
          <a:xfrm rot="21018600">
            <a:off x="684360" y="1915920"/>
            <a:ext cx="2165040" cy="44956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3" name="Picture 6" descr="сканирование0023"/>
          <p:cNvPicPr/>
          <p:nvPr/>
        </p:nvPicPr>
        <p:blipFill>
          <a:blip r:embed="rId2"/>
          <a:stretch/>
        </p:blipFill>
        <p:spPr>
          <a:xfrm>
            <a:off x="3421080" y="1844640"/>
            <a:ext cx="1798560" cy="360360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1104" name="Picture 7" descr="сканирование0021"/>
          <p:cNvPicPr/>
          <p:nvPr/>
        </p:nvPicPr>
        <p:blipFill>
          <a:blip r:embed="rId3"/>
          <a:stretch/>
        </p:blipFill>
        <p:spPr>
          <a:xfrm rot="921000">
            <a:off x="6156000" y="1844280"/>
            <a:ext cx="2306520" cy="444672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быть ХОРОШО  оде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6" name="Picture 5" descr="сканирование0055"/>
          <p:cNvPicPr/>
          <p:nvPr/>
        </p:nvPicPr>
        <p:blipFill>
          <a:blip r:embed="rId1"/>
          <a:stretch/>
        </p:blipFill>
        <p:spPr>
          <a:xfrm rot="737400">
            <a:off x="6659280" y="1557360"/>
            <a:ext cx="1920960" cy="451008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  <p:pic>
        <p:nvPicPr>
          <p:cNvPr id="1107" name="Picture 6" descr="сканирование0057"/>
          <p:cNvPicPr/>
          <p:nvPr/>
        </p:nvPicPr>
        <p:blipFill>
          <a:blip r:embed="rId2"/>
          <a:stretch/>
        </p:blipFill>
        <p:spPr>
          <a:xfrm>
            <a:off x="3500280" y="1928880"/>
            <a:ext cx="2087640" cy="41767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8" name="Picture 7" descr="сканирование0058"/>
          <p:cNvPicPr/>
          <p:nvPr/>
        </p:nvPicPr>
        <p:blipFill>
          <a:blip r:embed="rId3"/>
          <a:stretch/>
        </p:blipFill>
        <p:spPr>
          <a:xfrm rot="21167400">
            <a:off x="325440" y="2274480"/>
            <a:ext cx="1798560" cy="417672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p:transition advTm="3000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0" name="Picture 4" descr="сканирование0051"/>
          <p:cNvPicPr/>
          <p:nvPr/>
        </p:nvPicPr>
        <p:blipFill>
          <a:blip r:embed="rId1"/>
          <a:stretch/>
        </p:blipFill>
        <p:spPr>
          <a:xfrm rot="700200">
            <a:off x="6372360" y="2349360"/>
            <a:ext cx="2146320" cy="4057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сканирование0046"/>
          <p:cNvPicPr/>
          <p:nvPr/>
        </p:nvPicPr>
        <p:blipFill>
          <a:blip r:embed="rId2"/>
          <a:srcRect l="0" t="-5264" r="0" b="0"/>
          <a:stretch/>
        </p:blipFill>
        <p:spPr>
          <a:xfrm rot="20781600">
            <a:off x="755280" y="1988640"/>
            <a:ext cx="1758960" cy="43135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12" name="Picture 6" descr="сканирование0044"/>
          <p:cNvPicPr/>
          <p:nvPr/>
        </p:nvPicPr>
        <p:blipFill>
          <a:blip r:embed="rId3"/>
          <a:stretch/>
        </p:blipFill>
        <p:spPr>
          <a:xfrm>
            <a:off x="3419640" y="1916280"/>
            <a:ext cx="2295360" cy="46432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1113" name="AutoShape 9"/>
          <p:cNvSpPr/>
          <p:nvPr/>
        </p:nvSpPr>
        <p:spPr>
          <a:xfrm>
            <a:off x="1835280" y="333360"/>
            <a:ext cx="6984720" cy="1584360"/>
          </a:xfrm>
          <a:custGeom>
            <a:avLst/>
            <a:gdLst>
              <a:gd name="textAreaLeft" fmla="*/ 0 w 6984720"/>
              <a:gd name="textAreaRight" fmla="*/ 6985080 w 698472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00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ассика и роман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57:43Z</dcterms:created>
  <dc:creator>User</dc:creator>
  <dc:description/>
  <dc:language>en-US</dc:language>
  <cp:lastModifiedBy>Светлана</cp:lastModifiedBy>
  <dcterms:modified xsi:type="dcterms:W3CDTF">2013-10-21T13:27:51Z</dcterms:modified>
  <cp:revision>17</cp:revision>
  <dc:subject/>
  <dc:title>Слайд 1</dc:title>
</cp:coreProperties>
</file>