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720360" y="900000"/>
            <a:ext cx="6116760" cy="34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6760" cy="50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7D4FC-86EC-474F-9E24-337245198B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91AE1-7F8F-4773-A122-5F1827BCC5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84" name="Text Box 2"/>
          <p:cNvSpPr/>
          <p:nvPr/>
        </p:nvSpPr>
        <p:spPr>
          <a:xfrm>
            <a:off x="720720" y="4680000"/>
            <a:ext cx="6119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04E1D-24BD-44FE-9400-A296564B8EE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87" name="Text Box 2"/>
          <p:cNvSpPr/>
          <p:nvPr/>
        </p:nvSpPr>
        <p:spPr>
          <a:xfrm>
            <a:off x="720720" y="4680000"/>
            <a:ext cx="6119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CAF00-B957-4495-8F3C-36CD10BB623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90" name="Text Box 2"/>
          <p:cNvSpPr/>
          <p:nvPr/>
        </p:nvSpPr>
        <p:spPr>
          <a:xfrm>
            <a:off x="720720" y="4680000"/>
            <a:ext cx="6119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11B82-D4CE-4851-BF35-78E01BA1DF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93" name="Text Box 2"/>
          <p:cNvSpPr/>
          <p:nvPr/>
        </p:nvSpPr>
        <p:spPr>
          <a:xfrm>
            <a:off x="720720" y="4680000"/>
            <a:ext cx="6119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05BB8-29D9-4227-8455-C46A2D793C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96" name="Text Box 2"/>
          <p:cNvSpPr/>
          <p:nvPr/>
        </p:nvSpPr>
        <p:spPr>
          <a:xfrm>
            <a:off x="720720" y="4680000"/>
            <a:ext cx="6119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6848-1A0A-4F8D-91B0-094ECE1B2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55640" y="447480"/>
            <a:ext cx="3165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1823760"/>
            <a:ext cx="809604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360" y="4112640"/>
            <a:ext cx="809604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E08A-BB00-44C3-8478-7DEAD58B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55640" y="447480"/>
            <a:ext cx="3165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1823760"/>
            <a:ext cx="395064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9000" y="1823760"/>
            <a:ext cx="395064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4112640"/>
            <a:ext cx="395064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39000" y="4112640"/>
            <a:ext cx="395064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2679-B9BE-48A1-93ED-A719830B0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55640" y="447480"/>
            <a:ext cx="3165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360" y="1823760"/>
            <a:ext cx="2606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27800" y="1823760"/>
            <a:ext cx="2606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65240" y="1823760"/>
            <a:ext cx="2606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360" y="4112640"/>
            <a:ext cx="2606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27800" y="4112640"/>
            <a:ext cx="2606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65240" y="4112640"/>
            <a:ext cx="2606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C705-FF77-470D-AB28-40C3D2A58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55640" y="447480"/>
            <a:ext cx="3165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360" y="1823760"/>
            <a:ext cx="8096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4F20-B20A-4E59-9832-36E2098E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55640" y="447480"/>
            <a:ext cx="3165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1823760"/>
            <a:ext cx="8096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6994-4D7F-4FE5-A1D5-0B248263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55640" y="447480"/>
            <a:ext cx="3165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360" y="1823760"/>
            <a:ext cx="39506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39000" y="1823760"/>
            <a:ext cx="39506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9F09-0683-4024-A53F-D76B3F88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55640" y="447480"/>
            <a:ext cx="3165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D5B7-57A8-4F27-A154-D15AC805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55640" y="479160"/>
            <a:ext cx="316548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8ABC-0723-403C-A6F7-29E33EEC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55640" y="447480"/>
            <a:ext cx="3165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1823760"/>
            <a:ext cx="395064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9000" y="1823760"/>
            <a:ext cx="39506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360" y="4112640"/>
            <a:ext cx="395064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8C08-9AE4-4484-81CF-9127CD2E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55640" y="447480"/>
            <a:ext cx="3165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1823760"/>
            <a:ext cx="39506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9000" y="1823760"/>
            <a:ext cx="395064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39000" y="4112640"/>
            <a:ext cx="395064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7792-AC6A-4D94-9310-0A86A221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55640" y="447480"/>
            <a:ext cx="3165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1823760"/>
            <a:ext cx="395064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39000" y="1823760"/>
            <a:ext cx="395064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360" y="4112640"/>
            <a:ext cx="809604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671D-6351-4E02-8054-042EB8F0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4680"/>
            <a:ext cx="10078920" cy="7554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55640" y="479160"/>
            <a:ext cx="316548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360" y="1823760"/>
            <a:ext cx="8096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7280" y="688788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83000" y="688788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6945C99-CE24-4A3B-86E6-B2D51F3D652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80;&#1073;&#1077;&#1088;&#1072;&#1083;&#1080;&#1079;&#1084;" TargetMode="External"/><Relationship Id="rId2" Type="http://schemas.openxmlformats.org/officeDocument/2006/relationships/hyperlink" Target="http://ru.wikipedia.org/wiki/&#1056;&#1077;&#1092;&#1086;&#1088;&#1084;&#1072;" TargetMode="External"/><Relationship Id="rId3" Type="http://schemas.openxmlformats.org/officeDocument/2006/relationships/hyperlink" Target="http://ru.wikipedia.org/wiki/&#1053;&#1077;&#1075;&#1083;&#1072;&#1089;&#1085;&#1099;&#1081;_&#1082;&#1086;&#1084;&#1080;&#1090;&#1077;&#1090;" TargetMode="External"/><Relationship Id="rId4" Type="http://schemas.openxmlformats.org/officeDocument/2006/relationships/hyperlink" Target="http://ru.wikipedia.org/wiki/&#1057;&#1087;&#1077;&#1088;&#1072;&#1085;&#1089;&#1082;&#1080;&#1081;,_&#1052;&#1080;&#1093;&#1072;&#1080;&#1083;_&#1052;&#1080;&#1093;&#1072;&#1081;&#1083;&#1086;&#1074;&#1080;&#1095;" TargetMode="External"/><Relationship Id="rId5" Type="http://schemas.openxmlformats.org/officeDocument/2006/relationships/hyperlink" Target="http://ru.wikipedia.org/wiki/&#1042;&#1085;&#1077;&#1096;&#1085;&#1103;&#1103;_&#1087;&#1086;&#1083;&#1080;&#1090;&#1080;&#1082;&#1072;" TargetMode="External"/><Relationship Id="rId6" Type="http://schemas.openxmlformats.org/officeDocument/2006/relationships/hyperlink" Target="http://ru.wikipedia.org/wiki/&#1041;&#1088;&#1080;&#1090;&#1072;&#1085;&#1089;&#1082;&#1072;&#1103;_&#1080;&#1084;&#1087;&#1077;&#1088;&#1080;&#1103;" TargetMode="External"/><Relationship Id="rId7" Type="http://schemas.openxmlformats.org/officeDocument/2006/relationships/hyperlink" Target="http://ru.wikipedia.org/wiki/&#1055;&#1077;&#1088;&#1074;&#1072;&#1103;_&#1080;&#1084;&#1087;&#1077;&#1088;&#1080;&#1103;" TargetMode="External"/><Relationship Id="rId8" Type="http://schemas.openxmlformats.org/officeDocument/2006/relationships/hyperlink" Target="http://ru.wikipedia.org/wiki/1807_&#1075;&#1086;&#1076;" TargetMode="External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07" TargetMode="External"/><Relationship Id="rId2" Type="http://schemas.openxmlformats.org/officeDocument/2006/relationships/hyperlink" Target="http://ru.wikipedia.org/wiki/1812_&#1075;&#1086;&#1076;" TargetMode="External"/><Relationship Id="rId3" Type="http://schemas.openxmlformats.org/officeDocument/2006/relationships/hyperlink" Target="http://ru.wikipedia.org/wiki/1806" TargetMode="External"/><Relationship Id="rId4" Type="http://schemas.openxmlformats.org/officeDocument/2006/relationships/hyperlink" Target="http://ru.wikipedia.org/wiki/1812_&#1075;&#1086;&#1076;" TargetMode="External"/><Relationship Id="rId5" Type="http://schemas.openxmlformats.org/officeDocument/2006/relationships/hyperlink" Target="http://ru.wikipedia.org/wiki/1804" TargetMode="External"/><Relationship Id="rId6" Type="http://schemas.openxmlformats.org/officeDocument/2006/relationships/hyperlink" Target="http://ru.wikipedia.org/wiki/1813" TargetMode="External"/><Relationship Id="rId7" Type="http://schemas.openxmlformats.org/officeDocument/2006/relationships/hyperlink" Target="http://ru.wikipedia.org/wiki/1808" TargetMode="External"/><Relationship Id="rId8" Type="http://schemas.openxmlformats.org/officeDocument/2006/relationships/hyperlink" Target="http://ru.wikipedia.org/wiki/1809_&#1075;&#1086;&#1076;" TargetMode="External"/><Relationship Id="rId9" Type="http://schemas.openxmlformats.org/officeDocument/2006/relationships/hyperlink" Target="http://ru.wikipedia.org/wiki/1801_&#1075;&#1086;&#1076;" TargetMode="External"/><Relationship Id="rId10" Type="http://schemas.openxmlformats.org/officeDocument/2006/relationships/hyperlink" Target="http://ru.wikipedia.org/wiki/1809_&#1075;&#1086;&#1076;" TargetMode="External"/><Relationship Id="rId11" Type="http://schemas.openxmlformats.org/officeDocument/2006/relationships/hyperlink" Target="http://ru.wikipedia.org/wiki/1815_&#1075;&#1086;&#1076;" TargetMode="External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90;&#1077;&#1095;&#1077;&#1089;&#1090;&#1074;&#1077;&#1085;&#1085;&#1072;&#1103;_&#1074;&#1086;&#1081;&#1085;&#1072;_1812_&#1075;&#1086;&#1076;&#1072;" TargetMode="External"/><Relationship Id="rId2" Type="http://schemas.openxmlformats.org/officeDocument/2006/relationships/hyperlink" Target="http://ru.wikipedia.org/wiki/1813" TargetMode="External"/><Relationship Id="rId3" Type="http://schemas.openxmlformats.org/officeDocument/2006/relationships/hyperlink" Target="http://ru.wikipedia.org/wiki/1814_&#1075;&#1086;&#1076;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2560" y="779400"/>
            <a:ext cx="8501040" cy="67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Александр 1 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0" lang="ru-RU" sz="2800" spc="-1" strike="noStrike">
                <a:solidFill>
                  <a:srgbClr val="262699"/>
                </a:solidFill>
                <a:latin typeface="Arial"/>
              </a:rPr>
              <a:t>Презентацию выполнил ученик 8 а класса  школы № 489</a:t>
            </a:r>
            <a:br>
              <a:rPr sz="2800"/>
            </a:br>
            <a:r>
              <a:rPr b="0" lang="ru-RU" sz="2800" spc="-1" strike="noStrike">
                <a:solidFill>
                  <a:srgbClr val="262699"/>
                </a:solidFill>
                <a:latin typeface="Arial"/>
              </a:rPr>
              <a:t> Важов Иван</a:t>
            </a:r>
            <a:br>
              <a:rPr sz="2800"/>
            </a:br>
            <a:r>
              <a:rPr b="0" lang="ru-RU" sz="2800" spc="-1" strike="noStrike">
                <a:solidFill>
                  <a:srgbClr val="262699"/>
                </a:solidFill>
                <a:latin typeface="Arial"/>
              </a:rPr>
              <a:t>  Учитель: Бойкова В.Ю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4280" y="-360"/>
            <a:ext cx="60004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айна смер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754240" y="1279080"/>
            <a:ext cx="3786120" cy="564372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3"/>
          <p:cNvSpPr/>
          <p:nvPr/>
        </p:nvSpPr>
        <p:spPr>
          <a:xfrm>
            <a:off x="682560" y="1279440"/>
            <a:ext cx="5000760" cy="55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62699"/>
                </a:solidFill>
                <a:latin typeface="Arial"/>
              </a:rPr>
              <a:t>Фёдор Кузьмич</a:t>
            </a: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— старец, живший в Сибири в 19 в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гласно романовской легенде, считается императором Александром I, инсценировавшим свою смерть и ставшим скитальцем. Вопрос о тождественности Фёдора Кузьмича с российским императором историками однозначно не решё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ёдор Кузьмич за своё подвижничество в </a:t>
            </a: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1984 г. Канонизирован РПЦ в Лике праведных в составе Собора Сибирских Свят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2" descr="C:\Documents and Settings\ШК489\Рабочий стол\фк.jpeg"/>
          <p:cNvPicPr/>
          <p:nvPr/>
        </p:nvPicPr>
        <p:blipFill>
          <a:blip r:embed="rId2"/>
          <a:stretch/>
        </p:blipFill>
        <p:spPr>
          <a:xfrm>
            <a:off x="5754600" y="1351080"/>
            <a:ext cx="38577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55640" y="479160"/>
            <a:ext cx="316548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ександр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360" y="1823760"/>
            <a:ext cx="3971880" cy="4381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5114880" y="1279080"/>
            <a:ext cx="4425840" cy="6280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ександр Павлович Благословенный — император и самодержец Всероссийский, протектор Мальтийского ордена, великий князь Финляндский, царь Польский старший сын императора Павла I и Марии Фёдоров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682560" y="1422360"/>
            <a:ext cx="4159440" cy="462276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4"/>
          <p:cNvSpPr/>
          <p:nvPr/>
        </p:nvSpPr>
        <p:spPr>
          <a:xfrm>
            <a:off x="611280" y="6066000"/>
            <a:ext cx="4286160" cy="1493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777-1725  (1801-182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620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ование и воспит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468320" y="351000"/>
            <a:ext cx="5612040" cy="72086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430200" indent="-324000">
              <a:lnSpc>
                <a:spcPct val="94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62699"/>
                </a:solidFill>
                <a:latin typeface="Arial"/>
              </a:rPr>
              <a:t>Александр 1 вырос при интеллектуальном дворе Екатерины Великой; воспитатель — швейцарец-якобинец Фредерик Сезар Лагарп ознакомил его с принципами гуманности Руссо, военный учитель Николай Салтыков — с традициями русской аристократии, отец передал ему своё пристрастие к военному параду и научил его совмещать душевную любовь к человечеству с практической заботой о ближне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5" descr="C:\Documents and Settings\ШК489\Рабочий стол\лаг.jpeg"/>
          <p:cNvPicPr/>
          <p:nvPr/>
        </p:nvPicPr>
        <p:blipFill>
          <a:blip r:embed="rId1"/>
          <a:stretch/>
        </p:blipFill>
        <p:spPr>
          <a:xfrm>
            <a:off x="1539720" y="1636560"/>
            <a:ext cx="3214800" cy="3643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C:\Documents and Settings\ШК489\Рабочий стол\ekaterina2roslin.jpg"/>
          <p:cNvPicPr/>
          <p:nvPr/>
        </p:nvPicPr>
        <p:blipFill>
          <a:blip r:embed="rId2"/>
          <a:stretch/>
        </p:blipFill>
        <p:spPr>
          <a:xfrm>
            <a:off x="539640" y="3351240"/>
            <a:ext cx="2990880" cy="3809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4826160" y="1279440"/>
            <a:ext cx="4357440" cy="58579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56000" y="279000"/>
            <a:ext cx="316872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6360" y="1636200"/>
            <a:ext cx="4643640" cy="5286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430200" indent="-324000">
              <a:lnSpc>
                <a:spcPct val="94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истократ и либерал, одновременно загадочный и известный, он казался своим современникам тайной, которую каждый разгадывает по своему представлен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54320" y="479160"/>
            <a:ext cx="650088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ятельность императ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000" y="1564920"/>
            <a:ext cx="514332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В начале правления провёл умеренно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либеральные</a:t>
            </a: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реформы</a:t>
            </a: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, разработанные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Негласным комитетом</a:t>
            </a: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 и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М. М. Сперанским</a:t>
            </a: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. Во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внешней политике</a:t>
            </a: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 лавировал между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Великобританией</a:t>
            </a: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 и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Францией</a:t>
            </a: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. В 1805-1807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 </a:t>
            </a: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участвовал в антифранцузских коалиция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4" descr="C:\Documents and Settings\ШК489\Рабочий стол\негл комитет.jpg"/>
          <p:cNvPicPr/>
          <p:nvPr/>
        </p:nvPicPr>
        <p:blipFill>
          <a:blip r:embed="rId9"/>
          <a:stretch/>
        </p:blipFill>
        <p:spPr>
          <a:xfrm>
            <a:off x="5611680" y="1636560"/>
            <a:ext cx="400068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6720" y="-360"/>
            <a:ext cx="4572000" cy="26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ятельность императ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850840"/>
            <a:ext cx="878688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1807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1812 г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ременно сблизился с Францией. Вёл успешные войны с Турцией(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1806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1812 год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, Персией(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1804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181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 и Швецией(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1808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1809 год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. При Александре I к России присоединены территории Восточной Грузии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1801 го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, Финляндии(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1809 го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, Бессарабии(1812 год), бывшего герцогства Варшавского(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1815 го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4" descr="C:\Documents and Settings\ШК489\Рабочий стол\тилмир.jpg"/>
          <p:cNvPicPr/>
          <p:nvPr/>
        </p:nvPicPr>
        <p:blipFill>
          <a:blip r:embed="rId12"/>
          <a:stretch/>
        </p:blipFill>
        <p:spPr>
          <a:xfrm>
            <a:off x="5111640" y="0"/>
            <a:ext cx="40640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53960" y="479160"/>
            <a:ext cx="60008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ятельность императ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9280" y="1824120"/>
            <a:ext cx="528660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ле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Отечественной войны 1812 год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озглавил в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181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1814 год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антифранцузскую коалицию европейских держав. Был одним из руководителей Венского конгресса 1814—1815 годов и организаторов Священного сою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4" descr="C:\Documents and Settings\ШК489\Рабочий стол\алекс на бел кон.jpg"/>
          <p:cNvPicPr/>
          <p:nvPr/>
        </p:nvPicPr>
        <p:blipFill>
          <a:blip r:embed="rId4"/>
          <a:stretch/>
        </p:blipFill>
        <p:spPr>
          <a:xfrm>
            <a:off x="5683320" y="1817640"/>
            <a:ext cx="385740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56000" y="479160"/>
            <a:ext cx="3168720" cy="119988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ем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4200" y="1422360"/>
            <a:ext cx="4286160" cy="5929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430200" indent="-324000">
              <a:lnSpc>
                <a:spcPct val="94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793 году Александр женился на Луизе Марии Августе Баденск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4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течение 15 лет Александр имел практически вторую семью с Марией Нарышки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4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ледников не бы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5" descr="C:\Documents and Settings\ШК489\Рабочий стол\жена-александра-i-елизавета-алексеевна-урожденная-великая-герцогиня-баденская-мария-луиза-августа.jpg"/>
          <p:cNvPicPr/>
          <p:nvPr/>
        </p:nvPicPr>
        <p:blipFill>
          <a:blip r:embed="rId1"/>
          <a:stretch/>
        </p:blipFill>
        <p:spPr>
          <a:xfrm>
            <a:off x="5295960" y="1565280"/>
            <a:ext cx="4244760" cy="55450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39960" y="-360"/>
            <a:ext cx="378612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мер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636120"/>
            <a:ext cx="5000400" cy="6923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430200" indent="-324000">
              <a:lnSpc>
                <a:spcPct val="94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ер император Александр 1 декабря 1825 года в Таганроге, в доме Попкова, от горячки с воспалением мозга в возрасте 47 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4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зднее в 30—40 годах XIX века появилась легенда, что Александр, измученный угрызениями совести, инсценировал свою смерть и начал скитальческую, отшельническую жизнь под именем старца Фёдора Кузьмича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5468760" y="1494000"/>
            <a:ext cx="4071960" cy="5500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16:49:50Z</dcterms:created>
  <dc:creator/>
  <dc:description/>
  <dc:language>en-US</dc:language>
  <cp:lastModifiedBy>ШК489</cp:lastModifiedBy>
  <dcterms:modified xsi:type="dcterms:W3CDTF">2013-10-22T09:43:41Z</dcterms:modified>
  <cp:revision>20</cp:revision>
  <dc:subject/>
  <dc:title>Александр I</dc:title>
</cp:coreProperties>
</file>