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B01-5CB8-4FEB-B81B-1F8611C5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F42-2063-4981-8ED0-0B30028A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9B7-9AB2-43DD-B484-3524BF3F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1B8-77B7-4C85-8D4B-50BE9083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8932-5595-4C0E-98A0-522B4C6C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0898-FFE6-4C91-830F-B8F78E37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79C0-4689-413A-8742-5985D9D5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3D1E-D76D-43C1-8009-09F5D0F8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7DFC-009D-49F7-A508-E6D30BF3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D909-183C-42AB-8926-5F89F6A5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CEC7-BD76-44B7-A714-A81B0255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BA5-BA4F-44BB-8865-4F9285D6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38C0-E8C0-4BC4-80CA-1BDFA447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8E21-617B-4A06-89D1-00646CE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BAC6-C0D1-416F-98EE-24C98E2B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701E-4961-4B4D-81D2-0AA71784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2DB3-6424-4D84-B2F4-F6D4BC8B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93CF-8DB2-4332-A558-12D9734F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44CB-34FE-41D8-9120-EB2E38D7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5F5DB-1761-4C3D-BBEF-CBC1251A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A642-E16B-487C-A8C0-D3CE159C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0F5A-866A-4863-8929-CE316746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C9B-4CD5-442E-849D-F2EB75F0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A2D3-B2C6-40DA-B51D-0A32ABCC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711D-93B2-4908-A602-F46A5CAB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B161-0F55-4FD1-95BF-26B1EEBF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2256-8D69-4851-A189-68BE8B45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FD77-9D91-4E47-AED6-5EF0DF03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E994-04C8-486D-8888-77014C8F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8671-9A65-4C5B-8607-5B4F981A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363C-85A0-42FF-841D-A0D272E0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D2D2B-F3EA-4C96-A443-8D94401F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79A0-3648-4EE5-B282-2F989BF0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553-A4E0-4A40-88B0-47AC9E74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1414-7C85-470E-A5BC-F3802F9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2D6B-A18B-40E9-B111-2D9DCDDD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A9382-9666-4B97-9557-386217CB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DFD4-D142-4AEC-B349-9E480CE6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9882-7166-4B6A-95E9-6146627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AB9A-2597-45A3-BCDE-B78D6135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25AF-92FA-4949-9E81-66784B52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0B2F-D26A-46DD-94EA-5B02E3B8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0FC0-04BF-4D5A-A8A6-3C3D61D2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DE02E-57D8-4EDC-8070-C56855D1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2DA-1150-41B3-B588-B9057958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422BC-CBB8-4108-8371-4C3EB7E7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7DD04-53C9-4CE0-BC69-9768EAEB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33E42-C273-482D-B337-FCE0FA8E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7E539-4423-4B21-BE85-B3EC54C7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7A88B-7ECF-4EE4-9C6A-DBC80C99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CDFC-19DA-4A40-970E-38BBCBE2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8BA1C-7C96-4B0E-8E24-A76458F4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323A-81F9-4A4E-AE44-357BEAA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9DF1A-F3FC-48B2-816F-E272E5F8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6A67-6F9E-4B62-9460-B7737AF8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317-0D92-49D4-B95C-A64F8C7A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01754-8AD1-4825-B9EB-A780AB89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27297-8C42-4AA5-AD83-7F5383C3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6FDE2-0627-499F-83E2-77F70E6E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7FCF9-1F6D-4720-B89E-4F5DF1A2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F300-FD5D-4CF5-A914-10655C46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1458D-BE2C-422C-9A84-941C47C3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B42B1-DD2E-443B-A1EA-4B4DBD6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B7CF8-02DF-4239-91B1-DDE289C7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CA6ED-DD0F-4A42-AC91-1F8CC740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95493-E92A-4973-A45A-E1F0A11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7C7-E98C-4576-9FE1-25EF0223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1C23F-DCA4-4EEE-8FC2-6E2CD1A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BA13E-D0CB-4591-8CDE-C0ED87F8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0415-3090-45F1-BDCD-FB599E65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13CED-2B73-48BA-AB4C-A1B58AB3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7C077-9BA6-4989-A205-72EEA124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1D5FE-C140-4D32-A88C-0344A701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4FC1D-44AB-44D3-B305-6E466646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3451-C313-42FC-BFE5-DF93613A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CE5E-A259-4144-8F18-387DA26B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0D637-452C-4040-A615-2A1C6945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211-CAC4-4FD4-B6CA-9478BD0E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352E2-9C0E-419E-A08B-A485233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BF39F-263F-4831-AADE-F8D0E44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6A3FB-803C-472E-8AC7-60FAD9C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D11B-7D11-42DB-AB71-AED11B9A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1A982-D5B7-4C26-93C0-5C7C7679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E2D-D902-4D87-96D6-104D837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70C0-D6F4-40C7-9660-BC89ED5F727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C6D7-1332-4077-BFD5-9A7C06F6118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AF6F-EC3D-4A80-B643-31210107D59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197D-1340-4FA1-8F06-AFF842A8695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B87C-6962-4D35-9E43-C6207E81F15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ECD0-E8A1-4028-B01C-6455EDC1062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C069-E69B-4C66-8CD6-7B043BFC273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907920" y="4237200"/>
            <a:ext cx="778536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кимова Юлия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8г класс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489 школ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img0.liveinternet.ru/images/attach/c/3/77/857/77857832_V_sanitarnoy_palatke_na_Borodinskom_poleAAps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51840" cy="52927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ходе операции с большим опозданием из раны были удалены инородные тела, в том числе и осколок ядра. В современной литературе принято считать, что смерть генерала стала следствием неправильно поставленного первоначального диагноз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51840" cy="52927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тром того дня Багратиону была вновь предложена ампутация, однако вечером врачи сами отказались от операции. 23 сентября Багратион, понимая свою обреченность, продиктовал завещание. 8 сентября Багратион упомянул в своём донесении царю Александру I о ранени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8080560" cy="52210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лководец был перевезён в имение своего друга, также участвовавшего в Бородинской битве генерал-лейтенанта князя Б. А. Голицына, в село Сима Владимирской губернии. 12 (24) сентября 1812 года в первом часу пополудни Пётр Иванович Багратион умер от гангрены, спустя 17 дней после ранения. Согласно сохранившейся надписи на могиле в селе Сима, он скончался 23 сентябр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Смерть полководца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File:Bagration-grave 2004.jpg"/>
          <p:cNvPicPr/>
          <p:nvPr/>
        </p:nvPicPr>
        <p:blipFill>
          <a:blip r:embed="rId1"/>
          <a:stretch/>
        </p:blipFill>
        <p:spPr>
          <a:xfrm>
            <a:off x="1214280" y="142920"/>
            <a:ext cx="6715440" cy="6715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Спасибо за внимание!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Picture 2" descr="http://f9.ifotki.info/org/1bb378fcd496713f57edd19b2bc852d45cf0d2101349130.jpg"/>
          <p:cNvPicPr/>
          <p:nvPr/>
        </p:nvPicPr>
        <p:blipFill>
          <a:blip r:embed="rId1"/>
          <a:stretch/>
        </p:blipFill>
        <p:spPr>
          <a:xfrm>
            <a:off x="571680" y="1300320"/>
            <a:ext cx="8358120" cy="5557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28400" y="1285920"/>
            <a:ext cx="5715000" cy="52927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4000"/>
          </a:bodyPr>
          <a:p>
            <a:pPr marL="50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нязь 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Пётр Иванович Багратион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 ( 1765 — 12 (24) сентября 1812) — российский генерал от инфантерии, шеф лейб-гвардии Егерского полка, главнокомандующий 2-й Западной армией в начале Отечественной войны 1812 года. Старший брат генерал-лейтенанта князя Р. И. Багратиона, дядя генерал-лейтенанта П. Р. Багратион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Князь Багратион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2" name="Picture 5" descr="Bagration P I.jpg"/>
          <p:cNvPicPr/>
          <p:nvPr/>
        </p:nvPicPr>
        <p:blipFill>
          <a:blip r:embed="rId1"/>
          <a:stretch/>
        </p:blipFill>
        <p:spPr>
          <a:xfrm>
            <a:off x="6072120" y="1428840"/>
            <a:ext cx="307188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8223480" cy="52927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етр Иванович – потомок грузинского царя Вахтанга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I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. Родился в июле 1765 года. В 16 лет приехал в Санкт-Петербург к  своей тетке Голицыно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ригорий Потемкин, очарованный умом и смелостью юноши, определил его на службу в мушкетерский полк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о рокового Бородинского сражения прошел 30-летниц путь военной служб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701640" y="414360"/>
            <a:ext cx="81676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8223480" cy="52927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начале Отечественной войны 18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года 2-я западная армия располагалась под Гродно и оказалась отрезанной от основной 1-й армии наступавшими французскими корпусами. Багратиону пришлось с арьергардными боями отступать к Бобруйску и Могилёву, где он после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я под Салтановкой перешёл Днепр и 3 августа соединился с 1-й западной армией Барклая-де-Толли под Смоленско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Отечественная война 1812 года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http://img-fotki.yandex.ru/get/30/svoifilm.6f/0_1b1d3_2a33c2e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51840" cy="52927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а бородинском поле 7 сентября (по новому стилю) около 12 часов дня осколок ядра раздробил генералу большеберцовую кость левой ноги (или, как указано в официальном донесении, «в средней трети левой голени»). Утверждается, что с поля боя генерала вынес офицер А. Д. Олсуфь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Ранение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http://static6.aif.ru/pictures/201206/6.gif"/>
          <p:cNvPicPr/>
          <p:nvPr/>
        </p:nvPicPr>
        <p:blipFill>
          <a:blip r:embed="rId1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8151840" cy="52210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а следующий день раненый Багратион вместе с докторами Говоровым и Гангартом был отправлен в Москву. 9 сентября у генерала начался жар. С 10 сентября началось нагноение раны. Лишь только 12 сентября, после врачебного консилиума, стало ясно, что осколок ядра по-прежнему находится в теле Багратион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Попытка установить диагноз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8223480" cy="52927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9 сентября Багратион прибыл в Симу. 21 сентября в Симе была проведена операция расширения раны, и только по ее результатам врачам с необратимым опозданием удалось нарисовать полную картину ран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Полная картина ранения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4:41:11Z</dcterms:created>
  <dc:creator>User</dc:creator>
  <dc:description/>
  <dc:language>en-US</dc:language>
  <cp:lastModifiedBy>User</cp:lastModifiedBy>
  <dcterms:modified xsi:type="dcterms:W3CDTF">2013-10-11T10:12:42Z</dcterms:modified>
  <cp:revision>52</cp:revision>
  <dc:subject/>
  <dc:title>Была ли рана смертельной? Тайна смерти П.И.Багратиона</dc:title>
</cp:coreProperties>
</file>