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60C-1803-4477-9D55-1F5C2301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B75-014A-4659-9096-00640B58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C32-95C9-4448-BF50-15168B5B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71D-2876-4027-94BA-5544E2C7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DEA-E60E-4291-847C-4CF2E66B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9F3-E07F-4B8C-B3E0-9547250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2FB-92B0-4804-8114-E34648B6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EEF-9177-49A7-ABBA-637FC70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6E2-87A3-4F9C-95D1-2C73C238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DB4-33D8-4593-9D4D-B73245E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752-6E39-45DE-BC5A-92F70B2F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A3F-0373-441D-A0F3-14CB478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DA0C-1BCB-40BE-9105-E031E9DCF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Презентация по окружающему миру на тему: </a:t>
            </a:r>
            <a:br>
              <a:rPr sz="2000"/>
            </a:br>
            <a:br>
              <a:rPr sz="3200"/>
            </a:b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«НАЦИОНАЛЬНОСТИ РОССИИ. ЭСКИМОС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8840" y="464832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 2 «Э» класса Сусь Рус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: Баранцева О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178000" y="152280"/>
            <a:ext cx="406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 337 Н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173480" y="5867280"/>
            <a:ext cx="83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циональная одежда эскимо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ежда эскимосов шьётся из шкур животных и не имеет застёжек и мол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ellafay"/>
          <p:cNvPicPr/>
          <p:nvPr/>
        </p:nvPicPr>
        <p:blipFill>
          <a:blip r:embed="rId1"/>
          <a:stretch/>
        </p:blipFill>
        <p:spPr>
          <a:xfrm>
            <a:off x="5334120" y="1905120"/>
            <a:ext cx="286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МЫСЕ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_893af_bb68d6_XXL"/>
          <p:cNvPicPr/>
          <p:nvPr/>
        </p:nvPicPr>
        <p:blipFill>
          <a:blip r:embed="rId1"/>
          <a:stretch/>
        </p:blipFill>
        <p:spPr>
          <a:xfrm>
            <a:off x="457200" y="1371600"/>
            <a:ext cx="3989520" cy="5181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ародов эскимосов развита охота и рыболовство в котором принимают участие и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эскимосы ели то, что им удавалось добыть охотой или рыболов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они покупают некоторые прод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й главной пищей у эскимосов является и являлось мясо морских животных, а также оле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skimo-insanlarinin-resimleri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цы эскимосов делятся на обрядовые и игр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ядовые исполнялись в честь животных, на которых они вели охоту. А игровые проводились в разное время и по любому случ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" descr="alaska_first_people_dance"/>
          <p:cNvPicPr/>
          <p:nvPr/>
        </p:nvPicPr>
        <p:blipFill>
          <a:blip r:embed="rId1"/>
          <a:stretch/>
        </p:blipFill>
        <p:spPr>
          <a:xfrm>
            <a:off x="457200" y="17524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ое жильё эскимосов называется «Игл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 жилище строилось при помощи костей китов, связанных между собой и натянутых на них шкур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же «Иглу» были снежными. Сейчас же такое жилище встретить трудно. Так как эскимосы живут в домах где есть печи и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эскимосы-дом"/>
          <p:cNvPicPr/>
          <p:nvPr/>
        </p:nvPicPr>
        <p:blipFill>
          <a:blip r:embed="rId1"/>
          <a:stretch/>
        </p:blipFill>
        <p:spPr>
          <a:xfrm>
            <a:off x="533520" y="1219320"/>
            <a:ext cx="401940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corp1528"/>
          <p:cNvPicPr/>
          <p:nvPr/>
        </p:nvPicPr>
        <p:blipFill>
          <a:blip r:embed="rId2"/>
          <a:stretch/>
        </p:blipFill>
        <p:spPr>
          <a:xfrm>
            <a:off x="380880" y="3886200"/>
            <a:ext cx="4267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5:10:52Z</dcterms:created>
  <dc:creator>ДОМ</dc:creator>
  <dc:description/>
  <dc:language>en-US</dc:language>
  <cp:lastModifiedBy>Учитель </cp:lastModifiedBy>
  <dcterms:modified xsi:type="dcterms:W3CDTF">2013-10-21T12:35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