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480-B901-48B2-97A1-55490983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2FC-C88E-437E-9812-A1DD442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081-357E-4CA2-B5C7-B57F0DBF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C06-2588-46B5-A6D4-B7278AC9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AAA-7B67-41F8-BD0D-52A0FF46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B38-B04F-4136-9F26-78D13C91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D7F5-2900-4EAA-8BFD-7FBFA47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BA10-D72D-44C5-BC8F-B6D6465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8FF-2022-4D73-89A6-65DF8221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2B00-1BC6-4816-8287-690C23E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78C9-AB79-495E-AFF9-3F151746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D56-468B-44AE-9054-53C352C8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73EC-60CA-4BB4-9BF5-5FA9312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9325-4803-4B65-B07F-6B4EBBC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338D-753C-4C01-B29B-AD1438DE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C523-C57E-4766-8EB5-09C93A63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888D-22F3-47C9-9E64-A1C15ACC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3FB-3A45-4E9C-A742-BA04B8F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3D2-0E07-4740-B081-110BBCA0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34A-4859-4F3B-AE61-D258E78A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3E1-B906-4A45-A0C8-8F21466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2B5-A228-474F-AB1B-111E12F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9E3-78E2-44C4-8BE6-0A9FAB4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A14-CB1C-4371-989C-4675BC1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68B-42DD-4051-B4BA-56E028346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119-A719-4F8F-BF5E-8AC3C675F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 u="sng">
                <a:solidFill>
                  <a:srgbClr val="feec94"/>
                </a:solidFill>
                <a:uFillTx/>
                <a:latin typeface="Ariston"/>
              </a:rPr>
              <a:t>DEUTSCHLAND</a:t>
            </a:r>
            <a:r>
              <a:rPr b="1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nigkeit und Recht und Freitheit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Единство  и Право и Свобода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KLIM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utschland befindet sich in einer gemäßigten Klimaz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616720" cy="295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73520" y="566100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ischwald im Herbs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STÄDTE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Berlin. 3,4 Millionen Einwoh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amburg. 1,7 Mi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München. 1,2 Mi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Köln. 1,0 Mi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Frankfurt am Main. 655 00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72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ankfurt am Main ist ein internationales Finanz- und Dienstleistungszentrum sowie Sitz der Europäischen Zentralba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9687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99400" y="5489640"/>
            <a:ext cx="63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Verwaltungsgliederung Deutsch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ehensw</a:t>
            </a: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ürdichkeuten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179064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09960" y="1324080"/>
            <a:ext cx="3961080" cy="26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77960" y="3882960"/>
            <a:ext cx="324000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809960" y="4005360"/>
            <a:ext cx="3961080" cy="2303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435640" y="6353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2720" y="364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513240" cy="456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824720" cy="3959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Berlinermauer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Федеративная Республика Германия</a:t>
            </a:r>
            <a:br>
              <a:rPr sz="4000"/>
            </a:b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Bundesrepublik Deutschland</a:t>
            </a:r>
            <a:r>
              <a:rPr b="0" lang="de-DE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Times New Roman"/>
              </a:rPr>
              <a:t>Staat: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emokratischer parlamentarischer Staat seit 194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auptstad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rlin, 3,4 Millionen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inwohne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Times New Roman"/>
              </a:rPr>
              <a:t>Staatsflagge: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rei horizontale Streifen in Schwarz, Rot, G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Times New Roman"/>
              </a:rPr>
              <a:t>Parlament: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eutscher Bundestag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inwohner: 82,5 Million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Bundespräsident:</a:t>
            </a: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Kristian Wu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Bundeskanzler: Angela Merk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Amtssprache: Deuts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5013360"/>
            <a:ext cx="1295640" cy="1554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3320" y="623736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 seit 2005 amtierende Bundeskanzlerin Angela Merkel (CD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eec94"/>
                </a:solidFill>
                <a:latin typeface="Times New Roman"/>
              </a:rPr>
              <a:t>Geografie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age: Mitteleuro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Größe:  357 021 qk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nsgesamt werden 52 Prozent landwirtschaftlich genutzt (2009), Wälder bedecken weitere 29,5 Prozent. 14 Prozent werden als Siedlungs- und Verkehrsfläche genutzt (Tendenz weiterhin steigend). Wasserflächen kommen auf 2 Prozent, die restlichen 2,5 Prozent verteilen sich auf sonstige Flächen, zumeist Ödland und auch Tagebau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59200" y="34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350px-German_postcode_information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33360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Staatsaufbau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eutschland ist ein Bundesstaat aus 16 Ländern, die jeweils eigenständige, wenn auch eingeschränkte Staatsgewalt besitz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Times New Roman"/>
              </a:rPr>
              <a:t>Nachbarstaaten: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eutchland liegt im Herzen Europas und ist von Frankreich, Schweiz, Österreich, Tschechien, Polen, Dänemark, Niederlande, Belgien, Luxemburg umgeb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Karte Deutsche Bundesländer (nummeriert).svg"/>
          <p:cNvPicPr/>
          <p:nvPr/>
        </p:nvPicPr>
        <p:blipFill>
          <a:blip r:embed="rId1"/>
          <a:stretch/>
        </p:blipFill>
        <p:spPr>
          <a:xfrm>
            <a:off x="1047600" y="1932120"/>
            <a:ext cx="2857680" cy="386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50156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FLÜSSE UND SEE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sechs ins Meer mündenden Fließgewässer mit den größten Einzugsgebieten sind Rhein, Donau, Elbe, Oder, Weser und Ems. Fünf davon entwässern in Nord- und Ostsee, eines (die Donau) dagegen ins Schwarze Me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natürlichen Seen sind überwiegend glazialen Ursprungs. Die größten Seen sin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Müritz und Bodens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384360" cy="403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11640" cy="403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5516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 Elbe mit Blick auf Stadt Wehlen in Sach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2520" y="5516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nf-Seen-Blick in der Uckermark, Brand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8:04:17Z</dcterms:created>
  <dc:creator>WiZaRd</dc:creator>
  <dc:description/>
  <dc:language>en-US</dc:language>
  <cp:lastModifiedBy>owner</cp:lastModifiedBy>
  <dcterms:modified xsi:type="dcterms:W3CDTF">2013-10-22T04:23:14Z</dcterms:modified>
  <cp:revision>10</cp:revision>
  <dc:subject/>
  <dc:title>Германия.</dc:title>
</cp:coreProperties>
</file>