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1E4-9E1A-4AE4-8A1E-C1EB125C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AD6-2B63-4D00-8D39-9A2CC00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55C-DF9C-402F-81C3-05CA17AF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31B-78FB-426E-ADD3-5BB945DD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4BC-1E3C-4C63-A771-8D33B05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46F-B6D9-4F4D-BB83-C829B70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0F9-DDB5-47DB-8A5A-051FAFB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CAA-8E7F-4287-AEE7-017D0B2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AE6-37EC-43A5-B68C-0FE6781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4EE-543D-4352-804C-B8A6D1D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F2E-D935-427E-B80E-3474FD7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5C9-C004-4AAD-9E2B-9AB80BC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лованова Ольга Михайловна, 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E95-B355-4515-9D8C-CFBFEA595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0075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875 -0.04785 L -0.6875 0.63315 L -0.01024 0.63315 L -0.01024 -0.04785 Z">
                                      <p:cBhvr>
                                        <p:cTn id="6" dur="10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7969 0.62321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75 -0.04785 L -0.01823 0.62321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052 0.27139 C -0.75052 0.43574 -0.66215 0.57074 -0.55434 0.57074 C -0.42708 0.57074 -0.38073 0.42071 -0.36163 0.33102 L -0.34184 0.21175 C -0.32153 0.12206 -0.27257 -0.02704 -0.12882 -0.02704 C -0.03663 -0.02704 0.0684 0.10703 0.0684 0.27139 C 0.0684 0.43574 -0.03663 0.57074 -0.12882 0.57074 C -0.27257 0.57074 -0.32153 0.42071 -0.34184 0.33102 L -0.36163 0.21175 C -0.38073 0.12206 -0.42708 -0.02704 -0.55434 -0.02704 C -0.66215 -0.02704 -0.75052 0.10703 -0.75052 0.27139 Z">
                                      <p:cBhvr>
                                        <p:cTn id="15" dur="10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Солнышко"/>
          <p:cNvPicPr/>
          <p:nvPr/>
        </p:nvPicPr>
        <p:blipFill>
          <a:blip r:embed="rId1"/>
          <a:stretch/>
        </p:blipFill>
        <p:spPr>
          <a:xfrm>
            <a:off x="395280" y="404640"/>
            <a:ext cx="1644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0.31369 L 0.35469 -0.11188 L 0.7684 0.31369 L 0.35469 0.73902 L -0.05833 0.31369 Z">
                                      <p:cBhvr>
                                        <p:cTn id="21" dur="1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69 -0.02612 C 0.49844 -0.02612 0.61892 0.12436 0.61892 0.30906 C 0.61892 0.49422 0.49844 0.64494 0.35069 0.64494 C 0.20312 0.64494 0.08333 0.49422 0.08333 0.30906 C 0.08333 0.12436 0.20312 -0.02612 0.35069 -0.02612 Z">
                                      <p:cBhvr>
                                        <p:cTn id="25" dur="7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8:22:08Z</dcterms:created>
  <dc:creator>Милованова Ольга</dc:creator>
  <dc:description/>
  <dc:language>en-US</dc:language>
  <cp:lastModifiedBy>User</cp:lastModifiedBy>
  <dcterms:modified xsi:type="dcterms:W3CDTF">2013-10-22T07:36:24Z</dcterms:modified>
  <cp:revision>4</cp:revision>
  <dc:subject/>
  <dc:title>Слайд 1</dc:title>
</cp:coreProperties>
</file>