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17.jpeg" ContentType="image/jpeg"/>
  <Override PartName="/ppt/media/image26.png" ContentType="image/png"/>
  <Override PartName="/ppt/media/image7.png" ContentType="image/png"/>
  <Override PartName="/ppt/media/image1.jpeg" ContentType="image/jpeg"/>
  <Override PartName="/ppt/media/image3.wmf" ContentType="image/x-wmf"/>
  <Override PartName="/ppt/media/image6.png" ContentType="image/png"/>
  <Override PartName="/ppt/media/image2.gif" ContentType="image/gif"/>
  <Override PartName="/ppt/media/image5.png" ContentType="image/png"/>
  <Override PartName="/ppt/media/image25.jpeg" ContentType="image/jpeg"/>
  <Override PartName="/ppt/media/image15.png" ContentType="image/png"/>
  <Override PartName="/ppt/media/image27.png" ContentType="image/png"/>
  <Override PartName="/ppt/media/image24.gif" ContentType="image/gif"/>
  <Override PartName="/ppt/media/image16.jpeg" ContentType="image/jpeg"/>
  <Override PartName="/ppt/media/image23.png" ContentType="image/png"/>
  <Override PartName="/ppt/media/image22.png" ContentType="image/png"/>
  <Override PartName="/ppt/media/image21.wmf" ContentType="image/x-wmf"/>
  <Override PartName="/ppt/media/image4.wmf" ContentType="image/x-wmf"/>
  <Override PartName="/ppt/media/image10.png" ContentType="image/png"/>
  <Override PartName="/ppt/media/image19.png" ContentType="image/png"/>
  <Override PartName="/ppt/media/image18.png" ContentType="image/png"/>
  <Override PartName="/ppt/media/image1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DFD-397C-43C5-83B3-4650032D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4E75-72CB-4B40-A9EB-17458D2A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E92-5FD2-4733-9C43-E7CA4104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F590-09C2-4B5A-9607-7C7661CC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325-3163-4C67-B5C4-F2E73BD3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ACCF-454A-4C74-BA75-CC165139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07A4-E2E7-4582-8C4A-9D208856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871-1BC1-484B-830C-F19F729F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C43-2460-4AFD-9ADB-ADB3102E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D5BC-8603-440F-AA58-E006510F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6933-F829-4A4A-A66A-0916E3FE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508E-1DE2-4DA7-869F-945AAA81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C4C5-5742-4A66-8082-DA2EF6D84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440" y="609480"/>
            <a:ext cx="4419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гляните в зеркало душ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18143400">
            <a:off x="3808800" y="381600"/>
            <a:ext cx="1038240" cy="706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Оболочки гл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295280"/>
          <a:ext cx="7848360" cy="5028840"/>
        </p:xfrm>
        <a:graphic>
          <a:graphicData uri="http://schemas.openxmlformats.org/drawingml/2006/table">
            <a:tbl>
              <a:tblPr/>
              <a:tblGrid>
                <a:gridCol w="2750400"/>
                <a:gridCol w="2549160"/>
                <a:gridCol w="2548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болочки гл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Стро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Фиброзная  (1 мм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Задняя белочная оболочка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клера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. Плотная, прочная, непрозрачная ткань белогоцв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ередняя – прозрач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я </a:t>
                      </a: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огов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беспечивает форму глаз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ого яблока, защищает 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Сосудистая  (0,2–0,4 м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Снабжена сосудами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пигментом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Обеспечивает пит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гл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Сетчатка (0,15 – 0,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Внутренняя оболочка,                           состоит     из    </a:t>
                      </a:r>
                      <a:r>
                        <a:rPr b="0" i="1" lang="en-US" sz="18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пигмент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i="1" lang="en-US" sz="18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слоя</a:t>
                      </a:r>
                      <a:r>
                        <a:rPr b="0" lang="en-US" sz="18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и фоторецепт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Пигмент поглощает свет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уменьшает его отраж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и рассеивание. Здесь формируются нервные импуль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Части гл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8458200" y="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7301"/>
                </a:moveTo>
                <a:lnTo>
                  <a:pt x="7788" y="7301"/>
                </a:lnTo>
                <a:lnTo>
                  <a:pt x="8171" y="7667"/>
                </a:lnTo>
                <a:lnTo>
                  <a:pt x="17379" y="7667"/>
                </a:lnTo>
                <a:lnTo>
                  <a:pt x="17936" y="8224"/>
                </a:lnTo>
                <a:lnTo>
                  <a:pt x="17936" y="8772"/>
                </a:lnTo>
                <a:lnTo>
                  <a:pt x="19782" y="8772"/>
                </a:lnTo>
                <a:lnTo>
                  <a:pt x="20147" y="8224"/>
                </a:lnTo>
                <a:lnTo>
                  <a:pt x="20887" y="8224"/>
                </a:lnTo>
                <a:lnTo>
                  <a:pt x="20887" y="13376"/>
                </a:lnTo>
                <a:lnTo>
                  <a:pt x="20147" y="13376"/>
                </a:lnTo>
                <a:lnTo>
                  <a:pt x="19782" y="12828"/>
                </a:lnTo>
                <a:lnTo>
                  <a:pt x="17936" y="12828"/>
                </a:lnTo>
                <a:lnTo>
                  <a:pt x="17936" y="14107"/>
                </a:lnTo>
                <a:lnTo>
                  <a:pt x="8354" y="14107"/>
                </a:lnTo>
                <a:lnTo>
                  <a:pt x="8354" y="9877"/>
                </a:lnTo>
                <a:lnTo>
                  <a:pt x="8171" y="9877"/>
                </a:lnTo>
                <a:lnTo>
                  <a:pt x="7788" y="10243"/>
                </a:lnTo>
                <a:lnTo>
                  <a:pt x="687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1984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сетча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105520" y="3373560"/>
            <a:ext cx="3352680" cy="2503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450828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143160" y="0"/>
            <a:ext cx="600084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435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людайте гигиену зрения при работе на компьютере и чтении кни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25960" y="1600200"/>
            <a:ext cx="3326040" cy="4495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332604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4921" r="0" b="49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7301"/>
                </a:moveTo>
                <a:lnTo>
                  <a:pt x="7788" y="7301"/>
                </a:lnTo>
                <a:lnTo>
                  <a:pt x="8171" y="7667"/>
                </a:lnTo>
                <a:lnTo>
                  <a:pt x="17379" y="7667"/>
                </a:lnTo>
                <a:lnTo>
                  <a:pt x="17936" y="8224"/>
                </a:lnTo>
                <a:lnTo>
                  <a:pt x="17936" y="8772"/>
                </a:lnTo>
                <a:lnTo>
                  <a:pt x="19782" y="8772"/>
                </a:lnTo>
                <a:lnTo>
                  <a:pt x="20147" y="8224"/>
                </a:lnTo>
                <a:lnTo>
                  <a:pt x="20887" y="8224"/>
                </a:lnTo>
                <a:lnTo>
                  <a:pt x="20887" y="13376"/>
                </a:lnTo>
                <a:lnTo>
                  <a:pt x="20147" y="13376"/>
                </a:lnTo>
                <a:lnTo>
                  <a:pt x="19782" y="12828"/>
                </a:lnTo>
                <a:lnTo>
                  <a:pt x="17936" y="12828"/>
                </a:lnTo>
                <a:lnTo>
                  <a:pt x="17936" y="14107"/>
                </a:lnTo>
                <a:lnTo>
                  <a:pt x="8354" y="14107"/>
                </a:lnTo>
                <a:lnTo>
                  <a:pt x="8354" y="9877"/>
                </a:lnTo>
                <a:lnTo>
                  <a:pt x="8171" y="9877"/>
                </a:lnTo>
                <a:lnTo>
                  <a:pt x="7788" y="10243"/>
                </a:lnTo>
                <a:lnTo>
                  <a:pt x="687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19320" y="1371600"/>
          <a:ext cx="670536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670536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лизорук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38400" y="571680"/>
            <a:ext cx="6667200" cy="5715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301"/>
                </a:moveTo>
                <a:lnTo>
                  <a:pt x="6244" y="7301"/>
                </a:lnTo>
                <a:lnTo>
                  <a:pt x="6627" y="7667"/>
                </a:lnTo>
                <a:lnTo>
                  <a:pt x="15836" y="7667"/>
                </a:lnTo>
                <a:lnTo>
                  <a:pt x="16393" y="8224"/>
                </a:lnTo>
                <a:lnTo>
                  <a:pt x="16393" y="8772"/>
                </a:lnTo>
                <a:lnTo>
                  <a:pt x="18238" y="8772"/>
                </a:lnTo>
                <a:lnTo>
                  <a:pt x="18603" y="8224"/>
                </a:lnTo>
                <a:lnTo>
                  <a:pt x="19343" y="8224"/>
                </a:lnTo>
                <a:lnTo>
                  <a:pt x="19343" y="13376"/>
                </a:lnTo>
                <a:lnTo>
                  <a:pt x="18603" y="13376"/>
                </a:lnTo>
                <a:lnTo>
                  <a:pt x="18238" y="12828"/>
                </a:lnTo>
                <a:lnTo>
                  <a:pt x="16393" y="12828"/>
                </a:lnTo>
                <a:lnTo>
                  <a:pt x="16393" y="14107"/>
                </a:lnTo>
                <a:lnTo>
                  <a:pt x="6810" y="14107"/>
                </a:lnTo>
                <a:lnTo>
                  <a:pt x="6810" y="9877"/>
                </a:lnTo>
                <a:lnTo>
                  <a:pt x="6627" y="9877"/>
                </a:lnTo>
                <a:lnTo>
                  <a:pt x="6244" y="10243"/>
                </a:lnTo>
                <a:lnTo>
                  <a:pt x="5330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76520"/>
          <a:ext cx="8305920" cy="373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30592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альнозорк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38400" y="571680"/>
            <a:ext cx="66672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-7920"/>
            <a:ext cx="8381880" cy="6873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асеточный глаз насеко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0" b="28612"/>
          <a:stretch/>
        </p:blipFill>
        <p:spPr>
          <a:xfrm>
            <a:off x="762120" y="660240"/>
            <a:ext cx="7391160" cy="6105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7301"/>
                </a:moveTo>
                <a:lnTo>
                  <a:pt x="6059" y="7301"/>
                </a:lnTo>
                <a:lnTo>
                  <a:pt x="6442" y="7667"/>
                </a:lnTo>
                <a:lnTo>
                  <a:pt x="15650" y="7667"/>
                </a:lnTo>
                <a:lnTo>
                  <a:pt x="16208" y="8224"/>
                </a:lnTo>
                <a:lnTo>
                  <a:pt x="16208" y="8772"/>
                </a:lnTo>
                <a:lnTo>
                  <a:pt x="18053" y="8772"/>
                </a:lnTo>
                <a:lnTo>
                  <a:pt x="18418" y="8224"/>
                </a:lnTo>
                <a:lnTo>
                  <a:pt x="19158" y="8224"/>
                </a:lnTo>
                <a:lnTo>
                  <a:pt x="19158" y="13376"/>
                </a:lnTo>
                <a:lnTo>
                  <a:pt x="18418" y="13376"/>
                </a:lnTo>
                <a:lnTo>
                  <a:pt x="18053" y="12828"/>
                </a:lnTo>
                <a:lnTo>
                  <a:pt x="16208" y="12828"/>
                </a:lnTo>
                <a:lnTo>
                  <a:pt x="16208" y="14107"/>
                </a:lnTo>
                <a:lnTo>
                  <a:pt x="6625" y="14107"/>
                </a:lnTo>
                <a:lnTo>
                  <a:pt x="6625" y="9877"/>
                </a:lnTo>
                <a:lnTo>
                  <a:pt x="6442" y="9877"/>
                </a:lnTo>
                <a:lnTo>
                  <a:pt x="6059" y="10243"/>
                </a:lnTo>
                <a:lnTo>
                  <a:pt x="5145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одящие пути зрительного анализа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66756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7301"/>
                </a:moveTo>
                <a:lnTo>
                  <a:pt x="9332" y="7301"/>
                </a:lnTo>
                <a:lnTo>
                  <a:pt x="9715" y="7667"/>
                </a:lnTo>
                <a:lnTo>
                  <a:pt x="18923" y="7667"/>
                </a:lnTo>
                <a:lnTo>
                  <a:pt x="19480" y="8224"/>
                </a:lnTo>
                <a:lnTo>
                  <a:pt x="19480" y="8772"/>
                </a:lnTo>
                <a:lnTo>
                  <a:pt x="21326" y="8772"/>
                </a:lnTo>
                <a:lnTo>
                  <a:pt x="21691" y="8224"/>
                </a:lnTo>
                <a:lnTo>
                  <a:pt x="22431" y="8224"/>
                </a:lnTo>
                <a:lnTo>
                  <a:pt x="22431" y="13376"/>
                </a:lnTo>
                <a:lnTo>
                  <a:pt x="21691" y="13376"/>
                </a:lnTo>
                <a:lnTo>
                  <a:pt x="21326" y="12828"/>
                </a:lnTo>
                <a:lnTo>
                  <a:pt x="19480" y="12828"/>
                </a:lnTo>
                <a:lnTo>
                  <a:pt x="19480" y="14107"/>
                </a:lnTo>
                <a:lnTo>
                  <a:pt x="9898" y="14107"/>
                </a:lnTo>
                <a:lnTo>
                  <a:pt x="9898" y="9877"/>
                </a:lnTo>
                <a:lnTo>
                  <a:pt x="9715" y="9877"/>
                </a:lnTo>
                <a:lnTo>
                  <a:pt x="9332" y="10243"/>
                </a:lnTo>
                <a:lnTo>
                  <a:pt x="8418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Светочувствительный глазок эвгл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49568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ка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76392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Чувствительное   образование,  воспринимающее   раздражение   и преобразующее  его  в  нервное  возбужд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Прозрачная наружная оболочка г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Совокупность чувствительных  образований  и  отделов нервной системы, обеспечивающих  восприятие  и  анализ  раздражений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Одно из внешних чувств  животного, органом которого является глаз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 Оптический   прибор, помогающий   корректировать  зр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 Передняя  часть  сосудистой  оболочки, содержащая  пигмент. Определяет цвет  гл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 Орган 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  Нерв,  берущий  начало на сетчатке, в слепом  пят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  Вещество фиолетового цвета,  содержащееся в колбоч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Способность глаза  к  ясному  видению  предметов на разных расстоян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И глазное,  и наливно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Эти рецепторы  на сетчатке воспринимают цвет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ка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588240"/>
            <a:ext cx="7848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Чувствительное   образование,  воспринимающее   раздражение   и преобразующее  его  в  нервное  возбуждение.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Рецепто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Прозрачная наружная оболочка глаза.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Роговиц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овокупность чувствительных  образований  и  отделов нервной системы, обеспечивающих  восприятие  и  анализ  раздражений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 Анализато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Одно из внешних чувств  животного, органом которого является глаз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Зрен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Оптический   прибор, помогающий   корректировать  зрение.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Оч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Передняя  часть  сосудистой  оболочки, содержащая  пигмент. Определяет цвет  глаз.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Радуж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Орган  зрения.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Глаз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Нерв,  берущий  начало на сетчатке, в слепом  пятне.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Зрительны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Вещество фиолетового цвета,  содержащееся в колбочках.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Йодопс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.Способность глаза  к  ясному  видению  предметов на разных расстояниях.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Аккомодац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.И глазное,  и наливно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Яблок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.Эти рецепторы  на сетчатке воспринимают цвет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Колбоч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авильные отв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219320"/>
          <a:ext cx="8229600" cy="419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82296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ятослав Фед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397044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458200" y="6400800"/>
            <a:ext cx="814320" cy="509760"/>
          </a:xfrm>
          <a:custGeom>
            <a:avLst/>
            <a:gdLst>
              <a:gd name="textAreaLeft" fmla="*/ 32760 w 814320"/>
              <a:gd name="textAreaRight" fmla="*/ 781560 w 8143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4496" h="21600">
                <a:moveTo>
                  <a:pt x="0" y="0"/>
                </a:moveTo>
                <a:lnTo>
                  <a:pt x="34496" y="0"/>
                </a:lnTo>
                <a:lnTo>
                  <a:pt x="34496" y="21600"/>
                </a:lnTo>
                <a:lnTo>
                  <a:pt x="0" y="21600"/>
                </a:lnTo>
                <a:close/>
              </a:path>
              <a:path fill="lightenLess" w="34496" h="21600">
                <a:moveTo>
                  <a:pt x="0" y="0"/>
                </a:moveTo>
                <a:lnTo>
                  <a:pt x="34496" y="0"/>
                </a:lnTo>
                <a:lnTo>
                  <a:pt x="33096" y="1400"/>
                </a:lnTo>
                <a:lnTo>
                  <a:pt x="1400" y="1400"/>
                </a:lnTo>
                <a:close/>
              </a:path>
              <a:path fill="darken" w="34496" h="21600">
                <a:moveTo>
                  <a:pt x="34496" y="0"/>
                </a:moveTo>
                <a:lnTo>
                  <a:pt x="34496" y="21600"/>
                </a:lnTo>
                <a:lnTo>
                  <a:pt x="33096" y="20200"/>
                </a:lnTo>
                <a:lnTo>
                  <a:pt x="33096" y="1400"/>
                </a:lnTo>
                <a:close/>
              </a:path>
              <a:path fill="darkenLess" w="34496" h="21600">
                <a:moveTo>
                  <a:pt x="34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96" y="20200"/>
                </a:lnTo>
                <a:close/>
              </a:path>
              <a:path fill="lighten" w="34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96" h="21600">
                <a:moveTo>
                  <a:pt x="10242" y="7301"/>
                </a:moveTo>
                <a:lnTo>
                  <a:pt x="11155" y="7301"/>
                </a:lnTo>
                <a:lnTo>
                  <a:pt x="11538" y="7667"/>
                </a:lnTo>
                <a:lnTo>
                  <a:pt x="20747" y="7667"/>
                </a:lnTo>
                <a:lnTo>
                  <a:pt x="21304" y="8224"/>
                </a:lnTo>
                <a:lnTo>
                  <a:pt x="21304" y="8772"/>
                </a:lnTo>
                <a:lnTo>
                  <a:pt x="23149" y="8772"/>
                </a:lnTo>
                <a:lnTo>
                  <a:pt x="23515" y="8224"/>
                </a:lnTo>
                <a:lnTo>
                  <a:pt x="24254" y="8224"/>
                </a:lnTo>
                <a:lnTo>
                  <a:pt x="24254" y="13376"/>
                </a:lnTo>
                <a:lnTo>
                  <a:pt x="23515" y="13376"/>
                </a:lnTo>
                <a:lnTo>
                  <a:pt x="23149" y="12828"/>
                </a:lnTo>
                <a:lnTo>
                  <a:pt x="21304" y="12828"/>
                </a:lnTo>
                <a:lnTo>
                  <a:pt x="21304" y="14107"/>
                </a:lnTo>
                <a:lnTo>
                  <a:pt x="11721" y="14107"/>
                </a:lnTo>
                <a:lnTo>
                  <a:pt x="11721" y="9877"/>
                </a:lnTo>
                <a:lnTo>
                  <a:pt x="11538" y="9877"/>
                </a:lnTo>
                <a:lnTo>
                  <a:pt x="11155" y="10243"/>
                </a:lnTo>
                <a:lnTo>
                  <a:pt x="10242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помогательный аппарат глаз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1044720"/>
            <a:ext cx="6781680" cy="5813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утреннее строение гл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4367160" cy="5410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7301"/>
                </a:moveTo>
                <a:lnTo>
                  <a:pt x="9332" y="7301"/>
                </a:lnTo>
                <a:lnTo>
                  <a:pt x="9715" y="7667"/>
                </a:lnTo>
                <a:lnTo>
                  <a:pt x="18923" y="7667"/>
                </a:lnTo>
                <a:lnTo>
                  <a:pt x="19480" y="8224"/>
                </a:lnTo>
                <a:lnTo>
                  <a:pt x="19480" y="8772"/>
                </a:lnTo>
                <a:lnTo>
                  <a:pt x="21326" y="8772"/>
                </a:lnTo>
                <a:lnTo>
                  <a:pt x="21691" y="8224"/>
                </a:lnTo>
                <a:lnTo>
                  <a:pt x="22431" y="8224"/>
                </a:lnTo>
                <a:lnTo>
                  <a:pt x="22431" y="13376"/>
                </a:lnTo>
                <a:lnTo>
                  <a:pt x="21691" y="13376"/>
                </a:lnTo>
                <a:lnTo>
                  <a:pt x="21326" y="12828"/>
                </a:lnTo>
                <a:lnTo>
                  <a:pt x="19480" y="12828"/>
                </a:lnTo>
                <a:lnTo>
                  <a:pt x="19480" y="14107"/>
                </a:lnTo>
                <a:lnTo>
                  <a:pt x="9898" y="14107"/>
                </a:lnTo>
                <a:lnTo>
                  <a:pt x="9898" y="9877"/>
                </a:lnTo>
                <a:lnTo>
                  <a:pt x="9715" y="9877"/>
                </a:lnTo>
                <a:lnTo>
                  <a:pt x="9332" y="10243"/>
                </a:lnTo>
                <a:lnTo>
                  <a:pt x="8418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06-12-31T22:00:4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