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7B25-FBF6-4DEF-832A-3789EE81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2C30-4876-4ACB-BA16-1B8FBF21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853D-A265-43D7-B75A-A76494B87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4B8F-0270-440C-829B-111771A03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2FC3-45D5-4A8D-ADDA-A126F146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A348-4E57-4723-850F-CA917C63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5F0A-7076-4278-AE98-D8D31EFA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A31C-AA88-4FC2-B916-4763193B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A2CA-C2CE-403C-B39B-611CB1E7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F14B-420E-4B18-B90C-607CB3F4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A4C7-3E40-46D8-B4CB-94536C51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41D9-2319-445D-8441-EC61A010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3036-09C2-401F-88AA-6A939E01A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0.jpeg"/><Relationship Id="rId5" Type="http://schemas.openxmlformats.org/officeDocument/2006/relationships/image" Target="../media/image23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7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9.jpeg"/><Relationship Id="rId4" Type="http://schemas.openxmlformats.org/officeDocument/2006/relationships/image" Target="../media/image14.jpeg"/><Relationship Id="rId5" Type="http://schemas.openxmlformats.org/officeDocument/2006/relationships/image" Target="../media/image10.jpeg"/><Relationship Id="rId6" Type="http://schemas.openxmlformats.org/officeDocument/2006/relationships/image" Target="../media/image14.jpeg"/><Relationship Id="rId7" Type="http://schemas.openxmlformats.org/officeDocument/2006/relationships/image" Target="../media/image13.jpeg"/><Relationship Id="rId8" Type="http://schemas.openxmlformats.org/officeDocument/2006/relationships/image" Target="../media/image12.jpeg"/><Relationship Id="rId9" Type="http://schemas.openxmlformats.org/officeDocument/2006/relationships/image" Target="../media/image9.jpeg"/><Relationship Id="rId10" Type="http://schemas.openxmlformats.org/officeDocument/2006/relationships/image" Target="../media/image14.jpeg"/><Relationship Id="rId11" Type="http://schemas.openxmlformats.org/officeDocument/2006/relationships/image" Target="../media/image10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838080"/>
            <a:ext cx="3885840" cy="1295280"/>
            <a:chOff x="304920" y="838080"/>
            <a:chExt cx="3885840" cy="1295280"/>
          </a:xfrm>
        </p:grpSpPr>
        <p:cxnSp>
          <p:nvCxnSpPr>
            <p:cNvPr id="42" name="_s5126"/>
            <p:cNvCxnSpPr>
              <a:stCxn id="43" idx="0"/>
              <a:endCxn id="44" idx="2"/>
            </p:cNvCxnSpPr>
            <p:nvPr/>
          </p:nvCxnSpPr>
          <p:spPr>
            <a:xfrm flipV="1" rot="16200000">
              <a:off x="2641320" y="962640"/>
              <a:ext cx="259560" cy="1046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" name="_s5127"/>
            <p:cNvCxnSpPr>
              <a:stCxn id="46" idx="0"/>
              <a:endCxn id="44" idx="2"/>
            </p:cNvCxnSpPr>
            <p:nvPr/>
          </p:nvCxnSpPr>
          <p:spPr>
            <a:xfrm flipH="1" flipV="1" rot="5400000">
              <a:off x="1595160" y="962640"/>
              <a:ext cx="259560" cy="1046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4" name="_s5128"/>
            <p:cNvSpPr/>
            <p:nvPr/>
          </p:nvSpPr>
          <p:spPr>
            <a:xfrm>
              <a:off x="1351080" y="838080"/>
              <a:ext cx="1793520" cy="518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РИРОД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5129"/>
            <p:cNvSpPr/>
            <p:nvPr/>
          </p:nvSpPr>
          <p:spPr>
            <a:xfrm>
              <a:off x="304920" y="1615320"/>
              <a:ext cx="1793520" cy="518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________________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________________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5130"/>
            <p:cNvSpPr/>
            <p:nvPr/>
          </p:nvSpPr>
          <p:spPr>
            <a:xfrm>
              <a:off x="2397240" y="1615320"/>
              <a:ext cx="1793520" cy="518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______________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______________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0" y="4267080"/>
            <a:ext cx="44956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чит детей в школе-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Лечит больных в больнице - 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троит дома из кирпича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Чертит чертежи разных механизмов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ует картины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отовит пищу в столовой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ыращивает цветы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анимается ремонтом обуви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ледит за чистотой во дворе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Ловит рыбу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ыбери нужное слово:дворник, учитель, цветовод, врач, рыбак художник, инженер, строитель, повар, охранник, сапожни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8320" y="4267080"/>
            <a:ext cx="44956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чит детей в школе-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Лечит больных в больнице - 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троит дома из кирпича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Чертит чертежи разных механизмов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ует картины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отовит пищу в столовой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ыращивает цветы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анимается ремонтом обуви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ледит за чистотой во дворе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Ловит рыбу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ыбери нужное слово:дворник, учитель, цветовод, врач, рыбак художник, инженер, строитель, повар, охранник, сапожни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029200" y="838080"/>
            <a:ext cx="3885840" cy="1295280"/>
            <a:chOff x="5029200" y="838080"/>
            <a:chExt cx="3885840" cy="1295280"/>
          </a:xfrm>
        </p:grpSpPr>
        <p:cxnSp>
          <p:nvCxnSpPr>
            <p:cNvPr id="50" name="_s5135"/>
            <p:cNvCxnSpPr>
              <a:stCxn id="51" idx="0"/>
              <a:endCxn id="52" idx="2"/>
            </p:cNvCxnSpPr>
            <p:nvPr/>
          </p:nvCxnSpPr>
          <p:spPr>
            <a:xfrm flipV="1" rot="16200000">
              <a:off x="7365600" y="962640"/>
              <a:ext cx="259560" cy="1046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5136"/>
            <p:cNvCxnSpPr>
              <a:stCxn id="54" idx="0"/>
              <a:endCxn id="52" idx="2"/>
            </p:cNvCxnSpPr>
            <p:nvPr/>
          </p:nvCxnSpPr>
          <p:spPr>
            <a:xfrm flipH="1" flipV="1" rot="5400000">
              <a:off x="6319440" y="962640"/>
              <a:ext cx="259560" cy="1046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2" name="_s5137"/>
            <p:cNvSpPr/>
            <p:nvPr/>
          </p:nvSpPr>
          <p:spPr>
            <a:xfrm>
              <a:off x="6075360" y="838080"/>
              <a:ext cx="1793520" cy="518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РИРОД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5138"/>
            <p:cNvSpPr/>
            <p:nvPr/>
          </p:nvSpPr>
          <p:spPr>
            <a:xfrm>
              <a:off x="5029200" y="1615320"/>
              <a:ext cx="1793520" cy="518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______________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_______________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5139"/>
            <p:cNvSpPr/>
            <p:nvPr/>
          </p:nvSpPr>
          <p:spPr>
            <a:xfrm>
              <a:off x="7121520" y="1615320"/>
              <a:ext cx="1793520" cy="518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_____________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_______________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230400" y="4572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Приведи пример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54680" y="53352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Приведи пример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304812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Подчеркни рыб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елка, карась, слон, ящерица, крокодил, корова, сом, дельфин, кот, акула, коз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5720" y="3821040"/>
            <a:ext cx="25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Впиши название професс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76200" y="3886200"/>
            <a:ext cx="25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Впиши название професс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20040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Подчеркни рыб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елка, карась, слон, ящерица, крокодил, корова, сом, дельфин, кот, акула, коз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47520"/>
            <a:ext cx="37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ТЕСТ ПО ОКРУЖАЮЩЕМУ МИР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УЧ-СЯ 2 «…» КЛАССА 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152280"/>
            <a:ext cx="373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ТЕСТ ПО ОКРУЖАЮЩЕМУ МИР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УЧ-СЯ 2 «….» КЛАССА 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220968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Человек относится к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подчеркн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ыбам, птицам, млекопитающим, пресмыкающимся,земновод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2362320"/>
            <a:ext cx="4572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Человек относится к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одчеркн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ыбам, птицам, млекопитающим, пресмыкающимся,земновод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2743200"/>
            <a:ext cx="29718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457200"/>
            <a:ext cx="2057400" cy="8380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32160" y="762120"/>
            <a:ext cx="3525840" cy="2170080"/>
          </a:xfrm>
          <a:custGeom>
            <a:avLst/>
            <a:gdLst/>
            <a:ahLst/>
            <a:rect l="l" t="t" r="r" b="b"/>
            <a:pathLst>
              <a:path w="2221" h="1367">
                <a:moveTo>
                  <a:pt x="0" y="1313"/>
                </a:moveTo>
                <a:cubicBezTo>
                  <a:pt x="28" y="1268"/>
                  <a:pt x="45" y="1229"/>
                  <a:pt x="69" y="1183"/>
                </a:cubicBezTo>
                <a:cubicBezTo>
                  <a:pt x="82" y="1127"/>
                  <a:pt x="120" y="1059"/>
                  <a:pt x="145" y="1006"/>
                </a:cubicBezTo>
                <a:cubicBezTo>
                  <a:pt x="155" y="893"/>
                  <a:pt x="125" y="764"/>
                  <a:pt x="192" y="668"/>
                </a:cubicBezTo>
                <a:cubicBezTo>
                  <a:pt x="208" y="615"/>
                  <a:pt x="262" y="571"/>
                  <a:pt x="291" y="522"/>
                </a:cubicBezTo>
                <a:cubicBezTo>
                  <a:pt x="337" y="446"/>
                  <a:pt x="383" y="365"/>
                  <a:pt x="460" y="315"/>
                </a:cubicBezTo>
                <a:cubicBezTo>
                  <a:pt x="492" y="269"/>
                  <a:pt x="572" y="193"/>
                  <a:pt x="622" y="169"/>
                </a:cubicBezTo>
                <a:cubicBezTo>
                  <a:pt x="654" y="119"/>
                  <a:pt x="685" y="118"/>
                  <a:pt x="737" y="92"/>
                </a:cubicBezTo>
                <a:cubicBezTo>
                  <a:pt x="865" y="28"/>
                  <a:pt x="657" y="66"/>
                  <a:pt x="952" y="54"/>
                </a:cubicBezTo>
                <a:cubicBezTo>
                  <a:pt x="1002" y="20"/>
                  <a:pt x="1044" y="0"/>
                  <a:pt x="1105" y="0"/>
                </a:cubicBezTo>
                <a:lnTo>
                  <a:pt x="1405" y="167"/>
                </a:lnTo>
                <a:cubicBezTo>
                  <a:pt x="1467" y="172"/>
                  <a:pt x="1479" y="232"/>
                  <a:pt x="1505" y="276"/>
                </a:cubicBezTo>
                <a:cubicBezTo>
                  <a:pt x="1508" y="282"/>
                  <a:pt x="1531" y="303"/>
                  <a:pt x="1536" y="307"/>
                </a:cubicBezTo>
                <a:cubicBezTo>
                  <a:pt x="1579" y="397"/>
                  <a:pt x="1520" y="266"/>
                  <a:pt x="1559" y="384"/>
                </a:cubicBezTo>
                <a:cubicBezTo>
                  <a:pt x="1562" y="393"/>
                  <a:pt x="1570" y="399"/>
                  <a:pt x="1574" y="407"/>
                </a:cubicBezTo>
                <a:cubicBezTo>
                  <a:pt x="1589" y="437"/>
                  <a:pt x="1600" y="476"/>
                  <a:pt x="1612" y="507"/>
                </a:cubicBezTo>
                <a:cubicBezTo>
                  <a:pt x="1619" y="527"/>
                  <a:pt x="1622" y="567"/>
                  <a:pt x="1635" y="584"/>
                </a:cubicBezTo>
                <a:cubicBezTo>
                  <a:pt x="1645" y="597"/>
                  <a:pt x="1663" y="601"/>
                  <a:pt x="1674" y="614"/>
                </a:cubicBezTo>
                <a:cubicBezTo>
                  <a:pt x="1701" y="646"/>
                  <a:pt x="1729" y="676"/>
                  <a:pt x="1758" y="707"/>
                </a:cubicBezTo>
                <a:cubicBezTo>
                  <a:pt x="1768" y="718"/>
                  <a:pt x="1772" y="733"/>
                  <a:pt x="1781" y="745"/>
                </a:cubicBezTo>
                <a:cubicBezTo>
                  <a:pt x="1785" y="751"/>
                  <a:pt x="1792" y="755"/>
                  <a:pt x="1797" y="760"/>
                </a:cubicBezTo>
                <a:cubicBezTo>
                  <a:pt x="1818" y="829"/>
                  <a:pt x="1784" y="730"/>
                  <a:pt x="1827" y="806"/>
                </a:cubicBezTo>
                <a:cubicBezTo>
                  <a:pt x="1848" y="844"/>
                  <a:pt x="1845" y="858"/>
                  <a:pt x="1873" y="891"/>
                </a:cubicBezTo>
                <a:cubicBezTo>
                  <a:pt x="1924" y="952"/>
                  <a:pt x="1864" y="866"/>
                  <a:pt x="1943" y="945"/>
                </a:cubicBezTo>
                <a:cubicBezTo>
                  <a:pt x="1968" y="970"/>
                  <a:pt x="1997" y="1009"/>
                  <a:pt x="2027" y="1029"/>
                </a:cubicBezTo>
                <a:cubicBezTo>
                  <a:pt x="2044" y="1079"/>
                  <a:pt x="2047" y="1108"/>
                  <a:pt x="2104" y="1121"/>
                </a:cubicBezTo>
                <a:cubicBezTo>
                  <a:pt x="2121" y="1140"/>
                  <a:pt x="2158" y="1175"/>
                  <a:pt x="2158" y="1175"/>
                </a:cubicBezTo>
                <a:lnTo>
                  <a:pt x="2221" y="136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09680" y="76320"/>
            <a:ext cx="2057400" cy="838080"/>
          </a:xfrm>
          <a:prstGeom prst="cloudCallout">
            <a:avLst>
              <a:gd name="adj1" fmla="val -114120"/>
              <a:gd name="adj2" fmla="val 1246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ree"/>
          <p:cNvSpPr/>
          <p:nvPr/>
        </p:nvSpPr>
        <p:spPr>
          <a:xfrm>
            <a:off x="3200400" y="1371600"/>
            <a:ext cx="752400" cy="600120"/>
          </a:xfr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ree"/>
          <p:cNvSpPr/>
          <p:nvPr/>
        </p:nvSpPr>
        <p:spPr>
          <a:xfrm>
            <a:off x="4724280" y="914400"/>
            <a:ext cx="752760" cy="600120"/>
          </a:xfr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ree"/>
          <p:cNvSpPr/>
          <p:nvPr/>
        </p:nvSpPr>
        <p:spPr>
          <a:xfrm>
            <a:off x="4343400" y="2209680"/>
            <a:ext cx="752400" cy="600120"/>
          </a:xfr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997360"/>
            <a:ext cx="3809880" cy="495000"/>
          </a:xfrm>
          <a:custGeom>
            <a:avLst/>
            <a:gdLst/>
            <a:ahLst/>
            <a:rect l="l" t="t" r="r" b="b"/>
            <a:pathLst>
              <a:path w="2400" h="312">
                <a:moveTo>
                  <a:pt x="2400" y="32"/>
                </a:moveTo>
                <a:cubicBezTo>
                  <a:pt x="2224" y="132"/>
                  <a:pt x="2048" y="232"/>
                  <a:pt x="1824" y="272"/>
                </a:cubicBezTo>
                <a:cubicBezTo>
                  <a:pt x="1600" y="312"/>
                  <a:pt x="1312" y="312"/>
                  <a:pt x="1056" y="272"/>
                </a:cubicBezTo>
                <a:cubicBezTo>
                  <a:pt x="800" y="232"/>
                  <a:pt x="464" y="64"/>
                  <a:pt x="288" y="32"/>
                </a:cubicBezTo>
                <a:cubicBezTo>
                  <a:pt x="112" y="0"/>
                  <a:pt x="48" y="72"/>
                  <a:pt x="0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5562720"/>
            <a:ext cx="29718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3733920"/>
            <a:ext cx="2057400" cy="8380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3809880"/>
            <a:ext cx="20574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08480" y="3849840"/>
            <a:ext cx="3525840" cy="2170080"/>
          </a:xfrm>
          <a:custGeom>
            <a:avLst/>
            <a:gdLst/>
            <a:ahLst/>
            <a:rect l="l" t="t" r="r" b="b"/>
            <a:pathLst>
              <a:path w="2221" h="1367">
                <a:moveTo>
                  <a:pt x="0" y="1313"/>
                </a:moveTo>
                <a:cubicBezTo>
                  <a:pt x="28" y="1268"/>
                  <a:pt x="45" y="1229"/>
                  <a:pt x="69" y="1183"/>
                </a:cubicBezTo>
                <a:cubicBezTo>
                  <a:pt x="82" y="1127"/>
                  <a:pt x="120" y="1059"/>
                  <a:pt x="145" y="1006"/>
                </a:cubicBezTo>
                <a:cubicBezTo>
                  <a:pt x="155" y="893"/>
                  <a:pt x="125" y="764"/>
                  <a:pt x="192" y="668"/>
                </a:cubicBezTo>
                <a:cubicBezTo>
                  <a:pt x="208" y="615"/>
                  <a:pt x="262" y="571"/>
                  <a:pt x="291" y="522"/>
                </a:cubicBezTo>
                <a:cubicBezTo>
                  <a:pt x="337" y="446"/>
                  <a:pt x="383" y="365"/>
                  <a:pt x="460" y="315"/>
                </a:cubicBezTo>
                <a:cubicBezTo>
                  <a:pt x="492" y="269"/>
                  <a:pt x="572" y="193"/>
                  <a:pt x="622" y="169"/>
                </a:cubicBezTo>
                <a:cubicBezTo>
                  <a:pt x="654" y="119"/>
                  <a:pt x="685" y="118"/>
                  <a:pt x="737" y="92"/>
                </a:cubicBezTo>
                <a:cubicBezTo>
                  <a:pt x="865" y="28"/>
                  <a:pt x="657" y="66"/>
                  <a:pt x="952" y="54"/>
                </a:cubicBezTo>
                <a:cubicBezTo>
                  <a:pt x="1002" y="20"/>
                  <a:pt x="1044" y="0"/>
                  <a:pt x="1105" y="0"/>
                </a:cubicBezTo>
                <a:lnTo>
                  <a:pt x="1405" y="167"/>
                </a:lnTo>
                <a:cubicBezTo>
                  <a:pt x="1467" y="172"/>
                  <a:pt x="1479" y="232"/>
                  <a:pt x="1505" y="276"/>
                </a:cubicBezTo>
                <a:cubicBezTo>
                  <a:pt x="1508" y="282"/>
                  <a:pt x="1531" y="303"/>
                  <a:pt x="1536" y="307"/>
                </a:cubicBezTo>
                <a:cubicBezTo>
                  <a:pt x="1579" y="397"/>
                  <a:pt x="1520" y="266"/>
                  <a:pt x="1559" y="384"/>
                </a:cubicBezTo>
                <a:cubicBezTo>
                  <a:pt x="1562" y="393"/>
                  <a:pt x="1570" y="399"/>
                  <a:pt x="1574" y="407"/>
                </a:cubicBezTo>
                <a:cubicBezTo>
                  <a:pt x="1589" y="437"/>
                  <a:pt x="1600" y="476"/>
                  <a:pt x="1612" y="507"/>
                </a:cubicBezTo>
                <a:cubicBezTo>
                  <a:pt x="1619" y="527"/>
                  <a:pt x="1622" y="567"/>
                  <a:pt x="1635" y="584"/>
                </a:cubicBezTo>
                <a:cubicBezTo>
                  <a:pt x="1645" y="597"/>
                  <a:pt x="1663" y="601"/>
                  <a:pt x="1674" y="614"/>
                </a:cubicBezTo>
                <a:cubicBezTo>
                  <a:pt x="1701" y="646"/>
                  <a:pt x="1729" y="676"/>
                  <a:pt x="1758" y="707"/>
                </a:cubicBezTo>
                <a:cubicBezTo>
                  <a:pt x="1768" y="718"/>
                  <a:pt x="1772" y="733"/>
                  <a:pt x="1781" y="745"/>
                </a:cubicBezTo>
                <a:cubicBezTo>
                  <a:pt x="1785" y="751"/>
                  <a:pt x="1792" y="755"/>
                  <a:pt x="1797" y="760"/>
                </a:cubicBezTo>
                <a:cubicBezTo>
                  <a:pt x="1818" y="829"/>
                  <a:pt x="1784" y="730"/>
                  <a:pt x="1827" y="806"/>
                </a:cubicBezTo>
                <a:cubicBezTo>
                  <a:pt x="1848" y="844"/>
                  <a:pt x="1845" y="858"/>
                  <a:pt x="1873" y="891"/>
                </a:cubicBezTo>
                <a:cubicBezTo>
                  <a:pt x="1924" y="952"/>
                  <a:pt x="1864" y="866"/>
                  <a:pt x="1943" y="945"/>
                </a:cubicBezTo>
                <a:cubicBezTo>
                  <a:pt x="1968" y="970"/>
                  <a:pt x="1997" y="1009"/>
                  <a:pt x="2027" y="1029"/>
                </a:cubicBezTo>
                <a:cubicBezTo>
                  <a:pt x="2044" y="1079"/>
                  <a:pt x="2047" y="1108"/>
                  <a:pt x="2104" y="1121"/>
                </a:cubicBezTo>
                <a:cubicBezTo>
                  <a:pt x="2121" y="1140"/>
                  <a:pt x="2158" y="1175"/>
                  <a:pt x="2158" y="1175"/>
                </a:cubicBezTo>
                <a:lnTo>
                  <a:pt x="2221" y="136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5943600"/>
            <a:ext cx="3809880" cy="495360"/>
          </a:xfrm>
          <a:custGeom>
            <a:avLst/>
            <a:gdLst/>
            <a:ahLst/>
            <a:rect l="l" t="t" r="r" b="b"/>
            <a:pathLst>
              <a:path w="2400" h="312">
                <a:moveTo>
                  <a:pt x="2400" y="32"/>
                </a:moveTo>
                <a:cubicBezTo>
                  <a:pt x="2224" y="132"/>
                  <a:pt x="2048" y="232"/>
                  <a:pt x="1824" y="272"/>
                </a:cubicBezTo>
                <a:cubicBezTo>
                  <a:pt x="1600" y="312"/>
                  <a:pt x="1312" y="312"/>
                  <a:pt x="1056" y="272"/>
                </a:cubicBezTo>
                <a:cubicBezTo>
                  <a:pt x="800" y="232"/>
                  <a:pt x="464" y="64"/>
                  <a:pt x="288" y="32"/>
                </a:cubicBezTo>
                <a:cubicBezTo>
                  <a:pt x="112" y="0"/>
                  <a:pt x="48" y="72"/>
                  <a:pt x="0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ree"/>
          <p:cNvSpPr/>
          <p:nvPr/>
        </p:nvSpPr>
        <p:spPr>
          <a:xfrm>
            <a:off x="5867280" y="5029200"/>
            <a:ext cx="752760" cy="600120"/>
          </a:xfr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ree"/>
          <p:cNvSpPr/>
          <p:nvPr/>
        </p:nvSpPr>
        <p:spPr>
          <a:xfrm>
            <a:off x="4952880" y="4114800"/>
            <a:ext cx="752760" cy="600120"/>
          </a:xfr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ree"/>
          <p:cNvSpPr/>
          <p:nvPr/>
        </p:nvSpPr>
        <p:spPr>
          <a:xfrm>
            <a:off x="3276720" y="4876920"/>
            <a:ext cx="752400" cy="600120"/>
          </a:xfr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457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19920" y="40384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400800" y="9907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629400" y="46483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00560" y="641520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УГОВОРОТ ВОДЫ В ПРИ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76880" y="320040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УГОВОРОТ ВОДЫ В ПРИ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676520" y="609480"/>
            <a:ext cx="25905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 ГЛАЗ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_______________________ 2_______________________3_______________________4_______________________5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 МОЧЕВОЙ СИСТ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_______________________2_______________________3_______________________4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 ПИЩЕВАРИТЕЛЬН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_______________________2_______________________3_______________________4_______________________5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2760" y="0"/>
            <a:ext cx="413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ая работа по окружающему мир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-ся 3 «..»класса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риант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1295280" cy="1116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952880" y="4343400"/>
            <a:ext cx="1184400" cy="17524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800600" y="4038480"/>
            <a:ext cx="152388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304920" y="4191120"/>
            <a:ext cx="1218960" cy="26668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495680" y="324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4572000" y="685800"/>
            <a:ext cx="1576440" cy="3048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632480" y="0"/>
            <a:ext cx="413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ая работа по окружающему мир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-ся 3 «...»класса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риант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135000" y="2057400"/>
            <a:ext cx="1808280" cy="18208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0" y="1905120"/>
            <a:ext cx="1752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4191120"/>
            <a:ext cx="152388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80520" y="464832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066680" y="46483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219320" y="525744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71600" y="6019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380520" y="52574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97440" y="64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3160" y="87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4560" y="1255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3160" y="140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3920" y="15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0400" y="45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444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1956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1956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73400" y="502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97440" y="4343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43240" y="3505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49720" y="571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4440" y="5043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29560" y="569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10600" y="79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34280" y="1103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67680" y="1560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57960" y="178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929560" y="87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29560" y="133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869440" y="1523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69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3480" y="2286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36240" y="2514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939200" y="4075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53600" y="4532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45400" y="502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21720" y="54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02400" y="51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20080" y="5904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324480" y="685800"/>
            <a:ext cx="25909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 СКЕЛЕ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_______________________ 2_______________________3_______________________4_______________________5_______________________6_______________________7_______________________8_______________________9_______________________10______________________11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 ДЫХАТЕЛЬН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_______________________2_______________________3_______________________4_______________________5_______________________6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0" y="609480"/>
            <a:ext cx="1905120" cy="32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93480" y="2819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55040" y="4890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1138320" cy="11430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152280" y="2286000"/>
            <a:ext cx="1251000" cy="12952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800600" y="609480"/>
            <a:ext cx="1176480" cy="23115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4724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4876920" y="3048120"/>
            <a:ext cx="1137960" cy="1143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152280" y="4267080"/>
            <a:ext cx="3810240" cy="25909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4876920" y="4267080"/>
            <a:ext cx="3809880" cy="25909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581280" y="61722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229600" y="6172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2280" y="45720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4572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96000" y="0"/>
            <a:ext cx="24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563080" y="0"/>
            <a:ext cx="24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513440" y="592200"/>
            <a:ext cx="18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ДПИШИ ЧАСТИ ЦВЕТ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01280" y="2768760"/>
            <a:ext cx="18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ДПИШИ ЧАСТИ ЦВЕТ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80880" y="973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868720" y="2971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220760" y="1127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868720" y="326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355760" y="896760"/>
            <a:ext cx="183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373040" y="129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945040" y="3429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373040" y="1600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945040" y="3733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25909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90720" y="2743200"/>
            <a:ext cx="2438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3124080"/>
            <a:ext cx="2590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3276720"/>
            <a:ext cx="2133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2438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410080" y="1676160"/>
            <a:ext cx="19051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867280" y="914400"/>
            <a:ext cx="1295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800600" y="914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791320" y="1295280"/>
            <a:ext cx="1523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37480" y="2039760"/>
            <a:ext cx="177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ДПИШИ ЧАСТИ ЛИС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752480" y="1066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752480" y="1371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752480" y="16765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752480" y="19810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172200" y="32004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172200" y="34290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172200" y="36576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172200" y="38862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15360" y="3946680"/>
            <a:ext cx="243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НАЗОВИ ТИПЫ КОРНЕВЫХ СИСТЕ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179400" y="4038480"/>
            <a:ext cx="243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НАЗОВИ ТИПЫ КОРНЕВЫХ СИСТЕ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54440" y="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10600" y="7632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34800" y="457200"/>
            <a:ext cx="204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ДПИШИ ЧАСТИ РАСТ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219320" y="5943600"/>
            <a:ext cx="1066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5867280"/>
            <a:ext cx="10670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943600" y="5943600"/>
            <a:ext cx="1066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153280" y="5867280"/>
            <a:ext cx="10670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пиши названия океа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15328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3173400" cy="6026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819520" y="457200"/>
            <a:ext cx="3173400" cy="6026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970600" y="457200"/>
            <a:ext cx="317340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114800" cy="2166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76320"/>
            <a:ext cx="437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мостоятельная работа по окружающему ми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-ся 2 «..» кла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76320"/>
            <a:ext cx="437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мостоятельная работа по окружающему ми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-ся 2 «..» кла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800600" y="914400"/>
            <a:ext cx="4114800" cy="2166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28600" y="3276720"/>
            <a:ext cx="2971800" cy="1600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4952880" y="3200400"/>
            <a:ext cx="3124440" cy="1600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 rot="21466800">
            <a:off x="228600" y="4800240"/>
            <a:ext cx="4172040" cy="1720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 rot="21466800">
            <a:off x="4800600" y="4876560"/>
            <a:ext cx="4172040" cy="1720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62120" y="1752480"/>
            <a:ext cx="914400" cy="152640"/>
          </a:xfrm>
          <a:prstGeom prst="borderCallout1">
            <a:avLst>
              <a:gd name="adj1" fmla="val 18750"/>
              <a:gd name="adj2" fmla="val -8333"/>
              <a:gd name="adj3" fmla="val 132291"/>
              <a:gd name="adj4" fmla="val -281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2819520"/>
            <a:ext cx="914400" cy="152280"/>
          </a:xfrm>
          <a:prstGeom prst="borderCallout1">
            <a:avLst>
              <a:gd name="adj1" fmla="val 18750"/>
              <a:gd name="adj2" fmla="val -8333"/>
              <a:gd name="adj3" fmla="val -44791"/>
              <a:gd name="adj4" fmla="val 1274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2971800"/>
            <a:ext cx="914400" cy="152280"/>
          </a:xfrm>
          <a:prstGeom prst="borderCallout1">
            <a:avLst>
              <a:gd name="adj1" fmla="val 18750"/>
              <a:gd name="adj2" fmla="val -8333"/>
              <a:gd name="adj3" fmla="val -44791"/>
              <a:gd name="adj4" fmla="val 1274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743200" y="1905120"/>
            <a:ext cx="914400" cy="152280"/>
          </a:xfrm>
          <a:prstGeom prst="borderCallout1">
            <a:avLst>
              <a:gd name="adj1" fmla="val 18750"/>
              <a:gd name="adj2" fmla="val -8333"/>
              <a:gd name="adj3" fmla="val 251041"/>
              <a:gd name="adj4" fmla="val 1463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7467480" y="1752480"/>
            <a:ext cx="914400" cy="152640"/>
          </a:xfrm>
          <a:prstGeom prst="borderCallout1">
            <a:avLst>
              <a:gd name="adj1" fmla="val 18750"/>
              <a:gd name="adj2" fmla="val -8333"/>
              <a:gd name="adj3" fmla="val 251041"/>
              <a:gd name="adj4" fmla="val 1546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562720" y="1600200"/>
            <a:ext cx="914400" cy="152280"/>
          </a:xfrm>
          <a:prstGeom prst="borderCallout1">
            <a:avLst>
              <a:gd name="adj1" fmla="val 18750"/>
              <a:gd name="adj2" fmla="val -8333"/>
              <a:gd name="adj3" fmla="val 201041"/>
              <a:gd name="adj4" fmla="val 138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52880" y="2743200"/>
            <a:ext cx="914400" cy="152280"/>
          </a:xfrm>
          <a:prstGeom prst="borderCallout1">
            <a:avLst>
              <a:gd name="adj1" fmla="val 18750"/>
              <a:gd name="adj2" fmla="val -8333"/>
              <a:gd name="adj3" fmla="val -44791"/>
              <a:gd name="adj4" fmla="val 1274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10280" y="2743200"/>
            <a:ext cx="914400" cy="152280"/>
          </a:xfrm>
          <a:prstGeom prst="borderCallout1">
            <a:avLst>
              <a:gd name="adj1" fmla="val 18750"/>
              <a:gd name="adj2" fmla="val -8333"/>
              <a:gd name="adj3" fmla="val 33333"/>
              <a:gd name="adj4" fmla="val 130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51920" y="151920"/>
            <a:ext cx="441972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СТ по окружающему миру уч-ся 2 «___» кла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Твое имя, отчество, фамил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Как называется наша планета?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Как называется твой город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Наша страна называется 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 Твой полный адр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.Назови символы государств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. Назови столицу нашей Родины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. Основной закон государства, который определяет права и обязанности граждан называется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. Раскрась флаг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5181480"/>
            <a:ext cx="22096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55627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59436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52280"/>
            <a:ext cx="4419360" cy="63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СТ по окружающему миру уч-ся 2 «___» кла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Твое имя, отчество, фамил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Как называется наша планета?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Как называется твой город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Наша страна называется 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 Твой полный адр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.Назови символы государств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. Назови столицу нашей Родины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. Основной закон государства, который определяет права и обязанности граждан называется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. Раскрась флаг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5257800"/>
            <a:ext cx="22096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56386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60199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4352760" cy="6095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35440" y="0"/>
            <a:ext cx="4408560" cy="6172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5638680"/>
            <a:ext cx="22096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5638680"/>
            <a:ext cx="22096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60199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6400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91320" y="60199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6400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372960"/>
            <a:ext cx="1855800" cy="2598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689200" y="685800"/>
            <a:ext cx="1577880" cy="2209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921200" y="457200"/>
            <a:ext cx="163188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958080" y="457200"/>
            <a:ext cx="1795320" cy="2514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304920" y="3276720"/>
            <a:ext cx="1536480" cy="2152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209680" y="3429000"/>
            <a:ext cx="1414440" cy="1981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3962520" y="3352680"/>
            <a:ext cx="1522440" cy="2133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04920" y="2514600"/>
            <a:ext cx="8610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5334120"/>
            <a:ext cx="54100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5523840" y="4076640"/>
            <a:ext cx="1447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5880" y="38098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42670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5880" y="4724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77120" y="3962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7712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4419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3049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440" y="87480"/>
            <a:ext cx="134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АМИЛИЯ И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7400" y="363600"/>
            <a:ext cx="396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РАЗУКРАСЬ И ПОДПИШИ , ЧТО ОБОЗНАЧАЕТ КАЖДЫЙ ЗНА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65760" y="5546880"/>
            <a:ext cx="307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ДПИШИ , ЧТО ОБОЗНАЧАЕТ КАЖДЫЙ ЦВЕ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СВЕТОФОРА, РАЗУКРАС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 rot="5400000">
            <a:off x="-37800" y="952200"/>
            <a:ext cx="144756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6858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11430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16002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838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75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1295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3400" y="2057400"/>
            <a:ext cx="307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ДПИШИ , ЧТО ОБОЗНАЧАЕТ КАЖДЫЙ ЦВЕ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СВЕТОФОРА, РАЗУКРАС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925560" cy="1295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97000" y="4114800"/>
            <a:ext cx="815760" cy="1143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04920" y="5257800"/>
            <a:ext cx="830160" cy="1162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2133720" y="2971800"/>
            <a:ext cx="939600" cy="1314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35440" y="2575080"/>
            <a:ext cx="3100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ДПИШИ , ЧТО ОБОЗНАЧАЕТ КАЖДЫЙ ЗНАК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РАЗУКРАС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2286000" y="4191120"/>
            <a:ext cx="762120" cy="1066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2133720" y="5257800"/>
            <a:ext cx="979200" cy="1371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133720" y="5410080"/>
            <a:ext cx="990360" cy="83844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4114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09680" y="4038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5181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09680" y="5181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6400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33720" y="6477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5187240" y="876240"/>
            <a:ext cx="1447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59280" y="6094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59280" y="10666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59280" y="15238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40520" y="762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40520" y="1676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40520" y="1219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29520" y="1981080"/>
            <a:ext cx="307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ДПИШИ , ЧТО ОБОЗНАЧАЕТ КАЖДЫЙ ЦВЕ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СВЕТОФОРА, РАЗУКРАС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5454720" y="2971800"/>
            <a:ext cx="925560" cy="1295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8"/>
          <a:stretch/>
        </p:blipFill>
        <p:spPr>
          <a:xfrm>
            <a:off x="5522760" y="4038480"/>
            <a:ext cx="816120" cy="1143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9"/>
          <a:stretch/>
        </p:blipFill>
        <p:spPr>
          <a:xfrm>
            <a:off x="5530680" y="5181480"/>
            <a:ext cx="830520" cy="1162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0"/>
          <a:stretch/>
        </p:blipFill>
        <p:spPr>
          <a:xfrm>
            <a:off x="7359480" y="2895480"/>
            <a:ext cx="939960" cy="1314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461560" y="2498760"/>
            <a:ext cx="3100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ДПИШИ , ЧТО ОБОЗНАЧАЕТ КАЖДЫЙ ЗНАК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РАЗУКРАС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1"/>
          <a:stretch/>
        </p:blipFill>
        <p:spPr>
          <a:xfrm>
            <a:off x="7512120" y="4114800"/>
            <a:ext cx="761760" cy="1066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2"/>
          <a:stretch/>
        </p:blipFill>
        <p:spPr>
          <a:xfrm>
            <a:off x="7359480" y="5181480"/>
            <a:ext cx="979560" cy="13716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359480" y="5334120"/>
            <a:ext cx="990720" cy="83808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30680" y="40384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4358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54720" y="5105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435800" y="5105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54720" y="6324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59480" y="6400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280" y="30492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40384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ЕСТ ПО ОКРУЖАЮЩЕМУ МИРУ ПО ТЕМЕ ИЗМЕНЕНИЯ В ПРИРОДЕ И ЖИЗНИ ЧЕЛОВЕ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АРИАНТ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милия 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Лиственные деревья это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Растительноядные животные это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сеядные животные питаются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 примеры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Какая звезда, близкая к планете Земля создает условия необходимые для жизни? 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Для чего человек вывел различные сорта растений? 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Как называется наука, изучающая прошлое государства?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Вращение Земли вокруг своей оси вызывает сме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Вращение Земли вокруг Солнца вызывает сме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значь специальными знач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плошная  облачность            Ясно              Малооблачно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228600"/>
            <a:ext cx="403884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ЕСТ ПО ОКРУЖАЮЩЕМУ МИРУ ПО ТЕМЕ ИЗМЕНЕНИЯ В ПРИРОДЕ И ЖИЗНИ ЧЕЛОВЕК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АРИАНТ-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Фамилия 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Хвойные деревья это: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Хищные животные питаются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_______________________________приве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сеядные животные питаются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 примеры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Какая звезда, близкая к планете Земля создает условия необходимые для жизни? 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Для чего человек вывел различные породы животных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Как называется наука, изучающая прошлое государства?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Вращение Земли вокруг своей оси вызывает сме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Вращение Земли вокруг Солнца вызывает сме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Обозначь специальными знач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плошная  облачность            Ясно              Малооблачно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6248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6248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6248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62720" y="6248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0" y="6248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848720" y="6248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3</cp:lastModifiedBy>
  <dcterms:modified xsi:type="dcterms:W3CDTF">2013-10-17T16:49:16Z</dcterms:modified>
  <cp:revision>1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