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04D9-430D-4AAC-BDC9-C0E0D8AEFC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0657-ABD1-44EC-B1B4-5F3304F6F3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2682-4276-4C25-A706-37504A2E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3ED-2110-465C-A2DD-6EC781AD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F4D-A211-4518-AEEE-2C1F0116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933C-CF47-4BAD-84B3-BFF88092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72F9-34C2-43F8-B2DA-45915680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9398-B3D2-4060-AF53-61BA3C3F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3395-DD3D-4099-B4D0-9AD94A73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DA9E-95F4-4383-9B0A-780025B7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F86B-75C5-4514-9B12-F4D1E1F7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D84C-E905-484C-88AF-00A0C868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49D7-002B-48BD-937D-80921930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8E56-675D-4C0E-B462-DE437F7C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AAF5-4E3A-45C1-B577-7DD99960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9DF1-5D64-4989-A4F4-1DBE4839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1F9B-803E-40BB-AE9C-6E5D69B3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B549-8A19-436E-9595-938E2E7B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983B-DB77-446A-B515-765BC9FB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F92-5011-487F-A050-9AF1A3AA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D3C-85A5-414B-BD8F-4BDA11DB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08EF-72F7-41D0-B8CA-87714059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431-F520-4FB0-BC31-8EDEDC55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E2EC-24C5-4BCF-B2AC-AFE56D4C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132-ACBB-4822-8411-E8A8081F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F52-7F6D-4CB2-A642-583D6484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352D-BF8A-4CB7-8E8C-6E795D2207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EFFD-92E3-4F67-BF60-F9F1B1E4326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&amp;text=&#1082;&#1072;&#1088;&#1090;&#1080;&#1085;&#1082;&#1072;%20&#1090;&#1072;&#1090;&#1072;&#1088;&#1080;&#1085;&amp;noreask=1&amp;img_url=http%3A%2F%2Fwww.bezformata.ru%2Fcontent%2FImages%2F000%2F004%2F451%2Fimage4451308.jpg&amp;pos=93&amp;rpt=simage&amp;lr=2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6;&#1083;&#1075;&#1072;_%28&#1088;&#1077;&#1082;&#1072;%29" TargetMode="External"/><Relationship Id="rId2" Type="http://schemas.openxmlformats.org/officeDocument/2006/relationships/hyperlink" Target="http://ru.wikipedia.org/wiki/&#1050;&#1072;&#1084;&#1072;_%28&#1088;&#1077;&#1082;&#1072;%29" TargetMode="External"/><Relationship Id="rId3" Type="http://schemas.openxmlformats.org/officeDocument/2006/relationships/hyperlink" Target="http://www.vokrugsveta.ru/encyclopedia/index.php?title=&#1056;&#1086;&#1089;&#1089;&#1080;&#1103;" TargetMode="External"/><Relationship Id="rId4" Type="http://schemas.openxmlformats.org/officeDocument/2006/relationships/hyperlink" Target="http://www.vokrugsveta.ru/encyclopedia/index.php?title=&#1056;&#1091;&#1089;&#1089;&#1082;&#1080;&#1077;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attravel.ru/turistu-na-zametku/music_tatar.html" TargetMode="External"/><Relationship Id="rId2" Type="http://schemas.openxmlformats.org/officeDocument/2006/relationships/hyperlink" Target="http://tatarz.ru/index/0-2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Презентация</a:t>
            </a:r>
            <a:br>
              <a:rPr sz="5400"/>
            </a:b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«ТАТАРЫ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004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2 «Э» класс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дрявцева Кс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подаватель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ранцева О. 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2067840" y="30492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БОУ школа №337 Невского райо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14" descr="http://im7-tub-ru.yandex.net/i?id=486976750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267080"/>
            <a:ext cx="3438360" cy="22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762120" y="3230640"/>
            <a:ext cx="7162560" cy="2288520"/>
          </a:xfrm>
          <a:prstGeom prst="rect">
            <a:avLst/>
          </a:prstGeom>
          <a:solidFill>
            <a:srgbClr val="ffb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тары проживают в Республик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тарста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столица её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за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тарстан расположен в центре Российской Федерации в месте слияния двух крупнейших рек —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  <a:hlinkClick r:id="rId1"/>
              </a:rPr>
              <a:t>Вол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  <a:hlinkClick r:id="rId2"/>
              </a:rPr>
              <a:t>Ка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 flipV="1" rot="10806000">
            <a:off x="761400" y="5334120"/>
            <a:ext cx="7165800" cy="1281960"/>
          </a:xfrm>
          <a:prstGeom prst="rect">
            <a:avLst/>
          </a:prstGeom>
          <a:solidFill>
            <a:srgbClr val="ffb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Татары являются 2-й по численности народностью в </a:t>
            </a:r>
            <a:r>
              <a:rPr b="0" lang="ru-RU" sz="26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  <a:hlinkClick r:id="rId3"/>
              </a:rPr>
              <a:t>Российской Федерации</a:t>
            </a:r>
            <a:r>
              <a:rPr b="0" lang="ru-RU" sz="2600" spc="-1" strike="noStrike">
                <a:solidFill>
                  <a:srgbClr val="4d19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после </a:t>
            </a:r>
            <a:r>
              <a:rPr b="0" lang="ru-RU" sz="26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  <a:hlinkClick r:id="rId4"/>
              </a:rPr>
              <a:t>русских</a:t>
            </a:r>
            <a:r>
              <a:rPr b="0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8" descr="Map_of_Russia_-_Republic_of_Tatarstan_(2008-03)"/>
          <p:cNvPicPr/>
          <p:nvPr/>
        </p:nvPicPr>
        <p:blipFill>
          <a:blip r:embed="rId5"/>
          <a:stretch/>
        </p:blipFill>
        <p:spPr>
          <a:xfrm>
            <a:off x="609480" y="228600"/>
            <a:ext cx="7620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400px-Flag_of_Tatarstan"/>
          <p:cNvPicPr/>
          <p:nvPr/>
        </p:nvPicPr>
        <p:blipFill>
          <a:blip r:embed="rId1"/>
          <a:stretch/>
        </p:blipFill>
        <p:spPr>
          <a:xfrm>
            <a:off x="609480" y="533520"/>
            <a:ext cx="2971800" cy="1485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600px-Coat_of_Arms_of_Tatarstan"/>
          <p:cNvPicPr/>
          <p:nvPr/>
        </p:nvPicPr>
        <p:blipFill>
          <a:blip r:embed="rId2"/>
          <a:stretch/>
        </p:blipFill>
        <p:spPr>
          <a:xfrm>
            <a:off x="5638680" y="1522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1219320" y="22572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лаг и герб Республики Татарста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 flipV="1" rot="10800000">
            <a:off x="533520" y="3290760"/>
            <a:ext cx="7999200" cy="3385800"/>
          </a:xfrm>
          <a:prstGeom prst="rect">
            <a:avLst/>
          </a:prstGeom>
          <a:solidFill>
            <a:srgbClr val="fff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Татары очень гостеприимный народ. Вы никогда не уйдёте из татарской семьи без угощения. Это у них в крови. Татарский народ добрый, доброжелательный, чистоплотный: даже не имея бытовых условий, водопровода, ни одна татарская женщина не будет готовить, не причесавшись, не укрыв голов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Интересна и разнообразна татарская национальная кухня плов, пельмени, беляши, чак-чак и многие другие блю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IMG_8434"/>
          <p:cNvPicPr/>
          <p:nvPr/>
        </p:nvPicPr>
        <p:blipFill>
          <a:blip r:embed="rId1"/>
          <a:stretch/>
        </p:blipFill>
        <p:spPr>
          <a:xfrm>
            <a:off x="4952880" y="457200"/>
            <a:ext cx="3886200" cy="34639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380880" y="4353120"/>
            <a:ext cx="8229600" cy="2288520"/>
          </a:xfrm>
          <a:prstGeom prst="rect">
            <a:avLst/>
          </a:prstGeom>
          <a:solidFill>
            <a:srgbClr val="fff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стати чак-чак - обязательное угощение на свадьбе, которое приносит невеста, а также ее родите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о есть у них и запреты на определённые продукты: запрещается употреблять мясо свиньи, а также некоторых птиц, например, сокола, лебедя. Лебедь -  считается священ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http://multimedia.turkist.org/_ph/11/2/625802060.jpg"/>
          <p:cNvPicPr/>
          <p:nvPr/>
        </p:nvPicPr>
        <p:blipFill>
          <a:blip r:embed="rId2"/>
          <a:stretch/>
        </p:blipFill>
        <p:spPr>
          <a:xfrm>
            <a:off x="0" y="533520"/>
            <a:ext cx="4667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447920" y="487800"/>
            <a:ext cx="6851520" cy="459720"/>
          </a:xfrm>
          <a:prstGeom prst="rect">
            <a:avLst/>
          </a:prstGeom>
          <a:solidFill>
            <a:srgbClr val="fef4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дежда у татар очень богата вышивками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3" descr="122"/>
          <p:cNvPicPr/>
          <p:nvPr/>
        </p:nvPicPr>
        <p:blipFill>
          <a:blip r:embed="rId1"/>
          <a:stretch/>
        </p:blipFill>
        <p:spPr>
          <a:xfrm>
            <a:off x="990720" y="1219320"/>
            <a:ext cx="3690720" cy="47242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4876920" y="1236600"/>
            <a:ext cx="3962160" cy="4848840"/>
          </a:xfrm>
          <a:prstGeom prst="rect">
            <a:avLst/>
          </a:prstGeom>
          <a:solidFill>
            <a:srgbClr val="fff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снову мужского и женского традиционного костюма составляют рубаха и шта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Женская туникообразная рубаха идентична мужской, что вообще характерно для древних форм одежды. Женские рубахи шились длинными, почти до щиколот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228600" y="23508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4bf"/>
                </a:solidFill>
                <a:latin typeface="Arial"/>
              </a:rPr>
              <a:t>Традиционные занятия татар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— пашенное земледелие и скотоводство. Вплоть до наших дней сохранились такие промыслы, как золотое шитье, кожаная мозаика, резьба по камню и дереву и многое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3" descr="17S40Sona"/>
          <p:cNvPicPr/>
          <p:nvPr/>
        </p:nvPicPr>
        <p:blipFill>
          <a:blip r:embed="rId1"/>
          <a:stretch/>
        </p:blipFill>
        <p:spPr>
          <a:xfrm>
            <a:off x="1219320" y="2819520"/>
            <a:ext cx="1268280" cy="33526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4"/>
          <p:cNvSpPr/>
          <p:nvPr/>
        </p:nvSpPr>
        <p:spPr>
          <a:xfrm>
            <a:off x="1377360" y="62485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рна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5" descr="Mandolina_Stagg_M20"/>
          <p:cNvPicPr/>
          <p:nvPr/>
        </p:nvPicPr>
        <p:blipFill>
          <a:blip r:embed="rId2"/>
          <a:stretch/>
        </p:blipFill>
        <p:spPr>
          <a:xfrm>
            <a:off x="3962520" y="2743200"/>
            <a:ext cx="1066680" cy="35053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3814200" y="62485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ндол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7" descr="36bj3"/>
          <p:cNvPicPr/>
          <p:nvPr/>
        </p:nvPicPr>
        <p:blipFill>
          <a:blip r:embed="rId3"/>
          <a:stretch/>
        </p:blipFill>
        <p:spPr>
          <a:xfrm>
            <a:off x="5867280" y="2895480"/>
            <a:ext cx="1841760" cy="32767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8"/>
          <p:cNvSpPr/>
          <p:nvPr/>
        </p:nvSpPr>
        <p:spPr>
          <a:xfrm>
            <a:off x="6867000" y="61722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8077320" y="609588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др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1859760" y="1981080"/>
            <a:ext cx="4932360" cy="520560"/>
          </a:xfrm>
          <a:prstGeom prst="rect">
            <a:avLst/>
          </a:prstGeom>
          <a:solidFill>
            <a:srgbClr val="ffc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Музыкальные инструмен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533520" y="549000"/>
            <a:ext cx="8238960" cy="3080160"/>
          </a:xfrm>
          <a:prstGeom prst="rect">
            <a:avLst/>
          </a:prstGeom>
          <a:solidFill>
            <a:srgbClr val="fff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ПОГОВОРКИ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Безделье - ключ к бед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Лучше знать одно ремесло хорошо, ч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есять плох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219320" y="222480"/>
            <a:ext cx="7010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чник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тарстан путешествуем вмес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tattravel.ru/turistu-na-zametku/music_tatar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тарский сай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tatarz.ru/index/0-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нциклопедия вокруг све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www.vokrugsveta.ru/encyclopedia/index.php?title=%D0%A2%D0%B0%D1%82%D0%B0%D1%80%D1%8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графия проживания тата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senior-danif.narod2.ru/contacts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нографический портр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www.621.metallostroy.ru/etn_portret/nationaltatar.ph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ейные тради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family73.ru/2011-11-16-11-37-20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7:12:40Z</dcterms:created>
  <dc:creator>м видео</dc:creator>
  <dc:description/>
  <dc:language>en-US</dc:language>
  <cp:lastModifiedBy>Учитель </cp:lastModifiedBy>
  <dcterms:modified xsi:type="dcterms:W3CDTF">2013-01-23T14:09:5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