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2.jpeg" ContentType="image/jpeg"/>
  <Override PartName="/ppt/media/image17.jpeg" ContentType="image/jpeg"/>
  <Override PartName="/ppt/media/image14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.png" ContentType="image/png"/>
  <Override PartName="/ppt/media/image3.jpeg" ContentType="image/jpeg"/>
  <Override PartName="/ppt/media/image2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5B7C-0F55-4125-8690-551A4928C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A3F3-B8AC-42CE-BB90-422415F70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6C9F-9617-4D07-920D-E20088E00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7A10-9C80-468E-A1A6-99D3A8E25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092CD-9857-4743-A914-7D803EF0A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80C43-7F20-4003-93CF-11167F19A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A688F-6344-4CAD-9123-89BBBD7E1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A27C4-5811-4206-B487-719A6EE91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ACDA7-5903-4890-A70C-CCD429752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2A3D1-A1B3-46F0-BB11-6AA73C459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5A523-D9DB-465E-B596-4A78A5CC0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2101-73C3-4CB6-92DB-016C9E1E3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F3702-4C3E-4A0F-A491-75518B391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D6741-1775-4EB2-8E51-7A51D5C43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4BC7D-C7E8-4051-9697-CAC3BB22B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5B815-0640-4A04-B079-F96B97C05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2D3EE-1C4E-4D9B-84F4-30EE79DA8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0075-89D1-4C20-941F-B8E038B5E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4A72-E577-47C9-B7C3-A2ED00058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F9DF-C7E9-4AFA-BA4F-949394C6B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D3EC-A8DA-421A-9268-AC7033AC1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454B-9C99-4165-BE8B-E45DFC1A0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F7B3-67A5-4635-91C7-7D33DE8F3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1395-CF6C-40AF-B74E-A410F32D8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E86A3-B56C-4DC3-B8F1-F5F7CBF26F7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B0799-76B3-474F-8327-BDE7829C464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36699"/>
                </a:solidFill>
                <a:latin typeface="Verdana"/>
              </a:rPr>
              <a:t>La drogue, dis-lui non!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3492360" y="3886200"/>
            <a:ext cx="1727280" cy="17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68360" y="1125000"/>
            <a:ext cx="40384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600" spc="-1" strike="noStrike">
                <a:solidFill>
                  <a:srgbClr val="000000"/>
                </a:solidFill>
                <a:latin typeface="Verdana"/>
              </a:rPr>
              <a:t>Anatoli Kroupnov</a:t>
            </a:r>
            <a:r>
              <a:rPr b="1" i="1" lang="ru-RU" sz="26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i="1" lang="fr-FR" sz="2600" spc="-1" strike="noStrike">
                <a:solidFill>
                  <a:srgbClr val="000000"/>
                </a:solidFill>
                <a:latin typeface="Verdana"/>
              </a:rPr>
              <a:t> soliste du groupe « l’Obélisque noir »,</a:t>
            </a:r>
            <a:r>
              <a:rPr b="1" i="1" lang="ru-RU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fr-FR" sz="2600" spc="-1" strike="noStrike">
                <a:solidFill>
                  <a:srgbClr val="000000"/>
                </a:solidFill>
                <a:latin typeface="Verdana"/>
              </a:rPr>
              <a:t>est mort de l’arrêt du coeure après la consommation de l’héroïne pendant plusieures anné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5195880" y="1341360"/>
            <a:ext cx="3608280" cy="47516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336699"/>
                </a:solidFill>
                <a:latin typeface="Verdana"/>
              </a:rPr>
              <a:t>Cela donne à penser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1" name="Picture 12" descr="logo"/>
          <p:cNvPicPr/>
          <p:nvPr/>
        </p:nvPicPr>
        <p:blipFill>
          <a:blip r:embed="rId2"/>
          <a:stretch/>
        </p:blipFill>
        <p:spPr>
          <a:xfrm>
            <a:off x="539640" y="2060640"/>
            <a:ext cx="1629000" cy="25207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112" name="Picture 4" descr="Уитни Хьюстон"/>
          <p:cNvPicPr/>
          <p:nvPr/>
        </p:nvPicPr>
        <p:blipFill>
          <a:blip r:embed="rId3"/>
          <a:stretch/>
        </p:blipFill>
        <p:spPr>
          <a:xfrm>
            <a:off x="3308400" y="1982880"/>
            <a:ext cx="1519200" cy="19018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6084720" y="1844640"/>
            <a:ext cx="2160720" cy="21607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114" name="Picture 4" descr="Keith Richards"/>
          <p:cNvPicPr/>
          <p:nvPr/>
        </p:nvPicPr>
        <p:blipFill>
          <a:blip r:embed="rId5"/>
          <a:stretch/>
        </p:blipFill>
        <p:spPr>
          <a:xfrm>
            <a:off x="1908000" y="4149720"/>
            <a:ext cx="2448000" cy="23702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115" name="Picture 13" descr="18054"/>
          <p:cNvPicPr/>
          <p:nvPr/>
        </p:nvPicPr>
        <p:blipFill>
          <a:blip r:embed="rId6"/>
          <a:stretch/>
        </p:blipFill>
        <p:spPr>
          <a:xfrm>
            <a:off x="5148360" y="4149720"/>
            <a:ext cx="2058840" cy="24732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3000"/>
                            </p:stCondLst>
                            <p:childTnLst>
                              <p:par>
                                <p:cTn id="1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4000"/>
                            </p:stCondLst>
                            <p:childTnLst>
                              <p:par>
                                <p:cTn id="1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800" spc="-1" strike="noStrike">
                <a:solidFill>
                  <a:srgbClr val="003366"/>
                </a:solidFill>
                <a:latin typeface="Verdana"/>
              </a:rPr>
              <a:t>Evgueni Plutchenko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" name="Picture 4" descr="picture1"/>
          <p:cNvPicPr/>
          <p:nvPr/>
        </p:nvPicPr>
        <p:blipFill>
          <a:blip r:embed="rId2"/>
          <a:stretch/>
        </p:blipFill>
        <p:spPr>
          <a:xfrm>
            <a:off x="1619280" y="1806480"/>
            <a:ext cx="633744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600" spc="-1" strike="noStrike">
                <a:solidFill>
                  <a:srgbClr val="003366"/>
                </a:solidFill>
                <a:latin typeface="Verdana"/>
              </a:rPr>
              <a:t>Alexendre Némov.</a:t>
            </a: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9" name="Picture 4" descr="Алексей Немов: закончил Тольяттинский педагогический университет по специальности тренер"/>
          <p:cNvPicPr/>
          <p:nvPr/>
        </p:nvPicPr>
        <p:blipFill>
          <a:blip r:embed="rId2"/>
          <a:stretch/>
        </p:blipFill>
        <p:spPr>
          <a:xfrm>
            <a:off x="1187280" y="1609560"/>
            <a:ext cx="7201080" cy="47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5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800" spc="-1" strike="noStrike">
                <a:solidFill>
                  <a:srgbClr val="003366"/>
                </a:solidFill>
                <a:latin typeface="Verdana"/>
              </a:rPr>
              <a:t>Maria Charapova.</a:t>
            </a:r>
            <a:r>
              <a:rPr b="1" lang="ru-RU" sz="3800" spc="-1" strike="noStrike">
                <a:solidFill>
                  <a:srgbClr val="ffff00"/>
                </a:solidFill>
                <a:latin typeface="Verdana"/>
              </a:rPr>
              <a:t> 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Picture 4" descr="picture3"/>
          <p:cNvPicPr/>
          <p:nvPr/>
        </p:nvPicPr>
        <p:blipFill>
          <a:blip r:embed="rId2"/>
          <a:stretch/>
        </p:blipFill>
        <p:spPr>
          <a:xfrm>
            <a:off x="1332000" y="1773360"/>
            <a:ext cx="655308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000"/>
                            </p:stCondLst>
                            <p:childTnLst>
                              <p:par>
                                <p:cTn id="2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800" spc="-1" strike="noStrike">
                <a:solidFill>
                  <a:srgbClr val="003366"/>
                </a:solidFill>
                <a:latin typeface="Verdana"/>
              </a:rPr>
              <a:t>Roman Pavlutchenko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3" name="Picture 4" descr="hero"/>
          <p:cNvPicPr/>
          <p:nvPr/>
        </p:nvPicPr>
        <p:blipFill>
          <a:blip r:embed="rId2"/>
          <a:stretch/>
        </p:blipFill>
        <p:spPr>
          <a:xfrm>
            <a:off x="2338560" y="1413000"/>
            <a:ext cx="446076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7854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336699"/>
                </a:solidFill>
                <a:latin typeface="Verdana"/>
              </a:rPr>
              <a:t>Leurs victoires auraient-elles lieu s’ils prenaient des drogues?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95280" y="299700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spcBef>
                <a:spcPts val="1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700" spc="-1" strike="noStrike">
                <a:solidFill>
                  <a:srgbClr val="cc0000"/>
                </a:solidFill>
                <a:latin typeface="Verdana"/>
              </a:rPr>
              <a:t>JAMAIS!</a:t>
            </a:r>
            <a:endParaRPr b="0" lang="en-US" sz="7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1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403280" y="2060640"/>
            <a:ext cx="6400800" cy="424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Verdana"/>
              </a:rPr>
              <a:t>Nous choisissons la vie!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400" spc="-1" strike="noStrike">
                <a:solidFill>
                  <a:srgbClr val="cc0000"/>
                </a:solidFill>
                <a:latin typeface="Verdana"/>
              </a:rPr>
              <a:t>Qu’est-ce qui pousse un individu à se droguer?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196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Verdana"/>
              </a:rPr>
              <a:t>Curiosité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Verdana"/>
              </a:rPr>
              <a:t>Goût de l’interdi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Verdana"/>
              </a:rPr>
              <a:t>Mod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Verdana"/>
              </a:rPr>
              <a:t>Snobism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Verdana"/>
              </a:rPr>
              <a:t>Le désir d’appartenir à un group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336699"/>
                </a:solidFill>
                <a:latin typeface="Verdana"/>
              </a:rPr>
              <a:t>Angoiss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345280" y="2044800"/>
            <a:ext cx="2523960" cy="36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10920" y="1700280"/>
            <a:ext cx="78469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Verdana"/>
              </a:rPr>
              <a:t>Ils sont morts de drogues</a:t>
            </a: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178920" y="189000"/>
            <a:ext cx="482436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600" spc="-1" strike="noStrike">
                <a:solidFill>
                  <a:srgbClr val="000000"/>
                </a:solidFill>
                <a:latin typeface="Verdana"/>
              </a:rPr>
              <a:t>Le soliste du groupe « Nirvana »</a:t>
            </a:r>
            <a:r>
              <a:rPr b="1" i="1" lang="ru-RU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fr-FR" sz="2600" spc="-1" strike="noStrike">
                <a:solidFill>
                  <a:srgbClr val="000000"/>
                </a:solidFill>
                <a:latin typeface="Verdana"/>
              </a:rPr>
              <a:t>Kurt Cobein</a:t>
            </a:r>
            <a:r>
              <a:rPr b="1" i="1" lang="ru-RU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fr-FR" sz="2600" spc="-1" strike="noStrike">
                <a:solidFill>
                  <a:srgbClr val="000000"/>
                </a:solidFill>
                <a:latin typeface="Verdana"/>
              </a:rPr>
              <a:t> est  mort de drogu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600" spc="-1" strike="noStrike">
                <a:solidFill>
                  <a:srgbClr val="000000"/>
                </a:solidFill>
                <a:latin typeface="Verdana"/>
              </a:rPr>
              <a:t>Le 8 avril 1994 il a été trouvé mort dans sa maison. Dans son sang a été trouvé une grande quantité d’héroïn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600" spc="-1" strike="noStrike">
                <a:solidFill>
                  <a:srgbClr val="000000"/>
                </a:solidFill>
                <a:latin typeface="Verdana"/>
              </a:rPr>
              <a:t>Il n’avait que 27 an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Georgia"/>
              </a:rPr>
              <a:t>  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Georgia"/>
              </a:rPr>
              <a:t>   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5940360" y="549360"/>
            <a:ext cx="2741760" cy="26794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93" name="Picture 5" descr="kop5-3"/>
          <p:cNvPicPr/>
          <p:nvPr/>
        </p:nvPicPr>
        <p:blipFill>
          <a:blip r:embed="rId3"/>
          <a:stretch/>
        </p:blipFill>
        <p:spPr>
          <a:xfrm>
            <a:off x="6327720" y="3789360"/>
            <a:ext cx="2148120" cy="27352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1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10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10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10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000"/>
                            </p:stCondLst>
                            <p:childTnLst>
                              <p:par>
                                <p:cTn id="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100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3000"/>
                            </p:stCondLst>
                            <p:childTnLst>
                              <p:par>
                                <p:cTn id="59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61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4000"/>
                            </p:stCondLst>
                            <p:childTnLst>
                              <p:par>
                                <p:cTn id="6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65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566640" y="1752480"/>
            <a:ext cx="39261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18.09.1970 </a:t>
            </a:r>
            <a:r>
              <a:rPr b="1" i="1" lang="fr-FR" sz="2800" spc="-1" strike="noStrike">
                <a:solidFill>
                  <a:srgbClr val="000000"/>
                </a:solidFill>
                <a:latin typeface="Verdana"/>
              </a:rPr>
              <a:t> le grand guitariste Jammy Hendrix est mort  de l’alcool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5796000" y="692280"/>
            <a:ext cx="2448000" cy="24476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5651640" y="3645000"/>
            <a:ext cx="2592360" cy="25923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000"/>
                            </p:stCondLst>
                            <p:childTnLst>
                              <p:par>
                                <p:cTn id="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68360" y="1773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fr-FR" sz="3500" spc="-1" strike="noStrike">
                <a:solidFill>
                  <a:srgbClr val="000000"/>
                </a:solidFill>
                <a:latin typeface="Verdana"/>
              </a:rPr>
              <a:t>En</a:t>
            </a:r>
            <a:r>
              <a:rPr b="1" i="1" lang="ru-RU" sz="3500" spc="-1" strike="noStrike">
                <a:solidFill>
                  <a:srgbClr val="000000"/>
                </a:solidFill>
                <a:latin typeface="Verdana"/>
              </a:rPr>
              <a:t>1993 </a:t>
            </a:r>
            <a:r>
              <a:rPr b="1" i="1" lang="fr-FR" sz="3500" spc="-1" strike="noStrike">
                <a:solidFill>
                  <a:srgbClr val="000000"/>
                </a:solidFill>
                <a:latin typeface="Verdana"/>
              </a:rPr>
              <a:t>est mort du sida le grand danseur Roudolphe Nouriév.</a:t>
            </a:r>
            <a:r>
              <a:rPr b="1" i="1" lang="fr-FR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5292720" y="1197000"/>
            <a:ext cx="3162240" cy="4680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1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000"/>
                            </p:stCondLst>
                            <p:childTnLst>
                              <p:par>
                                <p:cTn id="9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250920" y="1312920"/>
            <a:ext cx="4255920" cy="48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000" spc="-1" strike="noStrike">
                <a:solidFill>
                  <a:srgbClr val="000000"/>
                </a:solidFill>
                <a:latin typeface="Verdana"/>
              </a:rPr>
              <a:t>Janvier</a:t>
            </a:r>
            <a:r>
              <a:rPr b="1" i="1" lang="ru-RU" sz="3000" spc="-1" strike="noStrike">
                <a:solidFill>
                  <a:srgbClr val="000000"/>
                </a:solidFill>
                <a:latin typeface="Verdana"/>
              </a:rPr>
              <a:t> 1971</a:t>
            </a:r>
            <a:r>
              <a:rPr b="1" i="1" lang="fr-FR" sz="3000" spc="-1" strike="noStrike">
                <a:solidFill>
                  <a:srgbClr val="000000"/>
                </a:solidFill>
                <a:latin typeface="Verdana"/>
              </a:rPr>
              <a:t>. La reine de blues et de rock and roll Janis Joplin est morte par overdose de l’héroïne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572000" y="1628640"/>
            <a:ext cx="4248000" cy="42483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1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400" spc="-1" strike="noStrike">
                <a:solidFill>
                  <a:srgbClr val="000000"/>
                </a:solidFill>
                <a:latin typeface="Verdana"/>
              </a:rPr>
              <a:t>La victime des drogues la plus connue est Freddie Mercury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643280" y="2395440"/>
            <a:ext cx="3924360" cy="29815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0" y="3141720"/>
            <a:ext cx="3095640" cy="29052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05" name=""/>
          <p:cNvSpPr/>
          <p:nvPr/>
        </p:nvSpPr>
        <p:spPr>
          <a:xfrm>
            <a:off x="-4434120" y="324396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403848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fr-FR" sz="2700" spc="-1" strike="noStrike">
                <a:solidFill>
                  <a:srgbClr val="000000"/>
                </a:solidFill>
                <a:latin typeface="Verdana"/>
              </a:rPr>
              <a:t>Le</a:t>
            </a:r>
            <a:r>
              <a:rPr b="1" i="1" lang="ru-RU" sz="2700" spc="-1" strike="noStrike">
                <a:solidFill>
                  <a:srgbClr val="000000"/>
                </a:solidFill>
                <a:latin typeface="Verdana"/>
              </a:rPr>
              <a:t>16</a:t>
            </a:r>
            <a:r>
              <a:rPr b="1" i="1" lang="fr-FR" sz="2700" spc="-1" strike="noStrike">
                <a:solidFill>
                  <a:srgbClr val="000000"/>
                </a:solidFill>
                <a:latin typeface="Verdana"/>
              </a:rPr>
              <a:t> août  Elvys Prestly a été trouvé mort dans sa salle de bain.</a:t>
            </a:r>
            <a:r>
              <a:rPr b="1" i="1" lang="ru-RU" sz="2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fr-FR" sz="2700" spc="-1" strike="noStrike">
                <a:solidFill>
                  <a:srgbClr val="000000"/>
                </a:solidFill>
                <a:latin typeface="Verdana"/>
              </a:rPr>
              <a:t>Il n’avait que  42 ans. Il es mort d’une crise cardiaque. Mais les medecins ont trouvé des drogues dans son sang. 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" name="Picture 7" descr="kop5-2"/>
          <p:cNvPicPr/>
          <p:nvPr/>
        </p:nvPicPr>
        <p:blipFill>
          <a:blip r:embed="rId2"/>
          <a:stretch/>
        </p:blipFill>
        <p:spPr>
          <a:xfrm>
            <a:off x="5364000" y="1052640"/>
            <a:ext cx="2857680" cy="42955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0T10:20:53Z</dcterms:created>
  <dc:creator>Наталья</dc:creator>
  <dc:description/>
  <dc:language>en-US</dc:language>
  <cp:lastModifiedBy>owner</cp:lastModifiedBy>
  <dcterms:modified xsi:type="dcterms:W3CDTF">2013-10-22T03:48:14Z</dcterms:modified>
  <cp:revision>8</cp:revision>
  <dc:subject/>
  <dc:title>La drogue, dis-lui non!</dc:title>
</cp:coreProperties>
</file>