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5FCE-F9BD-4D2D-B147-CAB6861FF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9016-269D-4516-A09E-BDBF871F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599E-7D5D-4CCA-A377-4A1915186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9FC1-7792-4040-84FF-F6796B114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7A773-0E9F-43DC-A770-5AAA5E5F2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79663-737E-4441-BA7A-0C09C477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D12D9-4DF3-4BB1-A8E4-252B9E4B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55B99-915B-4AFE-8BD4-DA9C8947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2D2A9-5E01-45CE-9940-5C1898B4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504B5-9025-461A-91B5-94B17E6E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3BD62-956A-48D5-86D5-C91DF047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574D-2412-41E5-ABA2-88362367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74F07-C8AA-440B-BB4F-45DDDBF7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7D09A-5209-434E-B0DC-7FD636B1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15E14-20AC-495D-BA69-1004C29F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B18D2-9F98-4AD4-A1CE-67894B108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6AE2A-2848-4C0A-998A-7CA48185E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8D1A-40C4-4F5D-8B37-D45C01C4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6AED-FB68-4C59-9687-A63F5D00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35F6-4231-4731-B487-B75D18FC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11BB-4A7E-470A-B6DE-19B74014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C575-E25C-47C9-AF82-DE2EF1A2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0C7B-C8CE-4232-B91E-45890935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338D-AAB1-47AD-B33D-7F1A07B4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5AB5-B905-481F-88BE-5211978D2F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5E1F-39A4-4AF0-B1E9-32EA11B3964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q=755295856&amp;p=4&amp;ag=ih&amp;rpt2=simage&amp;qs=rpt%3Dimage%26text%3D%25FA%25C5%25CD%25CC%25D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вые педагогические технологии обучения географи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0560" y="2636640"/>
            <a:ext cx="88930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ехнология проектной деятельности школьнико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Учебный проек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ебный проект с точки зрения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учащегося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– это возможность делать что-то интересное самостоятельно, в группе или самому, максимально используя свои возможности; это деятельность, позволяющая проявить себя. Попробовать свои силы, приложить свои знания, принести пользу и показать публично достигнутый результат; это деятельность, направленная на решение интересной проблемы, сформированной самими учащимися в виде цели и задачи, когда результат этой деятельности – найденный способ решения проблемы – носит практический характер, имеет важное прикладное значение и, что весьма важно, интересен и значим для самих открывател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ебный проект с точки зрения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учител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это дидактическое средство, позволяющее обучать проектированию, т.е. целенаправленной деятельности по нахождению способа решения проблемы путем решения задач, вытекающих из этой проблемы при рассмотрении ее в определенной ситуации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Учебный проект-эт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дание для учащихся, сформулированное в виде пробле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ленаправленная деятельность учащих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рма организации взаимодействия учащихся с учителем и учащихся между соб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зультат деятельности как найденный  способ решения проблемы проект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снова проек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основе каждого проекта лежит пробле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роблема проект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обуславливает мотив деятельности, направленной на ее решени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Целью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ектной деятельности становится поиск способов решения пробле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Задач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проекта формируется как задача достижения цели в определенных условия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ва плана предъявления учебного проекта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Видимый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тема проект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название проект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проблема проект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задача проект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планирование – осуществл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презентац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Учебный процесс-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видимый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ма учебного курса, уро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цели и задачи обучения, развития, воспита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необходимый уровень ЗУН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необходимые специфические умения и навык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новое содержан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обобщен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обеспечение проект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организационные формы осуществления проек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тодический паспорт учебного проек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дресац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Тема учебного проек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Цели: образовательные, воспитательные, развивающ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Задачи учебно-педагогические (класса, группы. каждого учащегося; приобщение к полезной деятельности, развитие творческих способностей, формирование навыков по исследовательской деятельности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 Возраст учащихся (класс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. Время работы над проект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. Режим рабо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спорт учебного проек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8440" y="1643040"/>
            <a:ext cx="78008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еспече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7. материально-техническое и учебно-методическое оснащение, информационное обеспече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8. Дополнительно привлекаемые участники (специалисты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9. ЗУН и общеучебные навыки. Необходимые учащимся для самостоятельной рабо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0. Специфические умения и навыки, необходимые учащимся для работы в проект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1. мотивация к работ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9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спорт учебного проек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полагаемые приращ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2. Новое содержание и новый взгляд на тем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3. Новые практические прием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4. Обобщение понятия, представления, знания, на получение которых нацелен результат проек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5. Развитие навыков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самостоятельной работы с: источниками информации, инструментами, технология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самостоятельного принятия реше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коммуникативност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в информационном обмене в ролевом взаимодейств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мыслительной деятельности при проектировани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планировании ,анализе,  синтезе, структурировании информации ,самоанализа и рефлекс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6. Воспитание толерант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7. Расширение кругозо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хнология проектной деятельности требует от учителя особой подготовки школьников, разъяснения им заданий, способов их выполнения, требований к оформлению результатов. Как правило, на выполнение задания, т. е. на составление проекта дается большой отрезок времени (месяц, неделя, в зависимости от объема работы), составляется план работы, подбираются источники информации . Работа по созданию учебных проектов не обязательно индивидуальна. Целесообразно давать задания и для создания проектов малыми группами, в которых объединены усилия нескольких учащихс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рганизационная деятельность учащихся при работе над проект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44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и работе над проектом учитель выполняет следующие функци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могает ученикам в поиске источников, способных помочь им в работе над проектом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является источником информаци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ординирует весь процесс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ддерживает непрерывную обратную связь, чтобы помочь ученикам продвигаться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боте над проектом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ощряет ученик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оектное обучение ставит ребенка в позицию учащегося, а не обучаемого. Работа по методу проектов строится в несколько этап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571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 технологией обучения понимают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пособы повышения эффективности обучения, такое проектирование учебного процесса, который имеет четко заданный результа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30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чащиеся свою работу над проектами строят согласно разработанному плану: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. Ознакомление с темой.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. Распределение обязанностей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и  составление плана.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	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3. Работа над проектом.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4. Оформление.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5. Предзащита.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6. Защита.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лан, включающий этапы деятельности учителя и учащихся.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395280" y="120600"/>
          <a:ext cx="8209080" cy="6740640"/>
        </p:xfrm>
        <a:graphic>
          <a:graphicData uri="http://schemas.openxmlformats.org/drawingml/2006/table">
            <a:tbl>
              <a:tblPr/>
              <a:tblGrid>
                <a:gridCol w="1800360"/>
                <a:gridCol w="6408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тапы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ятельность учителя и учащихс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дварительная подготов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отивация учащихся для работы над проектам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явление мотивированных дет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знавательно-просветительская работа с учащими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бственно подготовк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бор и обсуждение темы, целей и задач проек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лучение дополнительной информаци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ормирование рабочих групп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ланировани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работка индивидуальных и групповых планов работы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ормулирование задач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пределение частных задач, источников и способов сбора информации, ее анализ и синте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ланирование рабо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бор формы и установление сроков отчет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спределение задач и обязанностей между членами груп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следовани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полнение исследований под руководством учите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менение на практике методов исследования (теоретического анализа, наблюдения, интервью, опросов и анкетировани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нализ информации и формулировка задач и вывод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чет (презентаци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суждение и утверждение формы отчета и защиты (устная, письменная, аудиовизуальная, графическа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дставление и оценивание результатов (качество работы, источников информации, степень реализации замыслов и т.д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ллективный анализ деятель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915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-й этап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64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ыявление учеников, способных  творчески работать с текстом книги, подбирать и обобщать информацию , делать выводы, анализировать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2-й этап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ыбор темы и определение целей работы.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лавное — научить учащихся не только ставить перед собой цели, но делать это логически обоснованно, с высокой степенью результативности, потому что это определяет последовательность выполнения работы, помогает выявить и установить причинно-следственные связи между всеми ее частями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3-й этап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тановление последовательности выполнения работы. / необходимость контроля  со стороны учителя в определении плана действий, постановке задач.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4-й этап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ение  источников информации, с которыми  предстоит работат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точники информации: научно-популярная литература, справочники, словари, периодическая печать, Интернет, документ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5-й этап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бор формы отчета на будущей презентации и представлен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этого необходимо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считать сроки составления развернутого плана, подведения предварительных итогов, предоставления черновика работы и наглядного материала и т.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деление критериев оценки проекта, включающих в себя соответствие содержания заявленным целям, задачам и темам, структуру работы и ее оформление, качество и эмоциональность подачи материала и т.д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6-этап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28440" y="2214720"/>
            <a:ext cx="707220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учение информации, ее анализ и выявление противоречий или недостающих свед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рганизация работы в групп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искусси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/предполагается при работе в группах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7-й этап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ле обсуждения различных вопросов и вариантов ответов на них, придя к определенному заключению, ученики приступают к завершающей фазе работы, письменному изложению проекта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100" spc="-1" strike="noStrike">
                <a:solidFill>
                  <a:srgbClr val="ffffff"/>
                </a:solidFill>
                <a:latin typeface="Tahoma"/>
              </a:rPr>
              <a:t>Технологии проектной</a:t>
            </a:r>
            <a:r>
              <a:rPr b="0" lang="ru-RU" sz="3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100" spc="-1" strike="noStrike">
                <a:solidFill>
                  <a:srgbClr val="ffffff"/>
                </a:solidFill>
                <a:latin typeface="Tahoma"/>
              </a:rPr>
              <a:t> деятельности школьников включает</a:t>
            </a:r>
            <a:r>
              <a:rPr b="0" lang="ru-RU" sz="3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100" spc="-1" strike="noStrike">
                <a:solidFill>
                  <a:srgbClr val="ffffff"/>
                </a:solidFill>
                <a:latin typeface="Tahoma"/>
              </a:rPr>
              <a:t>	</a:t>
            </a:r>
            <a:br>
              <a:rPr sz="3100"/>
            </a:br>
            <a:r>
              <a:rPr b="0" lang="ru-RU" sz="3100" spc="-1" strike="noStrike">
                <a:solidFill>
                  <a:srgbClr val="ffffff"/>
                </a:solidFill>
                <a:latin typeface="Tahoma"/>
              </a:rPr>
              <a:t> -личностно-ориентированное обучение          - предполагает развитие личности</a:t>
            </a:r>
            <a:br>
              <a:rPr sz="3100"/>
            </a:br>
            <a:r>
              <a:rPr b="0" lang="ru-RU" sz="3100" spc="-1" strike="noStrike">
                <a:solidFill>
                  <a:srgbClr val="ffffff"/>
                </a:solidFill>
                <a:latin typeface="Tahoma"/>
              </a:rPr>
              <a:t> -способность самостоятельно добывать                                            </a:t>
            </a:r>
            <a:br>
              <a:rPr sz="3100"/>
            </a:br>
            <a:r>
              <a:rPr b="0" lang="ru-RU" sz="3100" spc="-1" strike="noStrike">
                <a:solidFill>
                  <a:srgbClr val="ffffff"/>
                </a:solidFill>
                <a:latin typeface="Tahoma"/>
              </a:rPr>
              <a:t>информацию</a:t>
            </a:r>
            <a:br>
              <a:rPr sz="3100"/>
            </a:br>
            <a:r>
              <a:rPr b="0" lang="ru-RU" sz="3100" spc="-1" strike="noStrike">
                <a:solidFill>
                  <a:srgbClr val="ffffff"/>
                </a:solidFill>
                <a:latin typeface="Tahoma"/>
              </a:rPr>
              <a:t>- принимать нестандартные решения</a:t>
            </a:r>
            <a:br>
              <a:rPr sz="3100"/>
            </a:br>
            <a:r>
              <a:rPr b="0" lang="ru-RU" sz="3100" spc="-1" strike="noStrike">
                <a:solidFill>
                  <a:srgbClr val="ffffff"/>
                </a:solidFill>
                <a:latin typeface="Tahoma"/>
              </a:rPr>
              <a:t>-находить пути решения локальных, региональных и даже глобальных проблем современного развития цивилизации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8-й этап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лючительный этап — защита проекта на конференции. Ученики представляют свою научную работу, участвуют в ее обсуждении и в обсуждении других доклад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9-й этап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ценка результатов и процесс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оценивании и обсуждении проекта можно предложить рассмотреть такие вопро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5800" indent="-50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сколько удачным оказался проект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5800" indent="-50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менился ли я (он, она) в процессе работ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5800" indent="-50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тересно ли мне (ему, ей) было работать над этой проблемой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5800" indent="-50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тересно ли мне (ему, ей) было работать с этими людьм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5800" indent="-50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отелось бы продолжить работу в том же составе группы над другим проектом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5800" indent="-50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отелось бы изменить процесс работы над проектом? Почему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3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Одно из достоинств проектной деятельности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— это создание в  особой образовательной атмосферы, дающей детям возможность попробовать себя в различных направлениях учебной деятельности и развить свои универсальные умени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30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Она позволяет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-повысить мотивацию изучения предметов школьной программы;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-реализовать комплексное восприятие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учебных предметов;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-принимать самостоятельные решения;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-поверить в свои сил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30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о наряду с положительными сторонами проектной деятельности нельзя не назвать и некоторые ее недостатк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br>
              <a:rPr sz="32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пример: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увеличение умственной нагрузки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требование более сложной системы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ценивания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увеличение объема работы учителя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существование риска неудачного выполнения работы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овышение эмоциональной нагрузки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нарастание напряжения к сроку сдачи работ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овременная школа призвана формировать и развивать умения находить, выявлять, по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озможности четче формулировать и отыскивать приемлемые решения многим проблемам. И один из путей решения этого —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роектная    деятельность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итератур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И.В. Душина, Е.А. Таможняя, В.Б. Пятунин. Методика и технология обучения географии в школе. АСТ. Москва.2004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А.А. Гин. Приемы педагогической техники. Москва. Вита- Пресс,200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Н.И. Дереклеева. Научно-исследовательская работа в школе. « Вербум-М» М., 2001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 Методология учебного проекта. Материалы городского методического семинара. МИПКРО.-М.,2001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. Г.К. Селевко. Современные образовательные технологии. Народное образование. – М.,1998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. В.В.Николина. Метод проектов в географическом образовании. Журнал «География в школе» №6 2002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7. Н.В. Лысова. Проектная деятельность в обучении географии. Журнал «География в школе» №2 2005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8. Т.А. Новикова. Проектные технологии на уроках и во внеурочной деятельности. Школьные технологии.-2000.- №2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хнология проектной деятельности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ащихс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на уроках географии создает широкие возможности для развития многих компонентов личности: опыта творческой деятельности, рационального стиля мышления, эмоционального, теоретического и практического познания окружающего ми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ебования к уровню подготовки выпускников основной и полной средней школы по географии: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учащиеся должны уметь прогнозировать, например, тенденции изменения природных и социально-экономических объектов и природного комплекса в целом в результате хозяйственной деятельности человека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44956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ать задачи на выдел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ожительных и отрицательных изменений природных объектов под воздействием человека на примере рек, озер, болот, подземных вод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лияние: роста населения, изменения соотношения городского и сельского населения, развития системы городских поселении, развития хозяйства отдельных районов страны, своего региона и своей местно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9" descr="DSCN4006"/>
          <p:cNvPicPr/>
          <p:nvPr/>
        </p:nvPicPr>
        <p:blipFill>
          <a:blip r:embed="rId1"/>
          <a:stretch/>
        </p:blipFill>
        <p:spPr>
          <a:xfrm>
            <a:off x="4572000" y="1700280"/>
            <a:ext cx="4379760" cy="388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46083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оектом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называют какой-либо замысел, план, разработку. Проектная технология может обеспечить проблемно-поисковую познавательную деятельность учащихся, выражающуюся в процессе создания проекта — прообраза предполагаемого или возможного природного или социально-экономического объекта, состояния природных комплекс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i?id=1636019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2133720"/>
            <a:ext cx="3811320" cy="381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4537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применения проектной технологии в процессе обучения географии использую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ебн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тлас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бочие тетрад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ругие средства обучения, содержащие вопросы и задания, рассчитанные на применение в учебном процессе активных методов обучения –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роблемного изложения, исследовательского метод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10" descr="глобус"/>
          <p:cNvPicPr/>
          <p:nvPr/>
        </p:nvPicPr>
        <p:blipFill>
          <a:blip r:embed="rId1"/>
          <a:stretch/>
        </p:blipFill>
        <p:spPr>
          <a:xfrm>
            <a:off x="5076720" y="2060640"/>
            <a:ext cx="3811680" cy="3735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501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настоящее время существует различная классификация проектов, используемых в географ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95280" y="1628640"/>
          <a:ext cx="8435880" cy="4864320"/>
        </p:xfrm>
        <a:graphic>
          <a:graphicData uri="http://schemas.openxmlformats.org/drawingml/2006/table">
            <a:tbl>
              <a:tblPr/>
              <a:tblGrid>
                <a:gridCol w="2805120"/>
                <a:gridCol w="563076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ИТЕР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ИПЫ ПРОЕКТ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2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интегр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олжительность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полнения прое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участни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соб деятель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ключенность 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тический пла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кологические, физико-географические, социально-экономические, комплексные, краеведческие и д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нопредметные (выполняются на материале географи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жпредменые (учитывают содержание нескольких предметов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дпредметные (Выполняются на основе сведений, не входящих в школьную программу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-проект (несколько недель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ей продолжительности (несколько месяцев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лгосрочные (в течении год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дивидуальные, групповые, коллектив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знавательная, творческая, игровая, исследовательск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кущая, игров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6T17:26:14Z</dcterms:created>
  <dc:creator>713</dc:creator>
  <dc:description/>
  <dc:language>en-US</dc:language>
  <cp:lastModifiedBy>Toshiba</cp:lastModifiedBy>
  <dcterms:modified xsi:type="dcterms:W3CDTF">2011-04-06T17:23:27Z</dcterms:modified>
  <cp:revision>253</cp:revision>
  <dc:subject/>
  <dc:title>Новые педагогические технологии обучения географии.</dc:title>
</cp:coreProperties>
</file>