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5E66-4EB6-424B-A918-1480AA8E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E0A9-258A-4D65-A360-D2548006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3746-F2AD-452A-9EE8-9C792375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1A1C-44D5-417E-B23D-AB8F164E6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B1B8-5510-4421-ABA7-AA9FFAC7D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C117-55D6-4F9A-AA07-FA25A75C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6E1B-CE34-4D04-8539-F3C50866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C3C3-3A46-42E4-90F2-D0EDD646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96A5-3EE6-4FE9-8E0D-D72CB7B5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78AF-807A-4146-8E06-908B5247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D96C-10CF-4441-96EC-2EF43FCF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6001-103F-428C-94C4-790579A7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BA02-4B1B-4752-BFE9-01929AC3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2B4C-B6C9-402F-9065-E90A574F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D327-F4DC-4D03-AFB8-AF25E796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E6CD-5900-4DBD-827F-4F0CC857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42E7-78B8-400C-94FD-69D4337E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14838-727B-4AA0-AA9E-3970E20F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0416A-47F0-4467-A217-37F9DA36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46336-EBC7-4D7A-9CD0-4EBCDF48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49A2C-689D-4995-BD22-4207EA42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1EB1C-D4D6-4C1A-A361-0F896E78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76CF-33F2-4D55-A597-A8781984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30D27-E408-4660-A177-58CFFE1C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B75D9-BFB1-4DA1-987D-F9AED340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1F987-345F-4DB7-AE05-E1B3A1F4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F16F7-02BD-4C6E-A184-7B151BAE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48EC2-939E-4800-8574-8CF51348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42442-E443-4365-B2F9-0B3105F6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004D1-4A37-4988-AC61-03C148DA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CD2BA-8688-49ED-AA5E-008FCD24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AF507-CBEA-45B0-8C75-05BD428F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9AC4E-AAD3-44E2-AE46-54CD10AA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4426-DAC9-4495-8BAB-6C1859C6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6C038-9F45-429A-B925-25FF0CD8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ED5FC-6C42-4ABE-855F-6CF90270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08672-26F2-4302-8152-BA750455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62E2C-9F02-484A-A6A9-662B2095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39EBE-686E-4D57-BA8D-F4878487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1EAA0-EBAB-427D-BC99-B6584893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180EA-DBA0-4EBB-8E2F-B25C2754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BE78C-9CDF-4143-956B-D359BCE8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1E8B1-6406-4DEF-AAAB-D72A968B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C9A228-3916-4764-BD48-98C4E149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D8A9-D9E5-493B-B1A2-9A663CF6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80D6DB-3607-42E4-B9E5-55AE9E01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9BB8D4-01D0-409C-AF8E-D0235A18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2A5C7F-8BA2-40D4-B332-603EA09A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96D38B-47CD-4342-B13C-7583D2B6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B06ADB-15DB-4FBE-AFDA-7C4BAA1F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CD7E6C-2EB7-42FD-BA4E-C7D1D153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F67324-4EC6-4CCA-A945-40FF0858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1A911C-5834-4082-A4A0-C46FBFF8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FAF2D0-117B-4A27-B8B0-A8F202F3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5223D5-E66C-4B2E-9DFE-38562263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3E3F-12D1-43CD-BC04-CC26E3DF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21DC3B-AE58-4571-BD0D-F7DDE814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1931-1245-4E6C-9D7F-6DA3F56C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93F4-FE89-4696-B142-0FE61A7A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EE5C-E384-4369-93A6-ABC6EC68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49B6-F8CE-4D6C-B17D-E3F490A4BA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C5C0-2ACF-448D-B2E6-F14A3DFD849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7CBF-5020-4408-AB56-6F9EC89F11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1038-E7AE-47F6-B3AA-3A1246FB18B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5743-465F-48BC-947F-BD6760BE8D1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2400" cy="287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Формирование познавательных интересов у учащихся на уроках физи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19928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Формы занятий и приемы способствующие воспитанию интереса у учащихся к изучению физи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бота с кроссвордом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ставление кроссвордов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оссворд наоборот (составление вопросов к уже разгаданному кроссворду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0" name="Picture 4" descr="Кроссворд"/>
          <p:cNvPicPr/>
          <p:nvPr/>
        </p:nvPicPr>
        <p:blipFill>
          <a:blip r:embed="rId1"/>
          <a:stretch/>
        </p:blipFill>
        <p:spPr>
          <a:xfrm>
            <a:off x="900000" y="3357720"/>
            <a:ext cx="3727440" cy="2746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Кроссворд1"/>
          <p:cNvPicPr/>
          <p:nvPr/>
        </p:nvPicPr>
        <p:blipFill>
          <a:blip r:embed="rId2"/>
          <a:stretch/>
        </p:blipFill>
        <p:spPr>
          <a:xfrm>
            <a:off x="5148360" y="2637000"/>
            <a:ext cx="3527280" cy="39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14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Comic Sans MS"/>
              </a:rPr>
              <a:t>Формы занятий и приемы способствующие воспитанию интереса у учащих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6623280" cy="44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ставление и разгадывание ребус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4" name="Picture 4" descr="Сила_тяжести"/>
          <p:cNvPicPr/>
          <p:nvPr/>
        </p:nvPicPr>
        <p:blipFill>
          <a:blip r:embed="rId1"/>
          <a:stretch/>
        </p:blipFill>
        <p:spPr>
          <a:xfrm>
            <a:off x="324000" y="2276640"/>
            <a:ext cx="4464000" cy="2550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Упругость"/>
          <p:cNvPicPr/>
          <p:nvPr/>
        </p:nvPicPr>
        <p:blipFill>
          <a:blip r:embed="rId2"/>
          <a:stretch/>
        </p:blipFill>
        <p:spPr>
          <a:xfrm>
            <a:off x="4356000" y="4292640"/>
            <a:ext cx="446400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4000" y="187200"/>
            <a:ext cx="6870600" cy="15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Comic Sans MS"/>
              </a:rPr>
              <a:t>Формы занятий и приемы способствующие воспитанию интереса у учащих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пользование фрагментов литературных произведений (сказки, стихотворения, пословицы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з романа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Евгений Онеги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ef66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ffef66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ffef66"/>
                </a:solidFill>
                <a:latin typeface="Comic Sans MS"/>
              </a:rPr>
              <a:t>	</a:t>
            </a:r>
            <a:r>
              <a:rPr b="0" i="1" lang="ru-RU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Татьяна пред окном стояла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На стекла хладные дыша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Задумавшись, моя душ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Прелестным пальчиком писал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На отуманенном стекл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Заветный вензель О да 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ef66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прос: какое физическое явление при этом происходило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Конденсация водяного пара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8" descr="Задача3"/>
          <p:cNvPicPr/>
          <p:nvPr/>
        </p:nvPicPr>
        <p:blipFill>
          <a:blip r:embed="rId1"/>
          <a:stretch/>
        </p:blipFill>
        <p:spPr>
          <a:xfrm>
            <a:off x="5219640" y="2205000"/>
            <a:ext cx="3654360" cy="42213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Формы занятий и приемы способствующие воспитанию интереса у учащих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авление задач с использованием сказочных персонаж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1" name="Picture 4" descr="Задача1"/>
          <p:cNvPicPr/>
          <p:nvPr/>
        </p:nvPicPr>
        <p:blipFill>
          <a:blip r:embed="rId2"/>
          <a:stretch/>
        </p:blipFill>
        <p:spPr>
          <a:xfrm>
            <a:off x="250920" y="2276640"/>
            <a:ext cx="3743280" cy="4383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Задача2"/>
          <p:cNvPicPr/>
          <p:nvPr/>
        </p:nvPicPr>
        <p:blipFill>
          <a:blip r:embed="rId3"/>
          <a:stretch/>
        </p:blipFill>
        <p:spPr>
          <a:xfrm>
            <a:off x="2700360" y="2852640"/>
            <a:ext cx="3887640" cy="38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6870600" cy="14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Comic Sans MS"/>
              </a:rPr>
              <a:t>Формы занятий и приемы способствующие воспитанию интереса у учащих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рточки обратной связи (сигнальные карточки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изическое домин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5" name="Picture 4" descr="Домино"/>
          <p:cNvPicPr/>
          <p:nvPr/>
        </p:nvPicPr>
        <p:blipFill>
          <a:blip r:embed="rId1"/>
          <a:stretch/>
        </p:blipFill>
        <p:spPr>
          <a:xfrm>
            <a:off x="1042920" y="2997360"/>
            <a:ext cx="741672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6870600" cy="14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Comic Sans MS"/>
              </a:rPr>
              <a:t>Формы занятий и приемы способствующие воспитанию интереса у учащих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696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пользование на уроках физических игр:     «Найди лишний предмет», «Самый умный»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8" name="Picture 6" descr="Безымянный1"/>
          <p:cNvPicPr/>
          <p:nvPr/>
        </p:nvPicPr>
        <p:blipFill>
          <a:blip r:embed="rId1"/>
          <a:stretch/>
        </p:blipFill>
        <p:spPr>
          <a:xfrm>
            <a:off x="395280" y="2781360"/>
            <a:ext cx="4826160" cy="19224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DSC02126"/>
          <p:cNvPicPr/>
          <p:nvPr/>
        </p:nvPicPr>
        <p:blipFill>
          <a:blip r:embed="rId2"/>
          <a:stretch/>
        </p:blipFill>
        <p:spPr>
          <a:xfrm>
            <a:off x="5508720" y="2781360"/>
            <a:ext cx="32842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Comic Sans MS"/>
              </a:rPr>
              <a:t>Формы занятий и приемы способствующие воспитанию интереса у учащих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1583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 Приобщение учащихся к творческой и исследовательской работ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астие в городских и школьных научно-практических конференция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2" name="Picture 6" descr="DSC01550"/>
          <p:cNvPicPr/>
          <p:nvPr/>
        </p:nvPicPr>
        <p:blipFill>
          <a:blip r:embed="rId1"/>
          <a:stretch/>
        </p:blipFill>
        <p:spPr>
          <a:xfrm>
            <a:off x="2643120" y="2786040"/>
            <a:ext cx="42195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Comic Sans MS"/>
              </a:rPr>
              <a:t>Формы занятий и приемы способствующие воспитанию интереса у учащих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становка экспериментов и изготовление наглядных пособий для демонстрации опыт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5" name="Picture 5" descr="DSC01553"/>
          <p:cNvPicPr/>
          <p:nvPr/>
        </p:nvPicPr>
        <p:blipFill>
          <a:blip r:embed="rId1"/>
          <a:stretch/>
        </p:blipFill>
        <p:spPr>
          <a:xfrm>
            <a:off x="3286080" y="2882880"/>
            <a:ext cx="46418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Формы занятий и приемы способствующие воспитанию интереса у учащих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здание проблемной ситуации с помощью постановки соответствующих вопросов, например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-   Почему пирожки, которые лепят из песка дети не рассыпаются?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смачивание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Почему отклоняется стрелка гальванометра, если концы проводов, идущих от гальванометра воткнуть в соленый помидор, лимон?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гальванические элементы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Почему иногда падает споткнувшийся человек?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инерция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становка вопросов как правило сопровождается демонстрацией соответствующих опыт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Comic Sans MS"/>
              </a:rPr>
              <a:t>Формы занятий и приемы способствующие воспитанию интереса у учащих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матические экскурс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роки семина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роки лек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В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еловые иг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зговые ата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13744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33cc"/>
                </a:solidFill>
                <a:latin typeface="Comic Sans MS"/>
              </a:rPr>
              <a:t>«</a:t>
            </a:r>
            <a:r>
              <a:rPr b="0" i="1" lang="ru-RU" sz="2800" spc="-1" strike="noStrike">
                <a:solidFill>
                  <a:srgbClr val="0033cc"/>
                </a:solidFill>
                <a:latin typeface="Comic Sans MS"/>
              </a:rPr>
              <a:t>Учение, лишенное всякого интереса и взятое только силою принуждения убивает в ученике охоту к учению, без которой он далеко не уйдет</a:t>
            </a:r>
            <a:r>
              <a:rPr b="0" lang="ru-RU" sz="2800" spc="-1" strike="noStrike">
                <a:solidFill>
                  <a:srgbClr val="0033cc"/>
                </a:solidFill>
                <a:latin typeface="Comic Sans MS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К.Д. Ушинский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Формы занятий и приемы способствующие воспитанию интереса у учащих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Использование примечательных исторических событий и фактов, яркие рассказы о жизни и деятельности ученых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Ознакомление учащихся с достижениями современной  физи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2" name="Picture 6" descr="markoni"/>
          <p:cNvPicPr/>
          <p:nvPr/>
        </p:nvPicPr>
        <p:blipFill>
          <a:blip r:embed="rId1"/>
          <a:stretch/>
        </p:blipFill>
        <p:spPr>
          <a:xfrm>
            <a:off x="684360" y="3284640"/>
            <a:ext cx="4752720" cy="30906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30_tesla-coils_12"/>
          <p:cNvPicPr/>
          <p:nvPr/>
        </p:nvPicPr>
        <p:blipFill>
          <a:blip r:embed="rId2"/>
          <a:stretch/>
        </p:blipFill>
        <p:spPr>
          <a:xfrm>
            <a:off x="5940360" y="2708280"/>
            <a:ext cx="270828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Comic Sans MS"/>
              </a:rPr>
              <a:t>Формы занятий и приемы способствующие формированию интереса к физик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урсовые работы в старших класса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  Уроки зачет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дготовка докладов и рефератов.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Comic Sans MS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обходимо помнить, что средством развития интереса вышеперечисленные приемы становятся лишь в том случае, если они используются в арсенале средств и методов обучения. В противном случае все эти приемы носят лишь развлекательный характер, не достигают цели, а порой уводят учащихся от необходимости серьезного изучения предмет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обходимо создавать атмосферу интереса к знаниям, стремление искать, исследовать, творить, вносить техническую смекалк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Интерес является действенным, реальным мотивом учения. Проблема воспитания интереса учащихся к физике была и остается актуальной в современной школе. Физика формирует творческие способности учащихся, их мировоззрение и убеждение, то есть способствует воспитанию высоконравственной личности</a:t>
            </a:r>
            <a:r>
              <a:rPr b="0" lang="ru-RU" sz="2000" spc="-1" strike="noStrike">
                <a:solidFill>
                  <a:srgbClr val="0033cc"/>
                </a:solidFill>
                <a:latin typeface="Comic Sans MS"/>
              </a:rPr>
              <a:t>. </a:t>
            </a: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Это основная цель может быть достигнута только тогда, когда в процессе обучения будет сформирован интерес к знаниям.  Наличие познавательных интересов у школьников способствует росту их активности на уроках, качестве знаний, формированию познавательных мотивов уч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0033cc"/>
                </a:solidFill>
                <a:latin typeface="Comic Sans MS"/>
              </a:rPr>
              <a:t>Интересный урок можно создать за счет следующих условий: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ичности учител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держания учебного материал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енику просто нравится содержание данного предмета и он с интересом занимаетс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тивов и приемов обуч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Чтобы вызвать интерес к предмету нужно создать мотив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сихолого-педагогическая наука рассматривает мотив как побуждение к деятельности. Под учебным мотивом понимается весь комплекс побудителей учебной деятельности. Процесс реализации мотивов называется мотивацией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Comic Sans MS"/>
              </a:rPr>
              <a:t>Виды мотив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Познавательны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  Широкие познавательные: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риентация на овладение новыми знаниями, фактами, явлениями, закономерностями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 Учебно-познавательные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риентация на усвоение способов добывания знаний, приемов самостоятельного приобретения знан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 Самообразование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риентация на приобретение дополнительных знаний и на построение специальной программы самосовершенствования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5400" y="235080"/>
            <a:ext cx="5735520" cy="97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Comic Sans MS"/>
              </a:rPr>
              <a:t>Виды мотив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Социальны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   Широкие социальные мотивы. Долг и ответственность, понимание социальной значимости учителя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    Узкие социальные мотивы. Стремление занять определенную позицию в отношениях с окружающими, получить их одобре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    Мотив социального сотрудничества: ориентация на разные способы взаимодействия с другим человеком.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Comic Sans MS"/>
              </a:rPr>
              <a:t>Источники влияющие на становление интереса ребят к учени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держание учебного материал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 Новизна материал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 Обновление усвоенных знаний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 Историзм преподава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 Ознакомление с современными научно-техническими достижениям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 Показ практического значения и необходимости знаний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Comic Sans MS"/>
              </a:rPr>
              <a:t>Источники влияющие на становление интереса ребят к учени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рганизация учебной деятель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 Использование различных форм     самостоятельных работ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 Проблемное обуче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 Постановка практических работ (исследовательских, творческих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0:39:28Z</dcterms:created>
  <dc:creator>Администратор</dc:creator>
  <dc:description/>
  <dc:language>en-US</dc:language>
  <cp:lastModifiedBy>User</cp:lastModifiedBy>
  <dcterms:modified xsi:type="dcterms:W3CDTF">2013-10-22T12:18:01Z</dcterms:modified>
  <cp:revision>15</cp:revision>
  <dc:subject/>
  <dc:title>Цели МО</dc:title>
</cp:coreProperties>
</file>