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29A-1CF7-4D37-AB1C-52E149B8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020-53A7-4F2F-8E2B-9B3AACA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637-637E-4198-BDF8-7F25E3B0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AB5-2EB9-4926-836A-43F67B8E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7D7-F718-4F59-8505-31D2465F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1EE-6C69-42EE-8E06-58FDBC9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873F-A2FE-426A-90DD-32A4E67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884A-AD41-4460-9588-DD28A5E8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11F-F0A0-4BD6-90F9-EC21255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D108-694B-423B-92AB-CFF841DF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894-876F-4928-BB0D-BF34102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4CE-0B09-4052-80B5-7185CF2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4681-D2D7-4029-91AF-B31F462C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0BDE-6605-4E20-A7C0-64C4F20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298-20D9-4133-B232-591204A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F7E-B1A5-4E95-A2ED-E1EBB823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449E-DC05-46DB-9AC5-886DEE7D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19-37CF-4F9C-879F-CF18D29E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137-A025-4D6A-831A-8AC94559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FE6-8BCD-4552-BA92-6771D17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10A-6BF7-42F0-81E3-A28B32D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07A-D30B-4767-97B7-2D0C32F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EEA-D7E0-405E-8D64-7A8B5E8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DE5-3335-4235-BDFB-BCC23BB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171-79EE-45E6-AB32-556110E6AC8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5AB-CC78-41DF-ABB9-2E5E4EEF4C8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yandex.ru/yandsearch?text=&#1074;&#1079;&#1098;&#1077;&#1088;&#1086;&#1096;&#1077;&#1085;&#1085;&#1099;&#1081;%20&#1074;&#1086;&#1088;&#1086;&#1073;&#1077;&#1081;&amp;noreask=1&amp;img_url=img-fotki.yandex.ru%2Fget%2F3604%2Fzoya-1003.11%2F0_2693b_68e9b9ef_L&amp;pos=0&amp;rpt=simage&amp;lr=42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p=4&amp;text=&#1090;&#1088;&#1091;&#1076;&#1086;&#1083;&#1102;&#1073;&#1080;&#1074;&#1099;&#1077;%20&#1084;&#1091;&#1088;&#1072;&#1074;&#1100;&#1080;%20&#1082;&#1072;&#1088;&#1090;&#1080;&#1085;&#1082;&#1080;&amp;img_url=pozitiv-news.ru%2Fwp-content%2Fuploads%2F2012%2F02%2Fants-31.jpg&amp;pos=131&amp;rpt=simage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4;&#1100;&#1102;&#1085;%20&#1088;&#1072;&#1089;&#1090;&#1077;&#1085;&#1080;&#1077;&amp;img_url=ua-fish.net%2Fuserfiles%2Fimage%2Fletnyarybalka%2F39.jpg&amp;pos=149&amp;rpt=simag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4;&#1100;&#1102;&#1085;%20&#1088;&#1072;&#1089;&#1090;&#1077;&#1085;&#1080;&#1077;&amp;img_url=insideplant.net%2F_ph%2F2%2F2%2F649529561.jpg&amp;pos=131&amp;rpt=simage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Русский язык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3 класс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78596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        </a:t>
            </a: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ТЕМА УРО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пражнения в написании слов с разделительными Ъ и Ь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вободны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ПЛАН УРО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пражнения в правописании слов и предложений с разделительными Ъ и 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бодный дикт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Calibri"/>
              </a:rPr>
              <a:t>Составь и запиши предложение с этими сочетаниями сл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_ерошенные вороб_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вонк_голосые солов_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_любивые мурав_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208764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052640"/>
            <a:ext cx="1944720" cy="193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4581360"/>
            <a:ext cx="255564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СВОБОДНЫЙ ДИКТАНТ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20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ью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13372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264960"/>
            <a:ext cx="7129440" cy="1161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692280"/>
            <a:ext cx="388800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Итоги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Ответьте письменно на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чему цветок вьюн так называе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Домашнее зад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4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пр.5 стр.143(ус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39211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5:29:29Z</dcterms:created>
  <dc:creator>руслан</dc:creator>
  <dc:description/>
  <dc:language>en-US</dc:language>
  <cp:lastModifiedBy>руслан</cp:lastModifiedBy>
  <dcterms:modified xsi:type="dcterms:W3CDTF">2012-11-30T08:23:13Z</dcterms:modified>
  <cp:revision>4</cp:revision>
  <dc:subject/>
  <dc:title>Слайд 1</dc:title>
</cp:coreProperties>
</file>