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257-9ABB-45D5-B7AC-E3C72D95F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FE3-D149-460A-8726-BAB7912E48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1D8-57E4-4A7A-B167-6F7E9189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EE0-3734-44CE-BA9F-97D5544B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7C5-00D3-4E8F-A002-F5218D78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B9C-5921-4B9B-8E55-A4787875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9788-3846-4242-8CC7-86B81633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E21-2168-400D-91B0-50A0D2FB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E66-A10B-4524-8A33-3B603B0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04D-76CA-4780-8FC9-48F2CCE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915-DCDE-44C3-B224-9494AA8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39D-6653-4E70-A1A6-973DC0DF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3522-0E70-4B92-B6C1-2957871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375-3270-49C1-9A71-DBAA7FF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5B29-6F3A-4266-A7BC-02C5E32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D74D-4A4E-4136-A67F-25B44D5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1471-E541-49D1-AEAD-2D336A82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AB7-403B-4DB4-81D4-94C316F0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2A79-5FC6-413F-B5B8-283C53D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3056-F7FB-46AC-9390-CBC35412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EEEA-BAAF-4995-95B2-0A880A88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ADD7-CA67-417D-85A5-DE2459D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95DC-C12E-4C90-954C-65319E02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E9FF-0AFD-4974-B64D-0699E97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118-62B9-48A0-AD78-3F9B693F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443C-5404-41EF-B08D-45A86C5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E947-B9D0-48E4-9228-AF0EC31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D8B5-C2C1-4F2D-A527-1E348B1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E0EE-E506-4958-B848-F151C3B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F216-CBE6-470E-B8D2-FE24868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C819-3B48-4A1B-A7C8-7CFF3546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2002-D06B-4FAB-8D7C-FB5C1754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8336-608B-4C05-8A0B-AF67051F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3A5F-9EBA-44D7-B8FC-BD3FF94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F152-5FC9-4F27-8DC0-0623F466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7FA-21C4-42CC-B720-49457FFB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66B4-4925-4D5E-A610-FF91CFD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9CBC-4868-4EED-9169-B46AC25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F78B-7C5A-4166-BEFD-CF19A38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27C1-6162-4ABB-91F9-7352535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7304-E005-4872-A274-9B9CDAA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900D-BDF7-43CB-83BE-BF5AA15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A60C-D275-4D7D-AEBC-6DF27C07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BE13-3B6B-4E69-8A36-E59CFE5C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CA16-8366-4DF4-B2AA-962E1666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74BC-0A94-4960-A527-BE714507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15D-A8E3-40A8-A468-91C67C5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7A5B9-CA63-44F9-ABBE-72860A2D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729E-E45D-496F-BAB8-5AD837A3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BBCB-5F64-424F-AE20-3EBAD33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B772-CA6B-4CCD-AFA7-3621CF0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7204D-5228-4E84-9BCF-F74FDD4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BDE0-D00A-411E-8642-EC0F879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70E71-39FA-475E-952B-F414C6F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32B8-CA50-407C-BC15-7219F65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496D-FBDC-4EB5-99D6-EAB5C65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0205-BEC3-43C5-9013-B1821FA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E67-C904-48A2-8334-2ADBEC8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9DF6-E11E-4E55-A3A9-4678A92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670-7001-4658-BA3E-73BE7C2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65E-62AD-4972-BD8E-307AF72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E1D-7D60-4EF4-A207-59A921C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7AF8-B6FF-45E6-A857-838010759425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7DC7-1AB2-44EC-841A-57B1ABB7B80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904-50F9-42FC-B661-7549C16F2325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B470-7AFC-4CA3-8884-5A5889C4DF8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472C-AD90-46EB-95DF-0F1A2F7383B8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82C4-ADB1-4E71-8DEA-2171D9CAD25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75C-66E6-455A-8D7F-7212690D7D51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2AB-8761-4C91-B612-58863D0C555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22A-FA13-4DBA-B647-4B1FF98DDF74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FCEA-93D3-4E14-A6B0-D0A9D873A24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255680" y="255600"/>
            <a:ext cx="7162920" cy="414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651280" y="4149360"/>
            <a:ext cx="3168360" cy="18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rebuchet MS"/>
              </a:rPr>
              <a:t>Работу выполнила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rebuchet MS"/>
              </a:rPr>
              <a:t>Ученица 2 «Э» класса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rebuchet MS"/>
              </a:rPr>
              <a:t>Шекалина Николь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rebuchet MS"/>
              </a:rPr>
              <a:t>Учитель  Баранцева О</a:t>
            </a:r>
            <a:r>
              <a:rPr b="1" lang="en-US" sz="19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1" lang="ru-RU" sz="19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1" lang="en-US" sz="19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132000" y="573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анкт-Петербур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013г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Прямоугольник 5"/>
          <p:cNvGrpSpPr/>
          <p:nvPr/>
        </p:nvGrpSpPr>
        <p:grpSpPr>
          <a:xfrm>
            <a:off x="475200" y="2114640"/>
            <a:ext cx="7014240" cy="860400"/>
            <a:chOff x="475200" y="2114640"/>
            <a:chExt cx="7014240" cy="860400"/>
          </a:xfrm>
        </p:grpSpPr>
        <p:pic>
          <p:nvPicPr>
            <p:cNvPr id="23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706320" y="2114640"/>
              <a:ext cx="65422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5200" y="2133720"/>
              <a:ext cx="701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c000"/>
                  </a:solidFill>
                  <a:latin typeface="Trebuchet MS"/>
                </a:rPr>
                <a:t>Немецкий</a:t>
              </a:r>
              <a:r>
                <a:rPr b="1" lang="ru-RU" sz="4800" spc="-1" strike="noStrike">
                  <a:solidFill>
                    <a:srgbClr val="f9b639"/>
                  </a:solidFill>
                  <a:latin typeface="Trebuchet MS"/>
                </a:rPr>
                <a:t> Петербург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050920" y="26028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Источ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971640" y="112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ttp://shuck.ucoz.ru/index/nacionalnye_kostjumy/0-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042920" y="198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ttp://deutsch-lernen-mit.narod.ru/Anekdot/witz.htm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971640" y="29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ttp://spbstarosti.ru/vidy-na-peterburg/nemeckij-peterburg.htm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468360" y="765000"/>
            <a:ext cx="7343640" cy="436284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немецкого Петербурга начинается буквально со дня основания города. По приглашению Петра I для устройства «Северного Парадиза» на берега Невы приезжает целая плеяда талантливых выходцев из Германии. Среди них были не только архитекторы, скульпторы, художники и учёные, но и простые ремесленники, аптекари, булочники, пивовары и сапожники. Все они образовали немецкую общину, ставшую впоследствии самой обширной из всех иностранных общин Санкт-Петербурга. Естественно, правительство всячески благоволило к образовавшейся посреди новой русской столицы «маленькой Германии». Так, петербургским немцам предоставили права исповедовать свою религию, соблюдать национальные обычаи и традиции, создавать школы и, наконец, выпускать издания на родном для них язы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706480" y="609300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катерина Вели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http://upload.wikimedia.org/wikipedia/commons/thumb/2/2e/Levitzky_Portrait_Catherine_II_in_1794.jpg/220px-Levitzky_Portrait_Catherine_II_in_1794.jpg"/>
          <p:cNvPicPr/>
          <p:nvPr/>
        </p:nvPicPr>
        <p:blipFill>
          <a:blip r:embed="rId1"/>
          <a:stretch/>
        </p:blipFill>
        <p:spPr>
          <a:xfrm>
            <a:off x="2916360" y="2924280"/>
            <a:ext cx="2447640" cy="32274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5502600" y="465300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лизавета</a:t>
            </a:r>
            <a:r>
              <a:rPr b="0" lang="ru-RU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лексе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0" y="4437000"/>
            <a:ext cx="295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Александра Федоров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После смерти Николая I - вдовствующая Императр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File:Elizaveta wife of tsar Alexander I by Mosnier.jpg"/>
          <p:cNvPicPr/>
          <p:nvPr/>
        </p:nvPicPr>
        <p:blipFill>
          <a:blip r:embed="rId2"/>
          <a:stretch/>
        </p:blipFill>
        <p:spPr>
          <a:xfrm>
            <a:off x="5508720" y="1700280"/>
            <a:ext cx="2232000" cy="276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Файл:КарлРейхель-портретИмператрицыАлександрыФёдоровны.jpg"/>
          <p:cNvPicPr/>
          <p:nvPr/>
        </p:nvPicPr>
        <p:blipFill>
          <a:blip r:embed="rId3"/>
          <a:stretch/>
        </p:blipFill>
        <p:spPr>
          <a:xfrm>
            <a:off x="539640" y="1413000"/>
            <a:ext cx="1979640" cy="2925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7"/>
          <p:cNvSpPr/>
          <p:nvPr/>
        </p:nvSpPr>
        <p:spPr>
          <a:xfrm>
            <a:off x="1042920" y="18900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сские Императрицы и принцессы немецк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0303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611280" y="1844640"/>
            <a:ext cx="4932360" cy="119124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"Новый русский" звонит своему другу: "Слушай, я - гений! Свой новый пазл я собрал всего за три месяца. А на коробке написано "От 3 до 5 лет…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2627280" y="4292640"/>
            <a:ext cx="4572000" cy="146556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Гуляют два мышенка. Видят летучую мышь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дин мышенок говорит другому: "Когда я стану большим, я тоже буду лётчиком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895400" y="1652760"/>
            <a:ext cx="4565880" cy="2212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shuck.ucoz.ru/Kultur/german-1-.jpg"/>
          <p:cNvPicPr/>
          <p:nvPr/>
        </p:nvPicPr>
        <p:blipFill>
          <a:blip r:embed="rId2"/>
          <a:stretch/>
        </p:blipFill>
        <p:spPr>
          <a:xfrm>
            <a:off x="324000" y="26028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shuck.ucoz.ru/Kultur/german.jpg"/>
          <p:cNvPicPr/>
          <p:nvPr/>
        </p:nvPicPr>
        <p:blipFill>
          <a:blip r:embed="rId3"/>
          <a:stretch/>
        </p:blipFill>
        <p:spPr>
          <a:xfrm>
            <a:off x="6156360" y="3933720"/>
            <a:ext cx="1692360" cy="255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http://shuck.ucoz.ru/Kultur/german-4-.jpg"/>
          <p:cNvPicPr/>
          <p:nvPr/>
        </p:nvPicPr>
        <p:blipFill>
          <a:blip r:embed="rId4"/>
          <a:stretch/>
        </p:blipFill>
        <p:spPr>
          <a:xfrm>
            <a:off x="6300720" y="333360"/>
            <a:ext cx="1690920" cy="241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http://shuck.ucoz.ru/Kultur/german-2-.jpg"/>
          <p:cNvPicPr/>
          <p:nvPr/>
        </p:nvPicPr>
        <p:blipFill>
          <a:blip r:embed="rId5"/>
          <a:stretch/>
        </p:blipFill>
        <p:spPr>
          <a:xfrm>
            <a:off x="3276720" y="4005360"/>
            <a:ext cx="1684080" cy="2519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http://shuck.ucoz.ru/Kultur/german-3-.jpg"/>
          <p:cNvPicPr/>
          <p:nvPr/>
        </p:nvPicPr>
        <p:blipFill>
          <a:blip r:embed="rId6"/>
          <a:stretch/>
        </p:blipFill>
        <p:spPr>
          <a:xfrm>
            <a:off x="395280" y="3933720"/>
            <a:ext cx="1841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7253280" cy="7254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2"/>
          <p:cNvSpPr/>
          <p:nvPr/>
        </p:nvSpPr>
        <p:spPr>
          <a:xfrm>
            <a:off x="971640" y="573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rebuchet MS"/>
              </a:rPr>
              <a:t>Тушеная капуста с сосисками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8" descr="http://www.formula-travel.ru/files/images/gerkuh12.jpg"/>
          <p:cNvPicPr/>
          <p:nvPr/>
        </p:nvPicPr>
        <p:blipFill>
          <a:blip r:embed="rId2"/>
          <a:stretch/>
        </p:blipFill>
        <p:spPr>
          <a:xfrm>
            <a:off x="1476360" y="1413000"/>
            <a:ext cx="55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www.formula-travel.ru/files/images/gerkuh52.jpg"/>
          <p:cNvPicPr/>
          <p:nvPr/>
        </p:nvPicPr>
        <p:blipFill>
          <a:blip r:embed="rId1"/>
          <a:stretch/>
        </p:blipFill>
        <p:spPr>
          <a:xfrm>
            <a:off x="1692360" y="4762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763640" y="5877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bd388"/>
                </a:solidFill>
                <a:uFillTx/>
                <a:latin typeface="Trebuchet MS"/>
              </a:rPr>
              <a:t>Вареная свиная руль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Утка с яблоками"/>
          <p:cNvPicPr/>
          <p:nvPr/>
        </p:nvPicPr>
        <p:blipFill>
          <a:blip r:embed="rId1"/>
          <a:stretch/>
        </p:blipFill>
        <p:spPr>
          <a:xfrm>
            <a:off x="1476360" y="8366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2700360" y="522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bd388"/>
                </a:solidFill>
                <a:uFillTx/>
                <a:latin typeface="Trebuchet MS"/>
              </a:rPr>
              <a:t>Утка с ябло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077480" y="1484280"/>
            <a:ext cx="59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6:31:16Z</dcterms:created>
  <dc:creator>Слава-Таня</dc:creator>
  <dc:description/>
  <dc:language>en-US</dc:language>
  <cp:lastModifiedBy>Учитель </cp:lastModifiedBy>
  <dcterms:modified xsi:type="dcterms:W3CDTF">2013-10-21T12:40:16Z</dcterms:modified>
  <cp:revision>21</cp:revision>
  <dc:subject/>
  <dc:title>Слайд 1</dc:title>
</cp:coreProperties>
</file>