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7CC4-BBF4-4B31-B82C-D46B46A5F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20D8-DB5D-4990-A5DC-4E1CC0620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6CCB-174B-492C-B2CB-01F467E6C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39D1-EA3F-48C0-AF71-67BD07336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CFFEB-81CA-43EB-BE41-F5288D32A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AE2D8-4C5D-4A3F-9058-C765B9F10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3AA44-3596-403E-A7B5-0A67C10CF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4B0A2-9BD3-4F41-90CE-415717566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A8E32-AFBF-4B40-8254-A01C21AE9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70440-5822-4BBA-8DF8-A03716646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20F40-330F-40A9-87DF-E6164705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A8CE-86C4-444A-9D7E-059DD732D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E793C-604A-4D68-A758-DCDCD745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AE783-8766-4222-A86D-F8427E6B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DA4DE-3805-48B8-9CED-810EF013B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712EA-01D8-499D-AFE7-A75CCBABB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598C9-E954-4B17-B652-00320D0A6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D9E2-F5AA-4BB9-B421-BF56E71D4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2799-8523-4B6B-AB06-06A3BB5FD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BD16-4A4B-4F73-AC13-52F5DA153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CD4C-F61E-4E1C-BF35-558E6CD0B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E4D8-A840-4351-8C51-6AEBB3F4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93A3-C0EA-41FA-8DA6-0EE77FD0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528A-117D-4EE2-B03A-BF927FE5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4DE1B-22A7-48A2-950F-3A8950E159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1B889-407C-4726-B06A-DC98211401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Страны, столицы, национальности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pañ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60880" y="4684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uec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ecia- Estocolmo- sueco/sue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olandé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landa- Amsterdam- holandés/holande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hin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na – Pekín – chino/ch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Japoné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pón – Tokio – japonés/japone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spaño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paña – Madrid –español/españo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xica- México – mexicano/mexica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gentina – Buenos Aires- argentino/argent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us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sia- Moscú – ruso/ru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rancé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ancia- París- francés/ france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talian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alia-Roma- italiano/italia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glé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glaterra – Londres- inglés/ingles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s Estados Unidos – Washington – norteamericano/norteamerica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ané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namarca- Kopenhaguen – danés/dane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lemá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emania –Berlin- alemán/alema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iza – Berna –suizo/sui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stria – Viena – austriaco/austria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rtugué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tugal – Lisboa –portugés/portuge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9-11-16T11:46:4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