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.gif" ContentType="image/gif"/>
  <Override PartName="/ppt/media/image4.wmf" ContentType="image/x-wmf"/>
  <Override PartName="/ppt/media/image10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538-FD15-46CA-B0A7-E94B484F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E02-687A-4B8C-A388-52BFAD6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725-5F08-4ED8-9CF5-FD9AD2A3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1E3-7C3F-4D24-8EE3-ADE9B857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B50-402A-44ED-83BC-D495901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5DA-5429-4D19-95C8-362FA77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8A8-0059-4896-8A19-81D493EF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B1B-542B-4EC0-8CFE-A8492F98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F4C-90E7-4756-8B73-B1066F2E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A7C-1FB7-4271-8F76-07E1833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106-BCF3-4AF7-BA1A-193DA3C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0D0-CFB3-44A5-AA15-9BEFD13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7A4-1CDD-4C27-A776-E76A37C8F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1752480" cy="165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76212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10280" y="2286000"/>
            <a:ext cx="1447920" cy="9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1474920" cy="181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43000" y="2406600"/>
            <a:ext cx="1295280" cy="916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76720" y="3170160"/>
            <a:ext cx="2514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 Е С Т 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жи о внутреннем строении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65440" y="1600200"/>
            <a:ext cx="3382920" cy="419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20800" y="1523880"/>
            <a:ext cx="34434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части 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38400" y="571680"/>
            <a:ext cx="66672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38400" y="571680"/>
            <a:ext cx="66672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09800" y="1795320"/>
            <a:ext cx="3524400" cy="326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57240" y="914400"/>
            <a:ext cx="542952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YP/lO</cp:lastModifiedBy>
  <dcterms:modified xsi:type="dcterms:W3CDTF">2007-09-16T16:24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