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001-29D9-4C48-BDEA-1E6C2883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287-A594-49EE-9A2A-2DC8B911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D48-0625-4972-BDC5-9C699274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8B0-47EB-4CC0-8EB6-80077690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DB0-918B-4344-A715-5915220E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B97-4CD8-4B90-83B7-C50F5B7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1A6-383D-427D-8C01-25C1F2CC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C07-1892-4843-8B21-7C477509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71D-537C-442B-AC99-474EE67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40A-C589-4D15-AB4E-18E6535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A7D-ED29-46A4-8C45-83CB3891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E6C-89D1-4C43-8834-EF8F601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62E0-5F3B-4F68-A591-D08E59EC3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laser.wav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20" y="539748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АОУ Лицея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ерсенева Анастасия Викто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720" y="333360"/>
            <a:ext cx="490680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c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 ka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: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662472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61840" y="404640"/>
            <a:ext cx="54003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shi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ʃɪp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1080" y="333360"/>
            <a:ext cx="58226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tra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trein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1294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722840" y="333360"/>
            <a:ext cx="40957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robo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rəʋbət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8908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have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haven`t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hat toys have you got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43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hat toys has he/she got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/she has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/she hasn't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00" y="69372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916360" y="4365720"/>
            <a:ext cx="3166920" cy="103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3857760"/>
            <a:ext cx="2411280" cy="1827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804000" y="3716280"/>
            <a:ext cx="2104920" cy="1779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37880" y="-100080"/>
            <a:ext cx="736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Соедини название с картин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6720" y="595008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d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00" y="5877000"/>
            <a:ext cx="159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3800" y="6308640"/>
            <a:ext cx="155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c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4000" y="6021360"/>
            <a:ext cx="174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5440" y="63086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do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6160" y="6165720"/>
            <a:ext cx="135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rob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84360" y="692280"/>
            <a:ext cx="1509480" cy="2263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877080" y="836640"/>
            <a:ext cx="1628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-0.00324 C -0.30017 -0.19801 -0.62257 -0.39255 -0.75156 -0.47028 E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6 -0.00857 C 0.01562 -0.19954 0.0559 -0.39075 0.07205 -0.46667 E">
                                      <p:cBhvr>
                                        <p:cTn id="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50613E-006 C 0.10816 -0.2105 0.21649 -0.42054 0.25972 -0.50451 E">
                                      <p:cBhvr>
                                        <p:cTn id="1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01272 C -0.26598 -0.01365 -0.52344 -0.04002 -0.62639 -0.05066 E">
                                      <p:cBhvr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1897 C 0.15851 -0.01434 0.31424 -0.04765 0.37657 -0.06084 E">
                                      <p:cBhvr>
                                        <p:cTn id="2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0.02035 C 0.26285 -0.031 0.50851 -0.08235 0.60677 -0.10294 E">
                                      <p:cBhvr>
                                        <p:cTn id="2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2664000" cy="118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404640"/>
            <a:ext cx="1579680" cy="181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655640" cy="1611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916360" y="3645000"/>
            <a:ext cx="2736720" cy="193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40" y="5975280"/>
            <a:ext cx="195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4520" y="63356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9440" y="5950080"/>
            <a:ext cx="16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lego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5440" y="6308640"/>
            <a:ext cx="221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eddy b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6520" y="5950080"/>
            <a:ext cx="187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t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5080" y="6308640"/>
            <a:ext cx="23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mon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778360" y="3213000"/>
            <a:ext cx="3365640" cy="228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3645000"/>
            <a:ext cx="13888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25283E-009 C -0.05764 -0.26394 -0.11528 -0.52787 -0.13837 -0.63359 E">
                                      <p:cBhvr>
                                        <p:cTn id="3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1.70483E-006 C -0.10018 -0.257 -0.20018 -0.51377 -0.24011 -0.61647 E">
                                      <p:cBhvr>
                                        <p:cTn id="3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77238E-007 C 0.12535 -0.24497 0.25104 -0.48971 0.30139 -0.58756 E">
                                      <p:cBhvr>
                                        <p:cTn id="4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46819E-006 C -0.29722 -0.04303 -0.5934 -0.08582 -0.7118 -0.10294 E">
                                      <p:cBhvr>
                                        <p:cTn id="4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54985E-007 C 0.15069 -0.04904 0.30174 -0.09808 0.36233 -0.11728 E">
                                      <p:cBhvr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01018 C 0.18663 -0.03701 0.37795 -0.0842 0.45452 -0.10317 E">
                                      <p:cBhvr>
                                        <p:cTn id="5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Times New Roman"/>
              </a:rPr>
              <a:t>Найди в каждом ряду </a:t>
            </a:r>
            <a:br>
              <a:rPr sz="3500"/>
            </a:br>
            <a:r>
              <a:rPr b="1" lang="en-US" sz="3500" spc="-1" strike="noStrike">
                <a:solidFill>
                  <a:srgbClr val="ff3300"/>
                </a:solidFill>
                <a:latin typeface="Times New Roman"/>
              </a:rPr>
              <a:t>лишнюю картинк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8000" y="1889280"/>
            <a:ext cx="2087640" cy="1476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2057400"/>
            <a:ext cx="1944720" cy="86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948360" y="2133720"/>
            <a:ext cx="2087640" cy="68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292720" y="1979640"/>
            <a:ext cx="887400" cy="101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50920" y="4610160"/>
            <a:ext cx="1584360" cy="133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995640" y="4581360"/>
            <a:ext cx="1762200" cy="1335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7740720" y="4653000"/>
            <a:ext cx="1130400" cy="129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003640" y="2133720"/>
            <a:ext cx="151308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003640" y="2133360"/>
            <a:ext cx="151308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2124000" y="4508640"/>
            <a:ext cx="1629000" cy="1919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2124000" y="5084640"/>
            <a:ext cx="144000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5084640"/>
            <a:ext cx="151308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6227640" y="4437000"/>
            <a:ext cx="11890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3300"/>
                </a:solidFill>
                <a:latin typeface="Times New Roman"/>
              </a:rPr>
              <a:t>What toy is here</a:t>
            </a:r>
            <a:r>
              <a:rPr b="1" lang="ru-RU" sz="7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620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2349360"/>
            <a:ext cx="496872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ittle Tanya’s sadly sobb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n the waves her ______ is bob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n’t cry your eyes out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ubber ______ don’t dr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ou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2355840"/>
            <a:ext cx="2521080" cy="245268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179280" y="2205000"/>
            <a:ext cx="3888000" cy="302436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720" y="30686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720" y="4221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11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981000"/>
            <a:ext cx="46818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One and two, and three, and f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sitting on the flo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playing with the b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And a pretty little do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One and two, and three, and four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I am sitting on the floor</a:t>
            </a:r>
            <a:r>
              <a:rPr b="1" i="1" lang="ru-RU" sz="25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I am playing with a c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And a pretty little st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One and two, and three, and four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sitting on the floor</a:t>
            </a:r>
            <a:r>
              <a:rPr b="1" i="1" lang="ru-RU" sz="25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sitting, girls and boy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playing with the toy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3141720"/>
            <a:ext cx="939960" cy="915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948360" y="1916280"/>
            <a:ext cx="1629000" cy="1919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84360" y="155520"/>
            <a:ext cx="437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Стишок-счита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00720" y="4365720"/>
            <a:ext cx="17794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4539960" cy="441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0520" y="765000"/>
            <a:ext cx="31784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ba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[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ə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bɔ:l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y teddy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Объект 4" descr=""/>
          <p:cNvPicPr/>
          <p:nvPr/>
        </p:nvPicPr>
        <p:blipFill>
          <a:blip r:embed="rId1"/>
          <a:stretch/>
        </p:blipFill>
        <p:spPr>
          <a:xfrm>
            <a:off x="5508720" y="1052640"/>
            <a:ext cx="326844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628640"/>
            <a:ext cx="67500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My teddy has a lot of fluff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He is round fat and tough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I hug him every d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And I get up and I pl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Sometimes I get a bit tired 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So I snuggle down with my tedd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And cuddle him every n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79280" y="43344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6699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w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v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1" lang="en-US" sz="4800" spc="-1" strike="noStrike">
                <a:solidFill>
                  <a:srgbClr val="ff6699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627280" y="521352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e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ood by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72074859_58719593_8e6ab57d5f63"/>
          <p:cNvPicPr/>
          <p:nvPr/>
        </p:nvPicPr>
        <p:blipFill>
          <a:blip r:embed="rId1"/>
          <a:stretch/>
        </p:blipFill>
        <p:spPr>
          <a:xfrm>
            <a:off x="755640" y="2708280"/>
            <a:ext cx="2081160" cy="208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72074859_58719593_8e6ab57d5f63"/>
          <p:cNvPicPr/>
          <p:nvPr/>
        </p:nvPicPr>
        <p:blipFill>
          <a:blip r:embed="rId2"/>
          <a:stretch/>
        </p:blipFill>
        <p:spPr>
          <a:xfrm>
            <a:off x="6227640" y="2708280"/>
            <a:ext cx="2082960" cy="208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64000" y="2852640"/>
            <a:ext cx="1593720" cy="1747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614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437800" y="836640"/>
            <a:ext cx="31784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do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dɒl]</a:t>
            </a: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7670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15920"/>
            <a:ext cx="89647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eddy</a:t>
            </a:r>
            <a:r>
              <a:rPr b="1" lang="ru-RU" sz="10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be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tedi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bɛə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644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09800" y="333360"/>
            <a:ext cx="51199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do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dɔg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608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1960" y="333360"/>
            <a:ext cx="47649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c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kæt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41209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87240" y="260280"/>
            <a:ext cx="74473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monke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mʌŋkɪ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264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0720" y="-27000"/>
            <a:ext cx="51170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lego se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legəʋ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set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64087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5112000" cy="361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2520" y="189000"/>
            <a:ext cx="61059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pla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plein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8:03:23Z</dcterms:created>
  <dc:creator>Admin</dc:creator>
  <dc:description/>
  <dc:language>en-US</dc:language>
  <cp:lastModifiedBy>Admin</cp:lastModifiedBy>
  <dcterms:modified xsi:type="dcterms:W3CDTF">2013-10-22T10:58:00Z</dcterms:modified>
  <cp:revision>49</cp:revision>
  <dc:subject/>
  <dc:title>Слайд 1</dc:title>
</cp:coreProperties>
</file>