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26E-1954-4033-8669-70897C8C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01F-3297-4564-AF94-67802F40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06D-35F8-40D0-8C10-239F52C6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A64-A986-4AF6-8C79-8A7CDAA7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0CF5-F5A7-4735-B54E-BA6A434F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DACC-EC47-46E1-9F9E-15B43E32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D129-BBBF-4727-B248-1878174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D014-0687-4D20-B95B-56FAD984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AA6E-C9D7-43C4-9708-47B2AD3D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A1E3-179E-4A2A-A4AF-DFAED16E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E12E-DC0A-4A10-ADAF-688ABCD8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A43-9C16-4CFC-A3FA-F577AB46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5CCB-EB5B-40C5-BF41-580EFD3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3BC-265F-41CC-9392-8071FF7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28C2-C036-414E-8580-5910267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8FB-4CC3-48EA-BE6F-DE22C8AB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C530-40DA-44E2-B50E-3CD70E49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356-8DE9-48EA-A719-8572B48E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A63-C329-4E06-B785-586C663E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AD7-C509-4484-8820-1D465773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98F-EC7B-4DC9-BD37-2A654E2C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811-CE4F-4D27-8311-99F808CE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C09-29CF-46D6-B602-C32FF2AE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B5A-AB2F-4315-877E-F4628810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212A-D96D-4643-8F03-A6801D5FD46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165-9E10-43AC-B944-431069EED83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рок русского языка 2 класс УМК «Перспективная начальная школ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тулова З.В.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читель начальных классов МБОУ «Верховажская средняя общеобразовательная школа имени Я.Я.Кремлёв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читай. Чётко произноси зву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Чуть растопит солнце вешне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На дворе у нас снежок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тичьи домики-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воречник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ы сколотим из дос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0"/>
          <a:ext cx="9144000" cy="731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7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износи правильно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иш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 сквор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роизноси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квор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http://www.artdesign21.narod.ru/img/8/skvorechnik.jpg"/>
          <p:cNvPicPr/>
          <p:nvPr/>
        </p:nvPicPr>
        <p:blipFill>
          <a:blip r:embed="rId1"/>
          <a:srcRect l="30372" t="0" r="0" b="0"/>
          <a:stretch/>
        </p:blipFill>
        <p:spPr>
          <a:xfrm>
            <a:off x="5410080" y="2743200"/>
            <a:ext cx="3276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06[1]"/>
          <p:cNvPicPr/>
          <p:nvPr/>
        </p:nvPicPr>
        <p:blipFill>
          <a:blip r:embed="rId1"/>
          <a:stretch/>
        </p:blipFill>
        <p:spPr>
          <a:xfrm>
            <a:off x="2411280" y="3330720"/>
            <a:ext cx="4465800" cy="20793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1763640" y="404640"/>
            <a:ext cx="615816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МИНКА ДЛЯ ГЛАЗ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18m5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99cc99"/>
              </a:gs>
              <a:gs pos="100000">
                <a:srgbClr val="47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6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7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7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Слова- названия предметов разного рода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учиться определять род слов- названий предметов, выделять оконч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уметь находить слова- названия предметов разного рода в словар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расширить знания о неизменяемых слов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равни столбики слов-названий предме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льчик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кн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вочк а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ол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лак о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блон я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ь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отенц е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сн я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Прямоугольник 1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2658960" y="3733920"/>
            <a:ext cx="304920" cy="30456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Прямоугольник 24"/>
          <p:cNvSpPr/>
          <p:nvPr/>
        </p:nvSpPr>
        <p:spPr>
          <a:xfrm>
            <a:off x="2614680" y="5029200"/>
            <a:ext cx="304560" cy="30492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Прямоугольник 25"/>
          <p:cNvSpPr/>
          <p:nvPr/>
        </p:nvSpPr>
        <p:spPr>
          <a:xfrm>
            <a:off x="4876920" y="2517840"/>
            <a:ext cx="380880" cy="37764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Прямоугольник 26"/>
          <p:cNvSpPr/>
          <p:nvPr/>
        </p:nvSpPr>
        <p:spPr>
          <a:xfrm>
            <a:off x="5108400" y="3733920"/>
            <a:ext cx="381240" cy="37764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Прямоугольник 27"/>
          <p:cNvSpPr/>
          <p:nvPr/>
        </p:nvSpPr>
        <p:spPr>
          <a:xfrm>
            <a:off x="5410080" y="4983120"/>
            <a:ext cx="381240" cy="37620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Прямоугольник 28"/>
          <p:cNvSpPr/>
          <p:nvPr/>
        </p:nvSpPr>
        <p:spPr>
          <a:xfrm>
            <a:off x="7772400" y="2478240"/>
            <a:ext cx="380880" cy="37764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Прямоугольник 29"/>
          <p:cNvSpPr/>
          <p:nvPr/>
        </p:nvSpPr>
        <p:spPr>
          <a:xfrm>
            <a:off x="7710480" y="3718080"/>
            <a:ext cx="380880" cy="37620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7569360" y="4956120"/>
            <a:ext cx="380880" cy="37800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культминутк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Хлопаем в ладош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колонка – мужской р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 колонка – женский р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 колонка – средний р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равни столбики слов-названий предме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льчик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кн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вочк а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ол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лак о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блон я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ь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отенц е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сн я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Прямоугольник 1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Прямоугольник 23"/>
          <p:cNvSpPr/>
          <p:nvPr/>
        </p:nvSpPr>
        <p:spPr>
          <a:xfrm>
            <a:off x="2658960" y="3733920"/>
            <a:ext cx="304920" cy="30456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Прямоугольник 24"/>
          <p:cNvSpPr/>
          <p:nvPr/>
        </p:nvSpPr>
        <p:spPr>
          <a:xfrm>
            <a:off x="2614680" y="5029200"/>
            <a:ext cx="304560" cy="30492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Прямоугольник 25"/>
          <p:cNvSpPr/>
          <p:nvPr/>
        </p:nvSpPr>
        <p:spPr>
          <a:xfrm>
            <a:off x="4876920" y="2517840"/>
            <a:ext cx="380880" cy="37764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Прямоугольник 26"/>
          <p:cNvSpPr/>
          <p:nvPr/>
        </p:nvSpPr>
        <p:spPr>
          <a:xfrm>
            <a:off x="5108400" y="3733920"/>
            <a:ext cx="381240" cy="37764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Прямоугольник 27"/>
          <p:cNvSpPr/>
          <p:nvPr/>
        </p:nvSpPr>
        <p:spPr>
          <a:xfrm>
            <a:off x="5410080" y="4983120"/>
            <a:ext cx="381240" cy="37620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Прямоугольник 28"/>
          <p:cNvSpPr/>
          <p:nvPr/>
        </p:nvSpPr>
        <p:spPr>
          <a:xfrm>
            <a:off x="7772400" y="2478240"/>
            <a:ext cx="380880" cy="37764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Прямоугольник 29"/>
          <p:cNvSpPr/>
          <p:nvPr/>
        </p:nvSpPr>
        <p:spPr>
          <a:xfrm>
            <a:off x="7710480" y="3718080"/>
            <a:ext cx="380880" cy="37620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Прямоугольник 30"/>
          <p:cNvSpPr/>
          <p:nvPr/>
        </p:nvSpPr>
        <p:spPr>
          <a:xfrm>
            <a:off x="7569360" y="4956120"/>
            <a:ext cx="380880" cy="378000"/>
          </a:xfrm>
          <a:prstGeom prst="rect">
            <a:avLst/>
          </a:prstGeom>
          <a:noFill/>
          <a:ln w="28440">
            <a:solidFill>
              <a:srgbClr val="2b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ф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тром я пила вкусный коф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Picture 5" descr="6332562"/>
          <p:cNvPicPr/>
          <p:nvPr/>
        </p:nvPicPr>
        <p:blipFill>
          <a:blip r:embed="rId1"/>
          <a:srcRect l="6496" t="11811" r="17717" b="0"/>
          <a:stretch/>
        </p:blipFill>
        <p:spPr>
          <a:xfrm>
            <a:off x="4876920" y="3048120"/>
            <a:ext cx="40291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_34259_3ba0f966_-8-L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учиться определять род слов- названий предметов, выделять оконч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уметь находить слова- названия предметов разного рода в словар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расширить знания о неизменяемых слов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0_1573b_915ba572_L"/>
          <p:cNvPicPr/>
          <p:nvPr/>
        </p:nvPicPr>
        <p:blipFill>
          <a:blip r:embed="rId1"/>
          <a:srcRect l="0" t="5788" r="0" b="0"/>
          <a:stretch/>
        </p:blipFill>
        <p:spPr>
          <a:xfrm>
            <a:off x="0" y="-103320"/>
            <a:ext cx="9144000" cy="72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1825560" y="2349000"/>
            <a:ext cx="1533240" cy="1694520"/>
            <a:chOff x="1825560" y="2349000"/>
            <a:chExt cx="1533240" cy="1694520"/>
          </a:xfrm>
        </p:grpSpPr>
        <p:grpSp>
          <p:nvGrpSpPr>
            <p:cNvPr id="163" name="Group 3"/>
            <p:cNvGrpSpPr/>
            <p:nvPr/>
          </p:nvGrpSpPr>
          <p:grpSpPr>
            <a:xfrm>
              <a:off x="1825560" y="2595240"/>
              <a:ext cx="1533240" cy="1448280"/>
              <a:chOff x="1825560" y="2595240"/>
              <a:chExt cx="1533240" cy="1448280"/>
            </a:xfrm>
          </p:grpSpPr>
          <p:sp>
            <p:nvSpPr>
              <p:cNvPr id="164" name="AutoShape 4"/>
              <p:cNvSpPr/>
              <p:nvPr/>
            </p:nvSpPr>
            <p:spPr>
              <a:xfrm rot="1279800">
                <a:off x="1979280" y="2781000"/>
                <a:ext cx="1225440" cy="1076400"/>
              </a:xfrm>
              <a:custGeom>
                <a:avLst/>
                <a:gdLst>
                  <a:gd name="textAreaLeft" fmla="*/ 285480 w 1225440"/>
                  <a:gd name="textAreaRight" fmla="*/ 939960 w 1225440"/>
                  <a:gd name="textAreaTop" fmla="*/ 112680 h 1076400"/>
                  <a:gd name="textAreaBottom" fmla="*/ 681120 h 10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Oval 5"/>
              <p:cNvSpPr/>
              <p:nvPr/>
            </p:nvSpPr>
            <p:spPr>
              <a:xfrm rot="20629800">
                <a:off x="2133720" y="2851200"/>
                <a:ext cx="287280" cy="1008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Oval 6"/>
              <p:cNvSpPr/>
              <p:nvPr/>
            </p:nvSpPr>
            <p:spPr>
              <a:xfrm rot="3532200">
                <a:off x="2664360" y="3104280"/>
                <a:ext cx="287280" cy="936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7" name="Arc 7"/>
            <p:cNvSpPr/>
            <p:nvPr/>
          </p:nvSpPr>
          <p:spPr>
            <a:xfrm flipV="1">
              <a:off x="2698920" y="2348640"/>
              <a:ext cx="287280" cy="576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825560" y="4436640"/>
            <a:ext cx="1533240" cy="1694160"/>
            <a:chOff x="1825560" y="4436640"/>
            <a:chExt cx="1533240" cy="1694160"/>
          </a:xfrm>
        </p:grpSpPr>
        <p:grpSp>
          <p:nvGrpSpPr>
            <p:cNvPr id="169" name="Group 9"/>
            <p:cNvGrpSpPr/>
            <p:nvPr/>
          </p:nvGrpSpPr>
          <p:grpSpPr>
            <a:xfrm>
              <a:off x="1825560" y="4682520"/>
              <a:ext cx="1533240" cy="1448280"/>
              <a:chOff x="1825560" y="4682520"/>
              <a:chExt cx="1533240" cy="1448280"/>
            </a:xfrm>
          </p:grpSpPr>
          <p:sp>
            <p:nvSpPr>
              <p:cNvPr id="170" name="AutoShape 10"/>
              <p:cNvSpPr/>
              <p:nvPr/>
            </p:nvSpPr>
            <p:spPr>
              <a:xfrm rot="1279800">
                <a:off x="1979280" y="4868280"/>
                <a:ext cx="1225440" cy="1076400"/>
              </a:xfrm>
              <a:custGeom>
                <a:avLst/>
                <a:gdLst>
                  <a:gd name="textAreaLeft" fmla="*/ 285480 w 1225440"/>
                  <a:gd name="textAreaRight" fmla="*/ 939960 w 1225440"/>
                  <a:gd name="textAreaTop" fmla="*/ 112680 h 1076400"/>
                  <a:gd name="textAreaBottom" fmla="*/ 681120 h 10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Oval 11"/>
              <p:cNvSpPr/>
              <p:nvPr/>
            </p:nvSpPr>
            <p:spPr>
              <a:xfrm rot="20629800">
                <a:off x="2133720" y="4938480"/>
                <a:ext cx="287280" cy="10080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Oval 12"/>
              <p:cNvSpPr/>
              <p:nvPr/>
            </p:nvSpPr>
            <p:spPr>
              <a:xfrm rot="3532200">
                <a:off x="2664360" y="5191560"/>
                <a:ext cx="287280" cy="936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3" name="Arc 13"/>
            <p:cNvSpPr/>
            <p:nvPr/>
          </p:nvSpPr>
          <p:spPr>
            <a:xfrm flipV="1">
              <a:off x="2698920" y="4436280"/>
              <a:ext cx="287280" cy="576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Line 9"/>
          <p:cNvSpPr/>
          <p:nvPr/>
        </p:nvSpPr>
        <p:spPr>
          <a:xfrm>
            <a:off x="3708360" y="328464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851280" y="544500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6" name="Group 16"/>
          <p:cNvGrpSpPr/>
          <p:nvPr/>
        </p:nvGrpSpPr>
        <p:grpSpPr>
          <a:xfrm>
            <a:off x="1825560" y="404280"/>
            <a:ext cx="5915160" cy="1694160"/>
            <a:chOff x="1825560" y="404280"/>
            <a:chExt cx="5915160" cy="1694160"/>
          </a:xfrm>
        </p:grpSpPr>
        <p:grpSp>
          <p:nvGrpSpPr>
            <p:cNvPr id="177" name="Group 17"/>
            <p:cNvGrpSpPr/>
            <p:nvPr/>
          </p:nvGrpSpPr>
          <p:grpSpPr>
            <a:xfrm>
              <a:off x="1825560" y="404280"/>
              <a:ext cx="1533240" cy="1694160"/>
              <a:chOff x="1825560" y="404280"/>
              <a:chExt cx="1533240" cy="1694160"/>
            </a:xfrm>
          </p:grpSpPr>
          <p:grpSp>
            <p:nvGrpSpPr>
              <p:cNvPr id="178" name="Group 18"/>
              <p:cNvGrpSpPr/>
              <p:nvPr/>
            </p:nvGrpSpPr>
            <p:grpSpPr>
              <a:xfrm>
                <a:off x="1825560" y="650160"/>
                <a:ext cx="1533240" cy="1448280"/>
                <a:chOff x="1825560" y="650160"/>
                <a:chExt cx="1533240" cy="1448280"/>
              </a:xfrm>
            </p:grpSpPr>
            <p:sp>
              <p:nvSpPr>
                <p:cNvPr id="179" name="AutoShape 19"/>
                <p:cNvSpPr/>
                <p:nvPr/>
              </p:nvSpPr>
              <p:spPr>
                <a:xfrm rot="1279800">
                  <a:off x="1979280" y="835920"/>
                  <a:ext cx="1225440" cy="1076400"/>
                </a:xfrm>
                <a:custGeom>
                  <a:avLst/>
                  <a:gdLst>
                    <a:gd name="textAreaLeft" fmla="*/ 285480 w 1225440"/>
                    <a:gd name="textAreaRight" fmla="*/ 939960 w 1225440"/>
                    <a:gd name="textAreaTop" fmla="*/ 112680 h 1076400"/>
                    <a:gd name="textAreaBottom" fmla="*/ 681120 h 1076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0"/>
                <p:cNvSpPr/>
                <p:nvPr/>
              </p:nvSpPr>
              <p:spPr>
                <a:xfrm rot="20629800">
                  <a:off x="2133720" y="906120"/>
                  <a:ext cx="287280" cy="1008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1" name="Oval 21"/>
                <p:cNvSpPr/>
                <p:nvPr/>
              </p:nvSpPr>
              <p:spPr>
                <a:xfrm rot="3532200">
                  <a:off x="2664360" y="1159200"/>
                  <a:ext cx="287280" cy="936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Arc 22"/>
              <p:cNvSpPr/>
              <p:nvPr/>
            </p:nvSpPr>
            <p:spPr>
              <a:xfrm flipV="1">
                <a:off x="2698920" y="403920"/>
                <a:ext cx="287280" cy="576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3" name="Line 9"/>
            <p:cNvSpPr/>
            <p:nvPr/>
          </p:nvSpPr>
          <p:spPr>
            <a:xfrm>
              <a:off x="3708360" y="1413000"/>
              <a:ext cx="2087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24"/>
            <p:cNvSpPr/>
            <p:nvPr/>
          </p:nvSpPr>
          <p:spPr>
            <a:xfrm>
              <a:off x="6588000" y="907920"/>
              <a:ext cx="1152720" cy="1152720"/>
            </a:xfrm>
            <a:prstGeom prst="smileyFace">
              <a:avLst>
                <a:gd name="adj" fmla="val 928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5" name="Group 25"/>
          <p:cNvGrpSpPr/>
          <p:nvPr/>
        </p:nvGrpSpPr>
        <p:grpSpPr>
          <a:xfrm>
            <a:off x="6588000" y="2781360"/>
            <a:ext cx="1152720" cy="1152360"/>
            <a:chOff x="6588000" y="2781360"/>
            <a:chExt cx="1152720" cy="1152360"/>
          </a:xfrm>
        </p:grpSpPr>
        <p:grpSp>
          <p:nvGrpSpPr>
            <p:cNvPr id="186" name="Group 26"/>
            <p:cNvGrpSpPr/>
            <p:nvPr/>
          </p:nvGrpSpPr>
          <p:grpSpPr>
            <a:xfrm>
              <a:off x="6588000" y="2781360"/>
              <a:ext cx="1152720" cy="1152360"/>
              <a:chOff x="6588000" y="2781360"/>
              <a:chExt cx="1152720" cy="1152360"/>
            </a:xfrm>
          </p:grpSpPr>
          <p:sp>
            <p:nvSpPr>
              <p:cNvPr id="187" name="AutoShape 27"/>
              <p:cNvSpPr/>
              <p:nvPr/>
            </p:nvSpPr>
            <p:spPr>
              <a:xfrm>
                <a:off x="6588000" y="2781360"/>
                <a:ext cx="1152720" cy="1152360"/>
              </a:xfrm>
              <a:prstGeom prst="smileyFace">
                <a:avLst>
                  <a:gd name="adj" fmla="val 9282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Rectangle 28"/>
              <p:cNvSpPr/>
              <p:nvPr/>
            </p:nvSpPr>
            <p:spPr>
              <a:xfrm>
                <a:off x="6804000" y="3500280"/>
                <a:ext cx="720720" cy="2160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9" name="Line 29"/>
            <p:cNvSpPr/>
            <p:nvPr/>
          </p:nvSpPr>
          <p:spPr>
            <a:xfrm>
              <a:off x="6948360" y="3573360"/>
              <a:ext cx="503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0" name="Group 30"/>
          <p:cNvGrpSpPr/>
          <p:nvPr/>
        </p:nvGrpSpPr>
        <p:grpSpPr>
          <a:xfrm>
            <a:off x="6659640" y="4724280"/>
            <a:ext cx="1152360" cy="1152360"/>
            <a:chOff x="6659640" y="4724280"/>
            <a:chExt cx="1152360" cy="1152360"/>
          </a:xfrm>
        </p:grpSpPr>
        <p:grpSp>
          <p:nvGrpSpPr>
            <p:cNvPr id="191" name="Group 31"/>
            <p:cNvGrpSpPr/>
            <p:nvPr/>
          </p:nvGrpSpPr>
          <p:grpSpPr>
            <a:xfrm>
              <a:off x="6659640" y="4724280"/>
              <a:ext cx="1152360" cy="1152360"/>
              <a:chOff x="6659640" y="4724280"/>
              <a:chExt cx="1152360" cy="1152360"/>
            </a:xfrm>
          </p:grpSpPr>
          <p:sp>
            <p:nvSpPr>
              <p:cNvPr id="192" name="AutoShape 32"/>
              <p:cNvSpPr/>
              <p:nvPr/>
            </p:nvSpPr>
            <p:spPr>
              <a:xfrm>
                <a:off x="6659640" y="4724280"/>
                <a:ext cx="1152360" cy="1152360"/>
              </a:xfrm>
              <a:prstGeom prst="smileyFace">
                <a:avLst>
                  <a:gd name="adj" fmla="val 9282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Rectangle 33"/>
              <p:cNvSpPr/>
              <p:nvPr/>
            </p:nvSpPr>
            <p:spPr>
              <a:xfrm>
                <a:off x="6875280" y="5443200"/>
                <a:ext cx="720360" cy="2160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4" name="Arc 34"/>
            <p:cNvSpPr/>
            <p:nvPr/>
          </p:nvSpPr>
          <p:spPr>
            <a:xfrm flipH="1" rot="2496000">
              <a:off x="7018920" y="5373360"/>
              <a:ext cx="360720" cy="36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Домашнее задание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324600" y="3565800"/>
            <a:ext cx="2720160" cy="131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идумать и записать в тетрадь по 5 слов мужского, женского и среднего ро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Спасибо за работу на уроке!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кворечник, арбуз, газета, блюдце, девочка, пальт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читай сл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1230" descr="27"/>
          <p:cNvPicPr/>
          <p:nvPr/>
        </p:nvPicPr>
        <p:blipFill>
          <a:blip r:embed="rId1"/>
          <a:stretch/>
        </p:blipFill>
        <p:spPr>
          <a:xfrm>
            <a:off x="6629400" y="3852720"/>
            <a:ext cx="23572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апишите слова в алфавитном порядке. Подчеркни все трудные написания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кворечник, арбуз, газета, блюдце, девочка, пальт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верьт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рбу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, блю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це, г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ета, дево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чк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, п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ьто, скворе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ч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азета, девочка-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юдце, пальто-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р.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рбуз, скворечник-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рбуз, блюдце, газета, девочка, пальто, скворечни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аль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ша надела ново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льт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 пошёл гулять без пальт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ва пальт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исят на вешал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&amp;Dcy;&amp;iecy;&amp;vcy;&amp;ocy;&amp;chcy;&amp;kcy;&amp;acy;, &amp;shcy;&amp;acy;&amp;pcy;&amp;ocy;&amp;chcy;&amp;kcy;&amp;acy;, &amp;ucy;&amp;lcy;&amp;ycy;&amp;bcy;&amp;kcy;&amp;acy;, &amp;vcy;&amp;zcy;&amp;gcy;&amp;lcy;&amp;yacy;&amp;dcy;, &amp;bcy;&amp;lcy;&amp;ocy;&amp;ncy;&amp;dcy;&amp;icy;&amp;ncy;&amp;kcy;&amp;acy;, &amp;pcy;&amp;acy;&amp;lcy;&amp;softcy;&amp;tcy;&amp;ocy;"/>
          <p:cNvPicPr/>
          <p:nvPr/>
        </p:nvPicPr>
        <p:blipFill>
          <a:blip r:embed="rId1"/>
          <a:stretch/>
        </p:blipFill>
        <p:spPr>
          <a:xfrm>
            <a:off x="5791320" y="4648320"/>
            <a:ext cx="25747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рбуз, блюдце, газета, девочка, пальто, скворечни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07T05:00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