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F45-2473-4BCC-9A2C-C26EAB5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6F9-5D8D-401C-8108-7AD45A9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116-7D2F-4896-BC2F-022DAFE3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335-19FB-4B5E-8FD5-7B49D4D7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80FA-B5D9-431C-9B46-8A195B18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182D-6DBA-4780-BBB0-A3C7640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3E8-753C-4EA7-83F4-7109A2F8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227-1949-40B9-AA71-330F193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8A6-58A0-415E-B2A2-60C705F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AE2-C0CB-4185-9C35-9D246F6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3872-52F2-4CCE-8D04-3C26602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D91-F0C6-4088-AB0B-4AE61A4F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98B-53AD-442E-8A6A-0D91CCE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2C1A-E182-4F18-ACF9-655D7C6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6CA3-48A5-4A67-AFDF-0BD1AD5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1C5-9C79-4DCE-AF3A-DA9150F6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49C-03A6-43C5-8DE0-06206847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039B-8CF1-4662-A7B8-ACFA41BE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F6CF-D078-481D-B92A-2D97667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AC7F-FC17-4BBC-BE64-0DD385E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386A-BFF6-4DBB-912D-6F83B93A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E52D-CBE0-46C9-B225-7EF9EB3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6EF-2DD0-4F20-84E8-F142F7D4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BE05-6F87-45D2-99E9-B947024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ED50-4023-46BC-824F-A072C53D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31B5-C3EA-4F3E-9D6C-06F2C1A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154E-6FF4-4754-A176-36D8AAC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5739-0ACB-46D6-BB51-F385BB9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1E74-ACC8-46F2-9865-58E3B236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E656-BB73-458D-A97A-60FCE4D8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26C6-3D5A-490C-B94B-AE45B308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E050-EE76-4B57-8421-6A45011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16D4-9AA8-47BF-BE47-6602F48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C63-C7C0-4673-90BD-B6A292A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D939-DC09-4BBD-A5ED-79720A1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C8EB-CFF7-46C5-B8B9-FA335B1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2953-0AAE-4252-BF84-D876D60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4C78-E4DA-45AD-9A99-66A806E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001E-3855-4278-B633-71463EA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998D-0C46-41A4-A327-8CFDC5DA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AB14-5AFA-4D29-8550-BA8B2963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A30A-169E-4394-A7D0-B612A5F9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D4C2-1CB7-4D28-817F-505D18F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10ED-0F3A-4810-91F1-EE9E6A4A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C45-A12E-4D89-8EE8-CC70F91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D0DE-5BFA-4EB6-879A-C3948C2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10D8-AA32-4FD1-940D-0AB319C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A722-DA1E-49F9-ADEB-F6AA181B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225A-AC63-415B-ADB4-F996AD7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B001-4F0E-4BD4-86F5-21DA8F6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8F3C-90F8-40B6-8594-1C0E5FF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4FE3-A63B-4F5D-B9C5-9A675D0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E794-EAEC-4B5A-99D4-87203ED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4D364-DAC7-43B6-91D7-5E6CCF4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56B3-815F-4080-84F3-8293EA5F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F0B-2AEB-403B-A3A8-8B09D1D5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06EA-9971-4C93-8883-FA5B2DF4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799D-D028-4E7B-82BE-EF32DFF7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CAC0-AF52-4CC9-AD2D-A85F44DF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D5F7-0FA1-4751-8CFD-683C8640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9F3C-1DDF-41D2-AC35-0EE5424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791C-5E66-4D83-A29F-237EB59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19319-7DAA-479D-8E17-BD1E6AC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6B792-7E90-4B11-9E4B-A7051CB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0CD9-D06F-4393-8B65-66190F6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7D3C-9109-4C1B-9CBE-EF60F68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779-2E7E-493C-9BA8-7670836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4F71-8F36-4F7A-A3A4-857E638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1535D-8BAE-4E5C-B861-C9B6B67A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0CA7-3CEB-4BD7-8FFA-8F40594B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427-781B-4F35-A086-09D86CB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0E4-5F80-4C54-9F3C-A1ADD9B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A2A-D029-4B54-ABEE-9543F07CD5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6F8-3B3C-4350-A361-6C1C23B18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697-80EE-44F7-ACE0-C6C5B7CB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D5A-9286-463A-8D38-91789698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21D9-C7D0-4C31-8EFE-A693591FB6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FB4-7C19-4C66-B121-8EDA79676C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24000" y="2916360"/>
            <a:ext cx="8496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ОК: ЗНАКОМСТВО С ПРОФЕССИ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4000" y="2859120"/>
            <a:ext cx="8496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ОК: ЗНАКОМСТВО С ПРОФЕССИ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2720880" cy="3528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768840" y="2440080"/>
            <a:ext cx="1796760" cy="1787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6486480" y="2409840"/>
            <a:ext cx="1828800" cy="1830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110120" y="4689360"/>
            <a:ext cx="1819080" cy="1633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669000" y="4594320"/>
            <a:ext cx="1635120" cy="1842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684360" y="907920"/>
            <a:ext cx="770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КОМСТВО С ПРОФЕССИ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дицинские противопоказа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ллергические заболевания, отрицательная реакция на химические препар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олевания органов дых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жны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ечно сосудисты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ушения функции опорно-двигательного аппар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козное расширение в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ушение координации движения кистей ру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вно-психически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аженные заболевания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0"/>
          <a:stretch/>
        </p:blipFill>
        <p:spPr>
          <a:xfrm>
            <a:off x="6730920" y="4667400"/>
            <a:ext cx="1817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РИКМАХ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ЕНЬ ИНТЕРЕСНАЯ ПРОФЕССИЯ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571760" y="3170160"/>
            <a:ext cx="6000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273720" y="4149720"/>
            <a:ext cx="2870280" cy="2206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484360" y="4437000"/>
            <a:ext cx="1281240" cy="17892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50920" y="4221000"/>
            <a:ext cx="1654200" cy="2140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4356000" y="4365720"/>
            <a:ext cx="1344600" cy="181440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БОУ НПО ПУ 105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. Ногинск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тер п/о: Сергеева Н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ист, создающий  образы новых причёсок, выполняет образцы сложных причёсок, подбирает причёски, исходя из особенностей ли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6920" y="692280"/>
            <a:ext cx="7417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ИКМАХ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ОСНОВНЫЕ ПРОИЗВОДСТВЕННЫЕ ОПЕРАЦИИ ПАРИКМАХЕРА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яет стрижку и расчесывание волос, в соответствии с направлением моды и особенностями л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ладывает и завивает волосы, делает  перманент (завивку), производит массаж и мытье голов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2556000" y="4437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4643280" y="4437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6659640" y="443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-102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полняет бритье с учетом особенности кожи кли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готавливает красящие и химические раствор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крашивает волосы в различные цвета и оттенки, обесцвечивает и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акладывает на лицо компрес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полняет работы с парик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63720" y="1600200"/>
            <a:ext cx="346536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РИКМАХЕР ДОЛЖЕН ЗНА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ЕНИЕ И СВОЙСТВА КОЖИ И ВОЛО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ИЛА, СПОСОБЫ И ПРИЕМЫ ВЫПОЛНЕНИЯ РАБ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ЦЕПТУРУ КРАСЯЩИХ И ХИМИЧЕСКИХ  СМЕСЕЙ И ВОЗДЕЙСТВИЕ ИХ НА КОЖУ И ВОЛО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ИЛА САНИТАРИИ И ГИГИЕ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РАВЛЕНИЯ ОТЕЧЕСТВЕННОЙ И ЗАРУБЕЖНОЙ М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4788000" y="155736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рикмахер должен уме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022400" y="1927080"/>
            <a:ext cx="3184560" cy="4131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495680" y="5866920"/>
            <a:ext cx="363600" cy="5144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вать точную и исчерпывающую информацию по профессиональным вопросам (направление моды текущего сезона, рекомендации по фасонам прически и т.д.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полнять все виды работ на высоком профессиональном уров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дбирать фасон стрижки с учетом  индивидуальных особенностей клиен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Требования к деловым качествам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2006280"/>
            <a:ext cx="7543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стетический вку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ое вообра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кура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ожела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б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удожественный вкус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ссоустойчив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77080" y="1125360"/>
            <a:ext cx="1817640" cy="17337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881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339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50403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лерантность к многочисленным межличностным контакт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развитая тонкая моторика, тонкая зрительная координация, точность и скорость дви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ое пространственное восприятие величины и формы предме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ая зрительная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364000" y="1197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2:09:13Z</dcterms:created>
  <dc:creator>USER</dc:creator>
  <dc:description/>
  <dc:language>en-US</dc:language>
  <cp:lastModifiedBy>Customer</cp:lastModifiedBy>
  <dcterms:modified xsi:type="dcterms:W3CDTF">2013-10-22T15:13:18Z</dcterms:modified>
  <cp:revision>22</cp:revision>
  <dc:subject/>
  <dc:title>парикмахер</dc:title>
</cp:coreProperties>
</file>