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406B2-B9E3-48D4-ACD0-D56D3D891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22614-C85A-4167-88BE-96C7923C2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B900F-B762-4E8B-91C8-CD85540A1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0C18A-2A3F-4C50-8139-222767A1A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0E26E-F823-4AC9-B7EB-52683ED67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92850-4D1B-41E7-8B85-38C1E3DD1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8C670-89AA-4E42-834C-74320AD69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73C0B-0C4F-4AEE-B05D-226B74409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33F0C-4A1A-41AB-845C-71B67D8C9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F6897-9BD3-407D-8E2A-AFD227743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0E450-7BE6-4C79-ADE7-C0FEDE090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A3541-3324-4B6E-9884-76F87C353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01F45-8404-4EE4-ABC5-A3974060DD9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2AD0B-8778-40C8-8C7A-9659F7DB95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Arial"/>
              </a:rPr>
              <a:t>Литературное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Arial"/>
              </a:rPr>
              <a:t>чтение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Дата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1AC15-1E8B-48C6-8F18-4093627E239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D0B0A-2AD8-427C-80BE-D6549F3476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«Мы в ответе за тех,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кого приручили»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А. Сент-Экзюпери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324000" y="4365720"/>
            <a:ext cx="820872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Усатый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Беззащитный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Маленький   Пушистый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Валентина Александровна Осеев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395280" y="1628640"/>
            <a:ext cx="1500120" cy="24498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2195640" y="2492280"/>
            <a:ext cx="1581120" cy="24494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4284720" y="1700280"/>
            <a:ext cx="1590480" cy="24494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5"/>
          <a:stretch/>
        </p:blipFill>
        <p:spPr>
          <a:xfrm>
            <a:off x="6732720" y="2781360"/>
            <a:ext cx="2058840" cy="2449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ff"/>
                </a:solidFill>
                <a:latin typeface="Arial"/>
              </a:rPr>
              <a:t>В.А.Осеева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4360" y="1699920"/>
            <a:ext cx="74880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Для В.Осеевой сама жизнь была волшебством. Она много писала для малышей- стихи, рассказы, сказки. Увлекательные истории цикла рассказов«Волшебное слово» очень нравились детям. Работала В.Осеева воспитательницей в детских учреждениях и считала это своим призванием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Текст 2" descr=""/>
          <p:cNvPicPr/>
          <p:nvPr/>
        </p:nvPicPr>
        <p:blipFill>
          <a:blip r:embed="rId2"/>
          <a:stretch/>
        </p:blipFill>
        <p:spPr>
          <a:xfrm>
            <a:off x="1914480" y="612720"/>
            <a:ext cx="6473880" cy="551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Нет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потому что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8360" y="3141360"/>
            <a:ext cx="6562800" cy="10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Да, потому что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5867280" y="2852640"/>
            <a:ext cx="2990880" cy="33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899640" y="1628640"/>
            <a:ext cx="7488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Вот это и плохо!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Собака яростно лаяла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Как вам не стыдно!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Мальчики стояли и ждали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/>
          <p:nvPr/>
        </p:nvSpPr>
        <p:spPr>
          <a:xfrm>
            <a:off x="324000" y="1344960"/>
            <a:ext cx="41767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обака яростно лаял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альчики стояли и ждал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ак вам не стыдно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от это и плохо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Текст 2" descr=""/>
          <p:cNvPicPr/>
          <p:nvPr/>
        </p:nvPicPr>
        <p:blipFill>
          <a:blip r:embed="rId2"/>
          <a:stretch/>
        </p:blipFill>
        <p:spPr>
          <a:xfrm>
            <a:off x="4572000" y="1700280"/>
            <a:ext cx="4038480" cy="34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7T17:34:00Z</dcterms:created>
  <dc:creator>Admin</dc:creator>
  <dc:description>http://aida.ucoz.ru</dc:description>
  <dc:language>en-US</dc:language>
  <cp:lastModifiedBy>Мария</cp:lastModifiedBy>
  <dcterms:modified xsi:type="dcterms:W3CDTF">2012-05-15T14:27:41Z</dcterms:modified>
  <cp:revision>6</cp:revision>
  <dc:subject/>
  <dc:title>Валентина Александровна Осеева</dc:title>
</cp:coreProperties>
</file>