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42DF-0B71-4743-ACB2-C4586B43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30ED-E218-4789-9C9A-6F180565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CF0D-63E1-4B82-84FB-8ADD641A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2E54-FFEB-4EC5-B25B-10219D7B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8C2-7A21-4C87-935C-FF944DA2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95C8-7FE4-436C-8ABE-745444D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6944-BA33-43FB-89BE-CDD00005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3E9F-EB1A-4460-8D03-E0831C3F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C3D1-D099-4D26-9CB9-56A2CF8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2D5E-A5C5-42A1-9D9B-8981F33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35C8-B888-4717-9810-419C2AE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163D-F2BC-4522-AD86-157A20D5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ABF-2CE9-4FAA-B33C-D245FB1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CED5-2439-4B74-8659-D0CEE3F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EEA3-0507-457E-89B8-7B1495CD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7A3C-31AD-485E-9D66-1B3E5ECB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65D5-104E-4894-BE90-7FF5143D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0CAC-3136-4EBE-A11B-8275517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04B2-5C83-4B66-A688-381ACCA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BF76-4EC7-4E4C-B9FB-D4B5FFF5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7D26-CEE4-48EE-9CAC-0087B80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4205-BC85-45F7-B368-B59855B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7CED-0785-483F-9944-C508A64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C396-BD51-4688-96DE-630EE94F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303E-FF80-4C63-AE00-1DDEA76743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C534-17C4-44A9-AEF2-C57B3A5B5B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Vysotsky Vladimir Semenovich</a:t>
            </a: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a famous man of my country.</a:t>
            </a: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8360" y="5157720"/>
            <a:ext cx="84247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иворотов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УКрасноармейская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иколай                        2008 – 2009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8000" y="765000"/>
            <a:ext cx="53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PROJ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76108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xit" presetID="8" presetSubtype="16">
                                  <p:stCondLst>
                                    <p:cond delay="1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 was born  on the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f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nuary, 1938  in Mosc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33360"/>
            <a:ext cx="936720" cy="1655640"/>
          </a:xfrm>
          <a:prstGeom prst="downArrow">
            <a:avLst>
              <a:gd name="adj1" fmla="val 50000"/>
              <a:gd name="adj2" fmla="val 441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1404000" y="5372640"/>
            <a:ext cx="1366920" cy="936720"/>
          </a:xfrm>
          <a:custGeom>
            <a:avLst/>
            <a:gdLst>
              <a:gd name="textAreaLeft" fmla="*/ 170640 w 1366920"/>
              <a:gd name="textAreaRight" fmla="*/ 1196280 w 136692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752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10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6327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rominent soviet poet, composer and performer, an actor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Vy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s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k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s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known a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autho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f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song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333360"/>
            <a:ext cx="936720" cy="1800360"/>
          </a:xfrm>
          <a:prstGeom prst="downArrow">
            <a:avLst>
              <a:gd name="adj1" fmla="val 50000"/>
              <a:gd name="adj2" fmla="val 480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5589720"/>
            <a:ext cx="863640" cy="976320"/>
          </a:xfrm>
          <a:prstGeom prst="downArrow">
            <a:avLst>
              <a:gd name="adj1" fmla="val 50000"/>
              <a:gd name="adj2" fmla="val 2826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Vys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y  w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700 songs and ver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 play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 roles in fil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H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played 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gank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theat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detoured with concer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h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whole count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0731200">
            <a:off x="1434960" y="78840"/>
            <a:ext cx="486000" cy="1622520"/>
          </a:xfrm>
          <a:prstGeom prst="downArrow">
            <a:avLst>
              <a:gd name="adj1" fmla="val 50000"/>
              <a:gd name="adj2" fmla="val 8346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65800">
            <a:off x="1614600" y="6012000"/>
            <a:ext cx="485640" cy="823680"/>
          </a:xfrm>
          <a:prstGeom prst="downArrow">
            <a:avLst>
              <a:gd name="adj1" fmla="val 50000"/>
              <a:gd name="adj2" fmla="val 4240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490920" cy="4565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e sang about l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es of the people and about Grea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oti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Wa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f he was there. Songs about war made him especially pop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rot="19367400">
            <a:off x="2523600" y="188640"/>
            <a:ext cx="486000" cy="1520640"/>
          </a:xfrm>
          <a:prstGeom prst="downArrow">
            <a:avLst>
              <a:gd name="adj1" fmla="val 50000"/>
              <a:gd name="adj2" fmla="val 78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338600">
            <a:off x="2408040" y="4051440"/>
            <a:ext cx="485640" cy="2690640"/>
          </a:xfrm>
          <a:prstGeom prst="downArrow">
            <a:avLst>
              <a:gd name="adj1" fmla="val 50000"/>
              <a:gd name="adj2" fmla="val 138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673440" cy="3817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Vladimir Vys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ky has play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the most significant ro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Gleb Zheglo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ictur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"Meeting place  is im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chang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 rot="20162400">
            <a:off x="2411280" y="0"/>
            <a:ext cx="486000" cy="1655640"/>
          </a:xfrm>
          <a:prstGeom prst="downArrow">
            <a:avLst>
              <a:gd name="adj1" fmla="val 50000"/>
              <a:gd name="adj2" fmla="val 85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5084640"/>
            <a:ext cx="486000" cy="1773360"/>
          </a:xfrm>
          <a:prstGeom prst="downArrow">
            <a:avLst>
              <a:gd name="adj1" fmla="val 50000"/>
              <a:gd name="adj2" fmla="val 91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3673800" cy="367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189000"/>
            <a:ext cx="1584360" cy="1407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2920" y="1916280"/>
            <a:ext cx="363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is is a memorial bo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house 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stre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Smal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eorgi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Vladimir Vys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032360" cy="3627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260280"/>
            <a:ext cx="914400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Е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05:55Z</dcterms:created>
  <dc:creator>саша</dc:creator>
  <dc:description/>
  <dc:language>en-US</dc:language>
  <cp:lastModifiedBy>7</cp:lastModifiedBy>
  <dcterms:modified xsi:type="dcterms:W3CDTF">2009-02-13T10:01:43Z</dcterms:modified>
  <cp:revision>8</cp:revision>
  <dc:subject/>
  <dc:title> Vysotcky Vladimir Semenovich. </dc:title>
</cp:coreProperties>
</file>