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6E74-1FDA-4720-83F7-8217F940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DD42-8C60-4C7D-897C-C1386D5A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B628-BB94-43AF-9E7D-C645A1F5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2F5F-0068-485B-8EFE-0C185BE8A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F850-D7EA-4B53-8E85-F057B0C9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4AB2-09C0-45BE-84A0-FC4422BB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811A-8A07-4452-9EC6-0DCEBC44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F3F2-90ED-42D5-BEA0-CC6DA775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5E73-E55F-4DEF-A101-AD2C02A2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31CA-7187-4B04-B6D1-107B873B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C952-C70C-41CB-83D5-38C1667A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50F9-6B39-4800-9F37-1C725573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8FE3-19B5-4C0C-A9C5-43DFD3DA0D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\Рабочий стол\угадай\Зелёный.gif"/>
          <p:cNvPicPr/>
          <p:nvPr/>
        </p:nvPicPr>
        <p:blipFill>
          <a:blip r:embed="rId3"/>
          <a:stretch/>
        </p:blipFill>
        <p:spPr>
          <a:xfrm>
            <a:off x="7500960" y="6507000"/>
            <a:ext cx="1643040" cy="351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езентация </a:t>
            </a:r>
            <a:br>
              <a:rPr sz="2400"/>
            </a:b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одительского собрания на тему: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даптация детей младшего дошкольного возраста» 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зработала воспитатель ясельной группы 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рьина-Старкова Седа Георгиевн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Прямоугольник 4"/>
          <p:cNvSpPr/>
          <p:nvPr/>
        </p:nvSpPr>
        <p:spPr>
          <a:xfrm>
            <a:off x="324000" y="0"/>
            <a:ext cx="8497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Г Муниципальное дошкольное образовательное учреждение</a:t>
            </a:r>
            <a:br>
              <a:rPr sz="1600"/>
            </a:b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Детский сад общеразвивающего вида №4</a:t>
            </a:r>
            <a:br>
              <a:rPr sz="1600"/>
            </a:b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Золотой петушо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I:\seda\Моя работа\работа 1 мл.гр\фото 2013\ФОТО\20121018_091815.jpg"/>
          <p:cNvPicPr/>
          <p:nvPr/>
        </p:nvPicPr>
        <p:blipFill>
          <a:blip r:embed="rId1"/>
          <a:stretch/>
        </p:blipFill>
        <p:spPr>
          <a:xfrm>
            <a:off x="1994040" y="2146320"/>
            <a:ext cx="524196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214800" y="3284280"/>
            <a:ext cx="4781520" cy="25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Для того чтобы облегчить  адаптацию ребенка к детскому саду необходимо соблюдать некоторые правил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571400" y="213840"/>
            <a:ext cx="6072120" cy="9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ия успешно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даптаци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Прямоугольник 2"/>
          <p:cNvSpPr/>
          <p:nvPr/>
        </p:nvSpPr>
        <p:spPr>
          <a:xfrm>
            <a:off x="611280" y="1557360"/>
            <a:ext cx="74898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3"/>
          <p:cNvSpPr/>
          <p:nvPr/>
        </p:nvSpPr>
        <p:spPr>
          <a:xfrm>
            <a:off x="250920" y="1052640"/>
            <a:ext cx="871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Заголовок 1"/>
          <p:cNvSpPr/>
          <p:nvPr/>
        </p:nvSpPr>
        <p:spPr>
          <a:xfrm>
            <a:off x="395280" y="260280"/>
            <a:ext cx="822960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5"/>
          <p:cNvSpPr/>
          <p:nvPr/>
        </p:nvSpPr>
        <p:spPr>
          <a:xfrm>
            <a:off x="2286000" y="69228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6"/>
          <p:cNvSpPr/>
          <p:nvPr/>
        </p:nvSpPr>
        <p:spPr>
          <a:xfrm>
            <a:off x="539640" y="612720"/>
            <a:ext cx="7920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сскажите ребенку о детском садике заранее, поиграйте с ним в детский сад, скажите, что детский сад − привилегия детей, и что взрослых туда не пускаю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 оставляйте ребенка в саду на целый день сразу, приучайте его постепен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здайте комфортный, бесконфликтный климат для него в семь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удьте спокойны, не показывайте ребенку свое беспокойство по поводу детского са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здайте в выходные дни дома такой же режим, как и детском сад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 реагируйте на выходки ребенка и не наказывайте его за капри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Прямоугольник 2"/>
          <p:cNvSpPr/>
          <p:nvPr/>
        </p:nvSpPr>
        <p:spPr>
          <a:xfrm>
            <a:off x="611280" y="1557360"/>
            <a:ext cx="74898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3"/>
          <p:cNvSpPr/>
          <p:nvPr/>
        </p:nvSpPr>
        <p:spPr>
          <a:xfrm>
            <a:off x="250920" y="1052640"/>
            <a:ext cx="871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4"/>
          <p:cNvSpPr/>
          <p:nvPr/>
        </p:nvSpPr>
        <p:spPr>
          <a:xfrm>
            <a:off x="395280" y="404640"/>
            <a:ext cx="8497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Если ребенок плачет при расставании с мамой, проанализируйте, так ли тяжело расставаться ему с папой или другими членами семьи. Если с кем-то из них ребенок чувствует себя утром комфортнее, то пусть, пока он не адаптируется, в сад его приводят бабушка, дедушка, старшая сестра или брат. Спросите воспитателя, как долго еще после Вашего ухода ребенок плачет. Если сразу после того, как он оказывается в группе, малыш перестает плакать, то спокойно отправляйтесь на работу или учебу, наверняка Ваш ребенок чувствует себя отли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59280" y="3284640"/>
            <a:ext cx="518472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Важные мелочи</a:t>
            </a:r>
            <a:br>
              <a:rPr sz="7200"/>
            </a:br>
            <a:br>
              <a:rPr sz="3200"/>
            </a:br>
            <a:br>
              <a:rPr sz="3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692360" y="213840"/>
            <a:ext cx="6983280" cy="9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даптация детей младшего дошкольного возраст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Важные мелочи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Прямоугольник 2"/>
          <p:cNvSpPr/>
          <p:nvPr/>
        </p:nvSpPr>
        <p:spPr>
          <a:xfrm>
            <a:off x="4788000" y="1557360"/>
            <a:ext cx="331308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3"/>
          <p:cNvSpPr/>
          <p:nvPr/>
        </p:nvSpPr>
        <p:spPr>
          <a:xfrm>
            <a:off x="250920" y="1052640"/>
            <a:ext cx="871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4"/>
          <p:cNvSpPr/>
          <p:nvPr/>
        </p:nvSpPr>
        <p:spPr>
          <a:xfrm>
            <a:off x="539640" y="260280"/>
            <a:ext cx="802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 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Рисунок 5" descr="blocks-3.jpg"/>
          <p:cNvPicPr/>
          <p:nvPr/>
        </p:nvPicPr>
        <p:blipFill>
          <a:blip r:embed="rId1"/>
          <a:stretch/>
        </p:blipFill>
        <p:spPr>
          <a:xfrm>
            <a:off x="468360" y="1484280"/>
            <a:ext cx="4008240" cy="4105440"/>
          </a:xfrm>
          <a:prstGeom prst="rect">
            <a:avLst/>
          </a:prstGeom>
          <a:ln w="0">
            <a:noFill/>
          </a:ln>
        </p:spPr>
      </p:pic>
      <p:sp>
        <p:nvSpPr>
          <p:cNvPr id="348" name="Прямоугольник 6"/>
          <p:cNvSpPr/>
          <p:nvPr/>
        </p:nvSpPr>
        <p:spPr>
          <a:xfrm>
            <a:off x="5076720" y="1413000"/>
            <a:ext cx="3382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 дороге в детский сад можно подробно рассказать, какое приятное событие или игрушка  ожидает ребенка в групп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чем говорить нужно даже если ребенок не умеет разговаривать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Важные мелочи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Прямоугольник 2"/>
          <p:cNvSpPr/>
          <p:nvPr/>
        </p:nvSpPr>
        <p:spPr>
          <a:xfrm>
            <a:off x="611280" y="1557360"/>
            <a:ext cx="74898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3"/>
          <p:cNvSpPr/>
          <p:nvPr/>
        </p:nvSpPr>
        <p:spPr>
          <a:xfrm>
            <a:off x="250920" y="1052640"/>
            <a:ext cx="871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4"/>
          <p:cNvSpPr/>
          <p:nvPr/>
        </p:nvSpPr>
        <p:spPr>
          <a:xfrm>
            <a:off x="611280" y="2565360"/>
            <a:ext cx="802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5"/>
          <p:cNvSpPr/>
          <p:nvPr/>
        </p:nvSpPr>
        <p:spPr>
          <a:xfrm>
            <a:off x="4211640" y="1052640"/>
            <a:ext cx="4105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Segoe UI Symbol"/>
              </a:rPr>
              <a:t>Если же ребенок плачет весь день, то можно взять с собой в группу какой-то привлекательный для него предмет, или предмет, который будет напоминать ему о ма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I:\seda\Моя работа\работа 1 мл.гр\фото 2013\ФОТО\20120921_102831.jpg"/>
          <p:cNvPicPr/>
          <p:nvPr/>
        </p:nvPicPr>
        <p:blipFill>
          <a:blip r:embed="rId1"/>
          <a:stretch/>
        </p:blipFill>
        <p:spPr>
          <a:xfrm>
            <a:off x="250920" y="1268280"/>
            <a:ext cx="388944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Важные мелочи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Прямоугольник 2"/>
          <p:cNvSpPr/>
          <p:nvPr/>
        </p:nvSpPr>
        <p:spPr>
          <a:xfrm>
            <a:off x="611280" y="1557360"/>
            <a:ext cx="74898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3"/>
          <p:cNvSpPr/>
          <p:nvPr/>
        </p:nvSpPr>
        <p:spPr>
          <a:xfrm>
            <a:off x="250920" y="1052640"/>
            <a:ext cx="871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4"/>
          <p:cNvSpPr/>
          <p:nvPr/>
        </p:nvSpPr>
        <p:spPr>
          <a:xfrm>
            <a:off x="611280" y="2565360"/>
            <a:ext cx="802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5"/>
          <p:cNvSpPr/>
          <p:nvPr/>
        </p:nvSpPr>
        <p:spPr>
          <a:xfrm>
            <a:off x="4427640" y="1125360"/>
            <a:ext cx="4105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 после детского сада дайте ребенку возможность попрыгать, поиграть в подвижные игры. Доброжелательная обстановка в доме  поможет ему быстрее адаптироваться к детскому саду и не переживать во время прощания с 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Segoe UI Symbo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I:\seda\Моя работа\работа 1 мл.гр\фото 2013\ФОТО\SAM_2168.JPG"/>
          <p:cNvPicPr/>
          <p:nvPr/>
        </p:nvPicPr>
        <p:blipFill>
          <a:blip r:embed="rId1"/>
          <a:stretch/>
        </p:blipFill>
        <p:spPr>
          <a:xfrm>
            <a:off x="468360" y="1197000"/>
            <a:ext cx="403236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214800" y="3284280"/>
            <a:ext cx="4781520" cy="25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АСИБО ЗА ВНИМАНИЕ!</a:t>
            </a:r>
            <a:br>
              <a:rPr sz="32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571400" y="213840"/>
            <a:ext cx="6072120" cy="9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даптация детей младшего дошкольного возраста»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214800" y="3135240"/>
            <a:ext cx="4781520" cy="295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даптация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– от латинского «приспособлять» - в широком смысле приспособление к окружающим услови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618920" y="0"/>
            <a:ext cx="607212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ТО ТАКО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ДАПТАЦ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акторы, от которых зависит течение адаптационного пери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Прямоугольник 2"/>
          <p:cNvSpPr/>
          <p:nvPr/>
        </p:nvSpPr>
        <p:spPr>
          <a:xfrm>
            <a:off x="684360" y="1413000"/>
            <a:ext cx="7488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 Возраст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 Состояние здоровья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 Уровень развития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. Умение общаться со взрослыми и сверстниками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. Сформированность предметной и игровой деятельности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. Приближённость домашнего режима к режиму детского сада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59280" y="2924280"/>
            <a:ext cx="547344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трая фаза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− сопровождается разнообразными колебаниями в состоянии ребенка, что приводит к снижению веса, более частым респираторным заболеваниям, нарушению сна, снижению аппетита, большей, чем обычно капризности, плаксивости; фаза длится в среднем один месяц.</a:t>
            </a:r>
            <a:br>
              <a:rPr sz="20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618920" y="-360"/>
            <a:ext cx="607212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33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Фазы процесса адаптации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214800" y="2924280"/>
            <a:ext cx="478152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острая фаза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− поведение ребенка характеризуется как нормальное, то есть все сдвиги уменьшаются и наблюдаются лишь по отдельным параметрам, на фоне замедленного темпа развития, особенно психического, по сравнению со средними возрастными нормами; фаза длится 3-5 месяце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618920" y="-360"/>
            <a:ext cx="607212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33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Фазы процесса адаптации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214800" y="2924280"/>
            <a:ext cx="478152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аза компенсации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− характеризуется ускорением темпа развития, и дети к концу учебного года преодолевают указанную выше задержку в развит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618920" y="-360"/>
            <a:ext cx="607212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33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Фазы процесса адаптации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рямоугольник 3"/>
          <p:cNvSpPr/>
          <p:nvPr/>
        </p:nvSpPr>
        <p:spPr>
          <a:xfrm>
            <a:off x="250920" y="18900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 степени тяжести острой фазы адаптация делится н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4"/>
          <p:cNvSpPr/>
          <p:nvPr/>
        </p:nvSpPr>
        <p:spPr>
          <a:xfrm>
            <a:off x="250920" y="1268280"/>
            <a:ext cx="8713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егкая адаптация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− поведение входит в норму в течение 10-15 дней; ребенок нормально прибавляет в весе, хорошо ведет себя в коллективе, не болеет в течение первого месяца посещения са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даптация средней тяжести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− сдвиги нормализуются в течение месяца, ребенок на короткое время теряет в весе; может наступить однократное заболевание длительностью 5-7 дней, есть признаки психического стрес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яжелая адаптация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длится от 2 до 6 месяцев; ребенок часто болеет, теряет уже полученные навыки; может наступить как физическое, так и психическое истощение 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чины тяжёлой адаптации к условиям ДОУ</a:t>
            </a: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Прямоугольник 2"/>
          <p:cNvSpPr/>
          <p:nvPr/>
        </p:nvSpPr>
        <p:spPr>
          <a:xfrm>
            <a:off x="611280" y="1557360"/>
            <a:ext cx="7489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 Отсутствие в семье режима, совпадающего с режимом детского сада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 Наличие у ребёнка своеобразных привычек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 Неумение занять себя игрушкой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. Не сформированность элементарных культурно-гигиенических навыков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. Отсутствие опыта общения с незнакомыми люд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214800" y="3284280"/>
            <a:ext cx="4781520" cy="25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2771280" y="5300640"/>
            <a:ext cx="619308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ия успешн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даптаци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2" descr="I:\seda\Моя работа\работа 1 мл.гр\фото 2013\ФОТО\20130205_110329.jpg"/>
          <p:cNvPicPr/>
          <p:nvPr/>
        </p:nvPicPr>
        <p:blipFill>
          <a:blip r:embed="rId1"/>
          <a:stretch/>
        </p:blipFill>
        <p:spPr>
          <a:xfrm>
            <a:off x="3995640" y="260280"/>
            <a:ext cx="4934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04:08:07Z</dcterms:created>
  <dc:creator>Федотова Виктория Александровна</dc:creator>
  <dc:description/>
  <dc:language>en-US</dc:language>
  <cp:lastModifiedBy>admin</cp:lastModifiedBy>
  <dcterms:modified xsi:type="dcterms:W3CDTF">2013-10-06T04:57:33Z</dcterms:modified>
  <cp:revision>48</cp:revision>
  <dc:subject/>
  <dc:title>Слайд 1</dc:title>
</cp:coreProperties>
</file>