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AB6F-1354-4B6C-B697-08F1D2048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AAFA-54CA-4312-A8D1-E062B6813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B9F7-034C-48F6-8188-8027D04D3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4BF5-C668-4269-8A11-8BC467CB6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19CB1-7720-4449-A499-908A99872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06976-9051-43B4-988D-520565593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EE42E-0AE3-42CE-8125-4B851E927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C4D2E-2E0B-4B15-970F-C279DCDBA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E118E-83B3-41D0-B226-DBB7FD622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145E8-1925-4023-992A-BFBB11DBB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8CDA1-F8D8-4F60-955B-81F227D9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220B-CA09-4FD9-862E-598733884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A5948-1D21-40CC-BB13-E02CE028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3CDAD-24E5-4109-A1FC-F29C0A9D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0CD28-DFF2-4F3A-AA10-26F24761F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6AB1E-4B57-427D-8F4D-DB03AA196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71A87-A355-4480-BC7A-F24E79C2D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75AC-BCE6-4AAC-8FE0-C36C36826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B428-0B53-4C6B-9B83-F4C279235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DD24-5AF2-43FA-9FCD-F86721453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E7A7-1FB1-4818-A38E-3FA513B61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18E7-E8AD-432C-A68F-A734D213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FC0B-1BF2-4DCA-8D8D-0B7B64E9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B08E-616F-425A-BF65-428E3AD0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03D3F-664C-4372-947C-DA56679C57C2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5E02E-BBF3-4AD0-869E-78A90EB8BD4F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033560" y="1039680"/>
            <a:ext cx="7076880" cy="168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Что такое вредные привычки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 каковы причины их возникновения и последствия?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826560" y="3860640"/>
            <a:ext cx="7193160" cy="261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Arial"/>
              </a:rPr>
              <a:t>Подготовила ученица 8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Arial"/>
              </a:rPr>
              <a:t>Фирстова Татья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Arial"/>
              </a:rPr>
              <a:t>МОУ сош с. Ела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Arial"/>
              </a:rPr>
              <a:t>Балаковского рай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Arial"/>
              </a:rPr>
              <a:t>Саратов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Более опасные – наркотики!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страстие к ним развивается особенно быстр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дут к деградации личности и полному истощению организма, вследствие нарушения деятельности нервных цент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овек постоянно думает о наркотике и вызываемом им эффек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отсутствии наркотического вещества человек не только ощущает, что ему чего – то не хватает, но и начинает испытывать трудно переносимое состояние, называемое абстинентным синдромом: недомогание, боли в различных частях тела, головная боль, озноб, дрожание конеч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Мы спросили одноклассников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82720" y="2408400"/>
            <a:ext cx="2827440" cy="36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опросили 20 человек с 8 по 11 класс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отребляете ли вы наркотик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отребляете ли вы алкогол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ли у вас пристрастие к курению таба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Object 6"/>
          <p:cNvGraphicFramePr/>
          <p:nvPr/>
        </p:nvGraphicFramePr>
        <p:xfrm>
          <a:off x="3876840" y="2444760"/>
          <a:ext cx="4584600" cy="35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76840" y="2444760"/>
                    <a:ext cx="4584600" cy="35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Выводы: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считаю, что вредные привычки, болезненные, пагубные пристрастия являются губительными для здоровья человека и не дают ему в течение его жизни успешно реализовывать себя как личность, сокращают продолжительность жизни, могут стать причиной трагед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Ресурсы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ология человека. Культура здоров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.З. Федорова, В.С. Кучменко.2003 г. Учебное пособие для учащихся 8 клас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доровье человека и окружающая среда. Учебное пособие. 1997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"/>
              </a:rPr>
              <a:t>Цель исследования</a:t>
            </a:r>
            <a:endParaRPr b="1" lang="en-US" sz="28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хочу узнать, что такое вредные привычки и причины их возникновения, послед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Моя гипотеза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думаю, что вредные привычки влияют на здоровье человека и не дают человеку в течение его жизни успешно реализовывать себя как лич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План исследования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бор материала из различных источ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кетирование других учащих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ализ информ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готовка презент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Я узнал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редные привычками называют привычки, которые мешают или не дают возможности человеку в течение его жизни успешно реализовать себя как лич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обую группу представляют собой вредные привычки, относимые к пагубным или болезненным пристрастиям: курение, употребление алкоголя и наркот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и привычки часто ведут к потере здоровья, сокращению продолжительности жизни и гибели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Характерные черты пагубных пристрастий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ушительны для здоров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и подчиняют себе все действия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и обладают наркотическим эффек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висимость от наркотических веществ постоянно возраст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В чем проявляется наркотический эффект?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ркотический эффект проявляется в одурманивании, опьянении, эйфор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йфория – это субъективно приятное состояние, заключающееся в ощущении возбуждения, бодрости, прилива сил, улучшении настроения, в ощущении своей значимости, порой, неограниченности возможнос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Курить – здоровью вредить!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страстие к курению табака развивается быстр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ред курения сводится главным образом к нарушению здоровья курящего и тех, кто его окруж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рение наносит вред многим органам и системам, но в первую очередь – сердечно – сосудистой и дыхатель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аркт миокарда у курящих возникает в 12 – 13 раз чаще, чем у некурящ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оме никотина в табачном дыме содержится еще около 30 вредных веще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о из наиболее опасных – бензпирен, вызывающий злокачественное перерождение тканей, появление опухо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Употребление алкоголя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редная привычка, которая может постепенно привести к хроническому заболеванию, называемому алкоголизм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тличие от курения вызывает деградацию ли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атическое употребление алкоголя губительно действует на печень, вызывая сморщивание и деформации печени – цирро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обенно чувствительны к алкоголю половые кле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коголь оказывает неблагоприятное влияние на СС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ая причина сокращения продолжительности жизни современных людей алкоголь стоит на третьем месте после СС заболеваний и злокачественных опухо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7T06:41:28Z</dcterms:created>
  <dc:creator>Студент</dc:creator>
  <dc:description/>
  <dc:language>en-US</dc:language>
  <cp:lastModifiedBy>123</cp:lastModifiedBy>
  <dcterms:modified xsi:type="dcterms:W3CDTF">2008-01-24T08:29:08Z</dcterms:modified>
  <cp:revision>18</cp:revision>
  <dc:subject/>
  <dc:title>Формы организации активного отдыха средствами физической культуры</dc:title>
</cp:coreProperties>
</file>