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7E86-589A-4284-833E-74EAEAD36E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0663-09AA-41D9-BEF6-6A71AD4C20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AB1F-99F5-45CC-A191-AAD358D8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7795-A9AA-4FCE-9693-BB2810E0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5906-B9CA-4C7C-9C5C-098E63F3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7842-90A5-4BCA-B57B-D644FA08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618-FC10-403B-B6CA-BC698023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1257-F92B-4A3D-AECC-A0A4267A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3631-5F03-47CE-97E6-8CFE1507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84AD-89A7-48C0-B7DF-A0C0E03C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D541-1E08-41B1-B551-DE02621E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BF58-DAA9-4433-9999-3449A96D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D4FC-9568-4E0E-841D-7A258113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80B1-E4D2-47C5-ABA2-B9394DD5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3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52BE-6CCD-480D-A77A-D5C09E0754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univer.omsk.su/omsk/Edu/Math/mmebius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kvant.mccme.ru/1979/01/lenta_myobiusa.htm" TargetMode="External"/><Relationship Id="rId2" Type="http://schemas.openxmlformats.org/officeDocument/2006/relationships/hyperlink" Target="http://le-savchen.ucoz.ru/publ/1-1-0-31" TargetMode="External"/><Relationship Id="rId3" Type="http://schemas.openxmlformats.org/officeDocument/2006/relationships/hyperlink" Target="http://bornovec.ru/fizika/index.ht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901800" y="260280"/>
            <a:ext cx="73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ЛИСТ МЁБИУС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vselennaya_kak_dodekaedr_0.jpg"/>
          <p:cNvPicPr/>
          <p:nvPr/>
        </p:nvPicPr>
        <p:blipFill>
          <a:blip r:embed="rId1"/>
          <a:srcRect l="0" t="0" r="0" b="8126"/>
          <a:stretch/>
        </p:blipFill>
        <p:spPr>
          <a:xfrm>
            <a:off x="2050920" y="1773360"/>
            <a:ext cx="6121440" cy="470844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6"/>
          <p:cNvSpPr/>
          <p:nvPr/>
        </p:nvSpPr>
        <p:spPr>
          <a:xfrm>
            <a:off x="-252360" y="620640"/>
            <a:ext cx="5832360" cy="53276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ca4a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4427640" y="333360"/>
            <a:ext cx="3384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1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50036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димся вопросом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олько сторон у листа Мёбиуса?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Фото-0050"/>
          <p:cNvPicPr/>
          <p:nvPr/>
        </p:nvPicPr>
        <p:blipFill>
          <a:blip r:embed="rId3"/>
          <a:stretch/>
        </p:blipFill>
        <p:spPr>
          <a:xfrm>
            <a:off x="5003640" y="2060640"/>
            <a:ext cx="3213360" cy="4282920"/>
          </a:xfrm>
          <a:prstGeom prst="rect">
            <a:avLst/>
          </a:prstGeom>
          <a:ln w="0">
            <a:noFill/>
          </a:ln>
        </p:spPr>
      </p:pic>
      <p:sp>
        <p:nvSpPr>
          <p:cNvPr id="9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AF3F-218A-4F35-A953-26416AC48D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4"/>
          <p:cNvSpPr/>
          <p:nvPr/>
        </p:nvSpPr>
        <p:spPr>
          <a:xfrm flipH="1">
            <a:off x="323280" y="692280"/>
            <a:ext cx="3816360" cy="5257800"/>
          </a:xfrm>
          <a:prstGeom prst="wedgeRoundRectCallout">
            <a:avLst>
              <a:gd name="adj1" fmla="val -65226"/>
              <a:gd name="adj2" fmla="val -32"/>
              <a:gd name="adj3" fmla="val 16667"/>
            </a:avLst>
          </a:prstGeom>
          <a:gradFill rotWithShape="0">
            <a:gsLst>
              <a:gs pos="0">
                <a:srgbClr val="ddd351"/>
              </a:gs>
              <a:gs pos="100000">
                <a:srgbClr val="bca4a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352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 него ОДНА сторона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Фото-0050"/>
          <p:cNvPicPr/>
          <p:nvPr/>
        </p:nvPicPr>
        <p:blipFill>
          <a:blip r:embed="rId1"/>
          <a:stretch/>
        </p:blipFill>
        <p:spPr>
          <a:xfrm>
            <a:off x="4859280" y="33336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Фото-0049"/>
          <p:cNvPicPr/>
          <p:nvPr/>
        </p:nvPicPr>
        <p:blipFill>
          <a:blip r:embed="rId2"/>
          <a:stretch/>
        </p:blipFill>
        <p:spPr>
          <a:xfrm>
            <a:off x="4788000" y="3573360"/>
            <a:ext cx="3995640" cy="2997360"/>
          </a:xfrm>
          <a:prstGeom prst="rect">
            <a:avLst/>
          </a:prstGeom>
          <a:ln w="0">
            <a:noFill/>
          </a:ln>
        </p:spPr>
      </p:pic>
      <p:sp>
        <p:nvSpPr>
          <p:cNvPr id="10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CF72-CEFE-44B7-9696-4FE599EF45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5"/>
          <p:cNvSpPr/>
          <p:nvPr/>
        </p:nvSpPr>
        <p:spPr>
          <a:xfrm>
            <a:off x="0" y="476280"/>
            <a:ext cx="5580000" cy="5977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ca4a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11280" y="1196640"/>
            <a:ext cx="4402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     Что будет, если разрезать обычный лист бумаг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что случится, если разрезать вдоль посередине это кольцо (это и есть лист Мёбиуса, или лента Мёбиуса) по всей длин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Фото-005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106960" y="1247760"/>
            <a:ext cx="3727440" cy="4824360"/>
          </a:xfrm>
          <a:prstGeom prst="rect">
            <a:avLst/>
          </a:prstGeom>
          <a:ln w="0">
            <a:noFill/>
          </a:ln>
        </p:spPr>
      </p:pic>
      <p:sp>
        <p:nvSpPr>
          <p:cNvPr id="104" name="WordArt 6"/>
          <p:cNvSpPr txBox="1"/>
          <p:nvPr/>
        </p:nvSpPr>
        <p:spPr>
          <a:xfrm>
            <a:off x="4427640" y="0"/>
            <a:ext cx="338436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1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DAA6-6C0C-4407-9B41-6F648F5A42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вот что получилось у н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Фото-0052"/>
          <p:cNvPicPr/>
          <p:nvPr/>
        </p:nvPicPr>
        <p:blipFill>
          <a:blip r:embed="rId1"/>
          <a:stretch/>
        </p:blipFill>
        <p:spPr>
          <a:xfrm>
            <a:off x="971640" y="1484280"/>
            <a:ext cx="6985080" cy="36734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395280" y="530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нта перекручена два р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104F-7453-483B-BEB4-639CE756B4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5"/>
          <p:cNvSpPr/>
          <p:nvPr/>
        </p:nvSpPr>
        <p:spPr>
          <a:xfrm flipH="1">
            <a:off x="324000" y="333360"/>
            <a:ext cx="8496000" cy="2232000"/>
          </a:xfrm>
          <a:prstGeom prst="wedgeRoundRectCallout">
            <a:avLst>
              <a:gd name="adj1" fmla="val -34754"/>
              <a:gd name="adj2" fmla="val 70055"/>
              <a:gd name="adj3" fmla="val 16667"/>
            </a:avLst>
          </a:prstGeom>
          <a:gradFill rotWithShape="0">
            <a:gsLst>
              <a:gs pos="0">
                <a:srgbClr val="ddd351"/>
              </a:gs>
              <a:gs pos="100000">
                <a:srgbClr val="bca4a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 сделайте новый лист Мёбиуса и скажите, что будет, если разрезать его вдоль, но не посередине, а ближе к одному кра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Фото-0053"/>
          <p:cNvPicPr/>
          <p:nvPr/>
        </p:nvPicPr>
        <p:blipFill>
          <a:blip r:embed="rId1"/>
          <a:stretch/>
        </p:blipFill>
        <p:spPr>
          <a:xfrm>
            <a:off x="971640" y="3141720"/>
            <a:ext cx="7296120" cy="3384360"/>
          </a:xfrm>
          <a:prstGeom prst="rect">
            <a:avLst/>
          </a:prstGeom>
          <a:ln w="0">
            <a:noFill/>
          </a:ln>
        </p:spPr>
      </p:pic>
      <p:sp>
        <p:nvSpPr>
          <p:cNvPr id="113" name="WordArt 6"/>
          <p:cNvSpPr txBox="1"/>
          <p:nvPr/>
        </p:nvSpPr>
        <p:spPr>
          <a:xfrm>
            <a:off x="0" y="2492280"/>
            <a:ext cx="338472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1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1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189E-F9A0-492E-BE92-1D35B3268F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вот что получилось у н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Фото-0054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58920" y="141300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11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2264-1D16-426E-9BBE-198E081F50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6"/>
          <p:cNvSpPr/>
          <p:nvPr/>
        </p:nvSpPr>
        <p:spPr>
          <a:xfrm flipH="1">
            <a:off x="394560" y="1413000"/>
            <a:ext cx="3095640" cy="4752720"/>
          </a:xfrm>
          <a:prstGeom prst="wedgeRoundRectCallout">
            <a:avLst>
              <a:gd name="adj1" fmla="val -64513"/>
              <a:gd name="adj2" fmla="val -2574"/>
              <a:gd name="adj3" fmla="val 16667"/>
            </a:avLst>
          </a:prstGeom>
          <a:gradFill rotWithShape="0">
            <a:gsLst>
              <a:gs pos="0">
                <a:srgbClr val="ddd351"/>
              </a:gs>
              <a:gs pos="100000">
                <a:srgbClr val="bca4a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324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если разделить на три част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Фото-0055"/>
          <p:cNvPicPr/>
          <p:nvPr/>
        </p:nvPicPr>
        <p:blipFill>
          <a:blip r:embed="rId1"/>
          <a:stretch/>
        </p:blipFill>
        <p:spPr>
          <a:xfrm>
            <a:off x="4572000" y="620640"/>
            <a:ext cx="4176720" cy="5545080"/>
          </a:xfrm>
          <a:prstGeom prst="rect">
            <a:avLst/>
          </a:prstGeom>
          <a:ln w="0">
            <a:noFill/>
          </a:ln>
        </p:spPr>
      </p:pic>
      <p:sp>
        <p:nvSpPr>
          <p:cNvPr id="121" name="WordArt 7"/>
          <p:cNvSpPr txBox="1"/>
          <p:nvPr/>
        </p:nvSpPr>
        <p:spPr>
          <a:xfrm>
            <a:off x="2124000" y="333360"/>
            <a:ext cx="338472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1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22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0E5A-9C7D-471A-B69F-3BE41A4AD5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 flipH="1">
            <a:off x="324000" y="333360"/>
            <a:ext cx="8496000" cy="2232000"/>
          </a:xfrm>
          <a:prstGeom prst="wedgeRoundRectCallout">
            <a:avLst>
              <a:gd name="adj1" fmla="val -34754"/>
              <a:gd name="adj2" fmla="val 70055"/>
              <a:gd name="adj3" fmla="val 16667"/>
            </a:avLst>
          </a:prstGeom>
          <a:gradFill rotWithShape="0">
            <a:gsLst>
              <a:gs pos="0">
                <a:srgbClr val="ddd351"/>
              </a:gs>
              <a:gs pos="100000">
                <a:srgbClr val="bca4a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им  два  сцепленных  кольца.  Одно  из  них  вдвое   длиннее  исходного  и  перекручено  два  раза. Второе-  лист  Мёбиуса,  ширина  которого  втрое  меньше,  чем  у  исход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Фото-0056"/>
          <p:cNvPicPr/>
          <p:nvPr/>
        </p:nvPicPr>
        <p:blipFill>
          <a:blip r:embed="rId1"/>
          <a:stretch/>
        </p:blipFill>
        <p:spPr>
          <a:xfrm>
            <a:off x="1116000" y="3141720"/>
            <a:ext cx="7777080" cy="3149640"/>
          </a:xfrm>
          <a:prstGeom prst="rect">
            <a:avLst/>
          </a:prstGeom>
          <a:ln w="0">
            <a:noFill/>
          </a:ln>
        </p:spPr>
      </p:pic>
      <p:sp>
        <p:nvSpPr>
          <p:cNvPr id="12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1465-F9E3-4CCB-A15E-86516D5D21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4"/>
          <p:cNvSpPr/>
          <p:nvPr/>
        </p:nvSpPr>
        <p:spPr>
          <a:xfrm flipH="1">
            <a:off x="324000" y="404640"/>
            <a:ext cx="3743280" cy="5904000"/>
          </a:xfrm>
          <a:prstGeom prst="wedgeRoundRectCallout">
            <a:avLst>
              <a:gd name="adj1" fmla="val -73879"/>
              <a:gd name="adj2" fmla="val -32791"/>
              <a:gd name="adj3" fmla="val 16667"/>
            </a:avLst>
          </a:prstGeom>
          <a:gradFill rotWithShape="0">
            <a:gsLst>
              <a:gs pos="0">
                <a:srgbClr val="ddd351"/>
              </a:gs>
              <a:gs pos="100000">
                <a:srgbClr val="bca4a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3527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ловечек - переверты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ежьте  бумажного  человечка  и  отправьте  его  вдоль  пунктира,  идущего  посередине  листа  Мёбиус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Фото-0057"/>
          <p:cNvPicPr/>
          <p:nvPr/>
        </p:nvPicPr>
        <p:blipFill>
          <a:blip r:embed="rId1"/>
          <a:stretch/>
        </p:blipFill>
        <p:spPr>
          <a:xfrm>
            <a:off x="4859280" y="765000"/>
            <a:ext cx="3738600" cy="4969080"/>
          </a:xfrm>
          <a:prstGeom prst="rect">
            <a:avLst/>
          </a:prstGeom>
          <a:ln w="0">
            <a:noFill/>
          </a:ln>
        </p:spPr>
      </p:pic>
      <p:sp>
        <p:nvSpPr>
          <p:cNvPr id="13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447E-4C69-4C37-80BD-2870EBDE08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5"/>
          <p:cNvSpPr/>
          <p:nvPr/>
        </p:nvSpPr>
        <p:spPr>
          <a:xfrm flipH="1">
            <a:off x="324000" y="404640"/>
            <a:ext cx="3743280" cy="5904000"/>
          </a:xfrm>
          <a:prstGeom prst="wedgeRoundRectCallout">
            <a:avLst>
              <a:gd name="adj1" fmla="val -74472"/>
              <a:gd name="adj2" fmla="val -37310"/>
              <a:gd name="adj3" fmla="val 16667"/>
            </a:avLst>
          </a:prstGeom>
          <a:gradFill rotWithShape="0">
            <a:gsLst>
              <a:gs pos="0">
                <a:srgbClr val="ddd351"/>
              </a:gs>
              <a:gs pos="100000">
                <a:srgbClr val="bca4a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3322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 вернулся к  месту  старта.  Но  в  каком  виде! В  перевернутом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  что  нужно сделать человечку, чтобы он  вернулся  к  старту  в нормальном  полож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Фото-0058"/>
          <p:cNvPicPr/>
          <p:nvPr/>
        </p:nvPicPr>
        <p:blipFill>
          <a:blip r:embed="rId1"/>
          <a:stretch/>
        </p:blipFill>
        <p:spPr>
          <a:xfrm>
            <a:off x="5076720" y="981000"/>
            <a:ext cx="37944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4"/>
          <p:cNvSpPr/>
          <p:nvPr/>
        </p:nvSpPr>
        <p:spPr>
          <a:xfrm>
            <a:off x="324000" y="0"/>
            <a:ext cx="8496000" cy="6804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ca4a0"/>
              </a:gs>
              <a:gs pos="100000">
                <a:srgbClr val="ddd35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исло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знают, что такое лента (лист) Мёбиу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, кто ещё не знаком с удивительным листом, который  относится к «математическим неожиданностям», мы предлагаем вместе с нами провести исследование и окунуться в светлое чувство позн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5787-4730-47C9-B380-68D863A41B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лоса ленточного конвейера, выполненная в виде листа Мёбиуса, позволяет ему работать дольше в два раз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1308443001_6"/>
          <p:cNvPicPr/>
          <p:nvPr/>
        </p:nvPicPr>
        <p:blipFill>
          <a:blip r:embed="rId1"/>
          <a:stretch/>
        </p:blipFill>
        <p:spPr>
          <a:xfrm>
            <a:off x="1187280" y="2060640"/>
            <a:ext cx="655344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матричном принтере красящая лента имеет вид листа Мёбиу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557_1312456215t"/>
          <p:cNvPicPr/>
          <p:nvPr/>
        </p:nvPicPr>
        <p:blipFill>
          <a:blip r:embed="rId1"/>
          <a:stretch/>
        </p:blipFill>
        <p:spPr>
          <a:xfrm>
            <a:off x="1332000" y="1557360"/>
            <a:ext cx="626436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ша Вселенная вполне вероятно замкнута в ленту Мёбиу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2138_NpAdvHover"/>
          <p:cNvPicPr/>
          <p:nvPr/>
        </p:nvPicPr>
        <p:blipFill>
          <a:blip r:embed="rId1"/>
          <a:stretch/>
        </p:blipFill>
        <p:spPr>
          <a:xfrm>
            <a:off x="539640" y="1844640"/>
            <a:ext cx="79930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Есть гипотеза, что спираль ДНК сама по себе тоже является фрагментом ленты Мёбиус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1241096474_m_pc_465_1"/>
          <p:cNvPicPr/>
          <p:nvPr/>
        </p:nvPicPr>
        <p:blipFill>
          <a:blip r:embed="rId1"/>
          <a:stretch/>
        </p:blipFill>
        <p:spPr>
          <a:xfrm>
            <a:off x="1835280" y="2205000"/>
            <a:ext cx="5832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зики утверждают, что отражение в зеркал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основано на свойствах ленты Мёбиу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Mirrors_18"/>
          <p:cNvPicPr/>
          <p:nvPr/>
        </p:nvPicPr>
        <p:blipFill>
          <a:blip r:embed="rId1"/>
          <a:stretch/>
        </p:blipFill>
        <p:spPr>
          <a:xfrm>
            <a:off x="826920" y="2297160"/>
            <a:ext cx="648180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1" descr="0_12b51_4a45a684_XL.jpg"/>
          <p:cNvPicPr/>
          <p:nvPr/>
        </p:nvPicPr>
        <p:blipFill>
          <a:blip r:embed="rId1"/>
          <a:srcRect l="21237" t="0" r="0" b="0"/>
          <a:stretch/>
        </p:blipFill>
        <p:spPr>
          <a:xfrm>
            <a:off x="1692360" y="692280"/>
            <a:ext cx="5759280" cy="548640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. Франкфур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129664"/>
          <p:cNvPicPr/>
          <p:nvPr/>
        </p:nvPicPr>
        <p:blipFill>
          <a:blip r:embed="rId1"/>
          <a:stretch/>
        </p:blipFill>
        <p:spPr>
          <a:xfrm>
            <a:off x="1116000" y="1557360"/>
            <a:ext cx="6624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Матье Хемакерзом-Бельгия"/>
          <p:cNvPicPr/>
          <p:nvPr/>
        </p:nvPicPr>
        <p:blipFill>
          <a:blip r:embed="rId1"/>
          <a:stretch/>
        </p:blipFill>
        <p:spPr>
          <a:xfrm>
            <a:off x="324000" y="476280"/>
            <a:ext cx="3740040" cy="48243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  <p:sp>
        <p:nvSpPr>
          <p:cNvPr id="150" name="Rectangle 5"/>
          <p:cNvSpPr/>
          <p:nvPr/>
        </p:nvSpPr>
        <p:spPr>
          <a:xfrm>
            <a:off x="4500720" y="403560"/>
            <a:ext cx="1396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аженный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графии объ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оло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бельгийск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ке Опхов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представля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ою скульпту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ье Хемакер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лист мёбиуса 1"/>
          <p:cNvPicPr/>
          <p:nvPr/>
        </p:nvPicPr>
        <p:blipFill>
          <a:blip r:embed="rId1"/>
          <a:stretch/>
        </p:blipFill>
        <p:spPr>
          <a:xfrm>
            <a:off x="1619280" y="1268280"/>
            <a:ext cx="6121440" cy="459108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ст Мёбиуса в при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5"/>
          <p:cNvSpPr/>
          <p:nvPr/>
        </p:nvSpPr>
        <p:spPr>
          <a:xfrm>
            <a:off x="324000" y="115920"/>
            <a:ext cx="8424720" cy="6524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ca4a0"/>
              </a:gs>
              <a:gs pos="100000">
                <a:srgbClr val="ddd35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клеить лист Мёбиуса из квадратного листа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4"/>
          <p:cNvSpPr/>
          <p:nvPr/>
        </p:nvSpPr>
        <p:spPr>
          <a:xfrm>
            <a:off x="324000" y="0"/>
            <a:ext cx="8496000" cy="6804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ca4a0"/>
              </a:gs>
              <a:gs pos="100000">
                <a:srgbClr val="ddd35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meb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773360"/>
            <a:ext cx="2376360" cy="2889000"/>
          </a:xfrm>
          <a:prstGeom prst="rect">
            <a:avLst/>
          </a:prstGeom>
          <a:ln w="0">
            <a:noFill/>
          </a:ln>
        </p:spPr>
      </p:pic>
      <p:sp>
        <p:nvSpPr>
          <p:cNvPr id="5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E9A2-3392-4C1A-B953-105CAC5A68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mmebius"/>
          <p:cNvPicPr/>
          <p:nvPr/>
        </p:nvPicPr>
        <p:blipFill>
          <a:blip r:embed="rId3"/>
          <a:stretch/>
        </p:blipFill>
        <p:spPr>
          <a:xfrm>
            <a:off x="1258920" y="1628640"/>
            <a:ext cx="3205080" cy="389268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  <p:sp>
        <p:nvSpPr>
          <p:cNvPr id="59" name="Rectangle 9"/>
          <p:cNvSpPr/>
          <p:nvPr/>
        </p:nvSpPr>
        <p:spPr>
          <a:xfrm>
            <a:off x="4572000" y="119700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густ Фердинанд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ёбиу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1790-186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ebius"/>
          <p:cNvPicPr/>
          <p:nvPr/>
        </p:nvPicPr>
        <p:blipFill>
          <a:blip r:embed="rId4"/>
          <a:stretch/>
        </p:blipFill>
        <p:spPr>
          <a:xfrm>
            <a:off x="5003640" y="3500280"/>
            <a:ext cx="3384720" cy="230688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316080" y="20520"/>
            <a:ext cx="8510400" cy="68151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981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332000" y="1989000"/>
            <a:ext cx="73533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т Мёбиуса – удивительный феномен. Его можно исследовать до бесконечности, мы рассмотрели лишь некоторые его свойства. Надеемся, что мы вас заинтересовали и вы продолжите исследования этого непредсказуемого ли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1CED-7879-4197-8935-5ECFC16FAF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FB3C-D1D1-4348-8957-153888315E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714240" y="218160"/>
            <a:ext cx="7572600" cy="612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272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уемая 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кс Д.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Лента Мёбиуса. Вариации на старую тем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// «Квант», № 1, 197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айт учителя математики.[Электронный ресурс] – Режим доступа: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"/>
              </a:rPr>
              <a:t>http://le-savchen.ucoz.ru/publ/1-1-0-3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свобод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ы ленты МЁБИУСА. Катушка МЁБИУСА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Электрон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–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а: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bornovec.ru/fizika/index.ht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5"/>
          <p:cNvSpPr/>
          <p:nvPr/>
        </p:nvSpPr>
        <p:spPr>
          <a:xfrm>
            <a:off x="324000" y="0"/>
            <a:ext cx="8496000" cy="6804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ca4a0"/>
              </a:gs>
              <a:gs pos="100000">
                <a:srgbClr val="ddd35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186920" y="1052280"/>
            <a:ext cx="72946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ст Мёбиуса – один из объектов области математики под названием «тополог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о-другому – «геометр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й»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9D84-CBFF-4ACF-B6C8-E8019CBE20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list.gif"/>
          <p:cNvPicPr/>
          <p:nvPr/>
        </p:nvPicPr>
        <p:blipFill>
          <a:blip r:embed="rId1"/>
          <a:stretch/>
        </p:blipFill>
        <p:spPr>
          <a:xfrm>
            <a:off x="1547640" y="3141720"/>
            <a:ext cx="3222720" cy="30495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 rot="10800000">
            <a:off x="324000" y="259920"/>
            <a:ext cx="8820000" cy="6264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fa041"/>
              </a:gs>
              <a:gs pos="50000">
                <a:srgbClr val="bca4a0"/>
              </a:gs>
              <a:gs pos="100000">
                <a:srgbClr val="cfa04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332000" y="170028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казывают, что открыть свой «лист» Мёбиусу помогла служанка, сшившая однажды неправильно концы ле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3132000" y="47628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Леген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Что такое лента Мёбиуса и зачем ее надо резать?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995640" y="3213000"/>
            <a:ext cx="3619440" cy="2247840"/>
          </a:xfrm>
          <a:prstGeom prst="rect">
            <a:avLst/>
          </a:prstGeom>
          <a:ln w="0">
            <a:noFill/>
          </a:ln>
        </p:spPr>
      </p:pic>
      <p:sp>
        <p:nvSpPr>
          <p:cNvPr id="7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554E-64A8-41B5-98A0-F2E0DBB5C8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22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5"/>
          <p:cNvSpPr/>
          <p:nvPr/>
        </p:nvSpPr>
        <p:spPr>
          <a:xfrm>
            <a:off x="324000" y="0"/>
            <a:ext cx="8496000" cy="6804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ca4a0"/>
              </a:gs>
              <a:gs pos="100000">
                <a:srgbClr val="ddd35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9423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сследов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процесс получения новых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(от греч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hypothesi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редположение) – научное предположение, выдвигаемое для объяснений каких-либо явлений, достоверность которого еще не доказана опытным пут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ксперимен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(от лат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experiment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роба, опыт) – воспроизведение какого-либо явления с целью исследования. Научно поставленный опы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Увлекательное исслед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аситесь несколькими листами бумаги, клеем и ножниц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4859280" y="3573360"/>
            <a:ext cx="2497320" cy="2952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5796000" y="3141720"/>
            <a:ext cx="2448000" cy="2879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6659640" y="2708280"/>
            <a:ext cx="2089080" cy="2738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619280" y="2955960"/>
            <a:ext cx="3816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0" spc="-1" strike="noStrike">
                <a:solidFill>
                  <a:srgbClr val="000000"/>
                </a:solidFill>
                <a:latin typeface="Wingdings"/>
                <a:ea typeface="Wingdings"/>
              </a:rPr>
              <a:t>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324000" y="4724280"/>
            <a:ext cx="1199880" cy="186696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33EF-2517-40AE-B67B-AD607CABCE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58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58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1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2620800"/>
          </a:xfrm>
          <a:prstGeom prst="rect">
            <a:avLst/>
          </a:prstGeom>
          <a:gradFill rotWithShape="0">
            <a:gsLst>
              <a:gs pos="0">
                <a:srgbClr val="c3ada9"/>
              </a:gs>
              <a:gs pos="100000">
                <a:srgbClr val="ddd351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м бумажную ленту АВСD. Прикладываем ее концы АВ и СD друг к другу и склеиваем таким образом, чтобы точка А совпала с точкой С, а точка B с точко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611280" y="4508640"/>
            <a:ext cx="7993080" cy="86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24000" y="530064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24000" y="393372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8388360" y="400536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8388360" y="544500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C4F9-0B33-467B-84C6-BED85BB3D5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569960"/>
          </a:xfrm>
          <a:prstGeom prst="rect">
            <a:avLst/>
          </a:prstGeom>
          <a:gradFill rotWithShape="0">
            <a:gsLst>
              <a:gs pos="0">
                <a:srgbClr val="ddd351"/>
              </a:gs>
              <a:gs pos="100000">
                <a:srgbClr val="c3ada9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учим такое перекрученное кольц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Фото-0036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84360" y="2205000"/>
            <a:ext cx="7632720" cy="3799080"/>
          </a:xfrm>
          <a:prstGeom prst="rect">
            <a:avLst/>
          </a:prstGeom>
          <a:ln w="0">
            <a:noFill/>
          </a:ln>
        </p:spPr>
      </p:pic>
      <p:sp>
        <p:nvSpPr>
          <p:cNvPr id="9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54C4-3A45-47F0-8A10-36E10852A7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1T10:33:13Z</dcterms:created>
  <dc:creator>мама</dc:creator>
  <dc:description/>
  <dc:language>en-US</dc:language>
  <cp:lastModifiedBy>matem16</cp:lastModifiedBy>
  <dcterms:modified xsi:type="dcterms:W3CDTF">2013-04-02T10:56:27Z</dcterms:modified>
  <cp:revision>51</cp:revision>
  <dc:subject/>
  <dc:title>Лист Мёбиуса</dc:title>
</cp:coreProperties>
</file>