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EFB4-5A70-4905-A7CD-F8054CF313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F811-76F9-4428-93DC-C02DF6C34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779-BB11-4774-9D72-DF178B99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4CD-9098-4E81-9371-B9A9190D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57C-77A8-4551-ABE7-C305B07D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455-7EEA-48E8-8F01-9873E386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A88-F657-4E04-95DE-40055823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88E-C4BA-42E4-9D54-85601B3A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86DC-7A15-4391-9781-5401832F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87E-77A6-423B-B160-BD8BBFDA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A6A-E255-4832-803C-761C78D0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5B9-87B4-4E27-8F80-3F7653F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A8A-3E0D-48D7-AC6B-B0BCEAD3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CA9-6010-4609-ADA4-455D8671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3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B3EB-9D81-4189-B376-F12865EE9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iver.omsk.su/omsk/Edu/Math/mmebius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kvant.mccme.ru/1979/01/lenta_myobiusa.htm" TargetMode="External"/><Relationship Id="rId2" Type="http://schemas.openxmlformats.org/officeDocument/2006/relationships/hyperlink" Target="http://le-savchen.ucoz.ru/publ/1-1-0-31" TargetMode="External"/><Relationship Id="rId3" Type="http://schemas.openxmlformats.org/officeDocument/2006/relationships/hyperlink" Target="http://bornovec.ru/fizika/index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01800" y="260280"/>
            <a:ext cx="73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ЛИСТ МЁБИУС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vselennaya_kak_dodekaedr_0.jpg"/>
          <p:cNvPicPr/>
          <p:nvPr/>
        </p:nvPicPr>
        <p:blipFill>
          <a:blip r:embed="rId1"/>
          <a:srcRect l="0" t="0" r="0" b="8126"/>
          <a:stretch/>
        </p:blipFill>
        <p:spPr>
          <a:xfrm>
            <a:off x="2050920" y="1773360"/>
            <a:ext cx="6121440" cy="470844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6"/>
          <p:cNvSpPr/>
          <p:nvPr/>
        </p:nvSpPr>
        <p:spPr>
          <a:xfrm>
            <a:off x="-252360" y="620640"/>
            <a:ext cx="5832360" cy="5327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4427640" y="333360"/>
            <a:ext cx="3384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50036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димся вопросом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 сторон у листа Мёбиуса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Фото-0050"/>
          <p:cNvPicPr/>
          <p:nvPr/>
        </p:nvPicPr>
        <p:blipFill>
          <a:blip r:embed="rId3"/>
          <a:stretch/>
        </p:blipFill>
        <p:spPr>
          <a:xfrm>
            <a:off x="5003640" y="2060640"/>
            <a:ext cx="3213360" cy="428292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B24E-7667-4749-B9ED-18AB38226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"/>
          <p:cNvSpPr/>
          <p:nvPr/>
        </p:nvSpPr>
        <p:spPr>
          <a:xfrm flipH="1">
            <a:off x="323280" y="692280"/>
            <a:ext cx="3816360" cy="5257800"/>
          </a:xfrm>
          <a:prstGeom prst="wedgeRoundRectCallout">
            <a:avLst>
              <a:gd name="adj1" fmla="val -65226"/>
              <a:gd name="adj2" fmla="val -32"/>
              <a:gd name="adj3" fmla="val 16667"/>
            </a:avLst>
          </a:prstGeom>
          <a:gradFill rotWithShape="0">
            <a:gsLst>
              <a:gs pos="0">
                <a:srgbClr val="ddd351"/>
              </a:gs>
              <a:gs pos="100000">
                <a:srgbClr val="bca4a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 него ОДНА сторона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Фото-0050"/>
          <p:cNvPicPr/>
          <p:nvPr/>
        </p:nvPicPr>
        <p:blipFill>
          <a:blip r:embed="rId1"/>
          <a:stretch/>
        </p:blipFill>
        <p:spPr>
          <a:xfrm>
            <a:off x="4859280" y="33336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Фото-0049"/>
          <p:cNvPicPr/>
          <p:nvPr/>
        </p:nvPicPr>
        <p:blipFill>
          <a:blip r:embed="rId2"/>
          <a:stretch/>
        </p:blipFill>
        <p:spPr>
          <a:xfrm>
            <a:off x="4788000" y="3573360"/>
            <a:ext cx="3995640" cy="299736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22BD-8A9C-43B7-9CB0-7FE26B52B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5"/>
          <p:cNvSpPr/>
          <p:nvPr/>
        </p:nvSpPr>
        <p:spPr>
          <a:xfrm>
            <a:off x="0" y="476280"/>
            <a:ext cx="5580000" cy="5977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4402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     Что будет, если разрезать обычный лист бумаг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что случится, если разрезать вдоль посередине это кольцо (это и есть лист Мёбиуса, или лента Мёбиуса) по всей длин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Фото-005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106960" y="1247760"/>
            <a:ext cx="3727440" cy="4824360"/>
          </a:xfrm>
          <a:prstGeom prst="rect">
            <a:avLst/>
          </a:prstGeom>
          <a:ln w="0">
            <a:noFill/>
          </a:ln>
        </p:spPr>
      </p:pic>
      <p:sp>
        <p:nvSpPr>
          <p:cNvPr id="104" name="WordArt 6"/>
          <p:cNvSpPr txBox="1"/>
          <p:nvPr/>
        </p:nvSpPr>
        <p:spPr>
          <a:xfrm>
            <a:off x="4427640" y="0"/>
            <a:ext cx="338436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E15F-DC5E-4882-A176-1CA99F95E1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вот что получилось у 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Фото-0052"/>
          <p:cNvPicPr/>
          <p:nvPr/>
        </p:nvPicPr>
        <p:blipFill>
          <a:blip r:embed="rId1"/>
          <a:stretch/>
        </p:blipFill>
        <p:spPr>
          <a:xfrm>
            <a:off x="971640" y="1484280"/>
            <a:ext cx="6985080" cy="3673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9528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нта перекручена два р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B2B9-C7B5-413F-95D6-BA66DA77D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5"/>
          <p:cNvSpPr/>
          <p:nvPr/>
        </p:nvSpPr>
        <p:spPr>
          <a:xfrm flipH="1">
            <a:off x="324000" y="333360"/>
            <a:ext cx="8496000" cy="2232000"/>
          </a:xfrm>
          <a:prstGeom prst="wedgeRoundRectCallout">
            <a:avLst>
              <a:gd name="adj1" fmla="val -34754"/>
              <a:gd name="adj2" fmla="val 70055"/>
              <a:gd name="adj3" fmla="val 16667"/>
            </a:avLst>
          </a:prstGeom>
          <a:gradFill rotWithShape="0">
            <a:gsLst>
              <a:gs pos="0">
                <a:srgbClr val="ddd351"/>
              </a:gs>
              <a:gs pos="100000">
                <a:srgbClr val="bca4a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сделайте новый лист Мёбиуса и скажите, что будет, если разрезать его вдоль, но не посередине, а ближе к одному кра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Фото-0053"/>
          <p:cNvPicPr/>
          <p:nvPr/>
        </p:nvPicPr>
        <p:blipFill>
          <a:blip r:embed="rId1"/>
          <a:stretch/>
        </p:blipFill>
        <p:spPr>
          <a:xfrm>
            <a:off x="971640" y="3141720"/>
            <a:ext cx="7296120" cy="33843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6"/>
          <p:cNvSpPr txBox="1"/>
          <p:nvPr/>
        </p:nvSpPr>
        <p:spPr>
          <a:xfrm>
            <a:off x="0" y="2492280"/>
            <a:ext cx="338472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15B5-0F24-47A3-97C9-8E576B3E9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вот что получилось у 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Фото-005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58920" y="141300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1323-A1B6-4689-B104-338792059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6"/>
          <p:cNvSpPr/>
          <p:nvPr/>
        </p:nvSpPr>
        <p:spPr>
          <a:xfrm flipH="1">
            <a:off x="394560" y="1413000"/>
            <a:ext cx="3095640" cy="4752720"/>
          </a:xfrm>
          <a:prstGeom prst="wedgeRoundRectCallout">
            <a:avLst>
              <a:gd name="adj1" fmla="val -64513"/>
              <a:gd name="adj2" fmla="val -2574"/>
              <a:gd name="adj3" fmla="val 16667"/>
            </a:avLst>
          </a:prstGeom>
          <a:gradFill rotWithShape="0">
            <a:gsLst>
              <a:gs pos="0">
                <a:srgbClr val="ddd351"/>
              </a:gs>
              <a:gs pos="100000">
                <a:srgbClr val="bca4a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324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если разделить на три ча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Фото-0055"/>
          <p:cNvPicPr/>
          <p:nvPr/>
        </p:nvPicPr>
        <p:blipFill>
          <a:blip r:embed="rId1"/>
          <a:stretch/>
        </p:blipFill>
        <p:spPr>
          <a:xfrm>
            <a:off x="4572000" y="620640"/>
            <a:ext cx="417672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7"/>
          <p:cNvSpPr txBox="1"/>
          <p:nvPr/>
        </p:nvSpPr>
        <p:spPr>
          <a:xfrm>
            <a:off x="2124000" y="333360"/>
            <a:ext cx="338472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4360-3748-4AC5-B661-26BF6A6DF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 flipH="1">
            <a:off x="324000" y="333360"/>
            <a:ext cx="8496000" cy="2232000"/>
          </a:xfrm>
          <a:prstGeom prst="wedgeRoundRectCallout">
            <a:avLst>
              <a:gd name="adj1" fmla="val -34754"/>
              <a:gd name="adj2" fmla="val 70055"/>
              <a:gd name="adj3" fmla="val 16667"/>
            </a:avLst>
          </a:prstGeom>
          <a:gradFill rotWithShape="0">
            <a:gsLst>
              <a:gs pos="0">
                <a:srgbClr val="ddd351"/>
              </a:gs>
              <a:gs pos="100000">
                <a:srgbClr val="bca4a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им  два  сцепленных  кольца.  Одно  из  них  вдвое   длиннее  исходного  и  перекручено  два  раза. Второе-  лист  Мёбиуса,  ширина  которого  втрое  меньше,  чем  у  исход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Фото-0056"/>
          <p:cNvPicPr/>
          <p:nvPr/>
        </p:nvPicPr>
        <p:blipFill>
          <a:blip r:embed="rId1"/>
          <a:stretch/>
        </p:blipFill>
        <p:spPr>
          <a:xfrm>
            <a:off x="1116000" y="3141720"/>
            <a:ext cx="7777080" cy="314964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B266-FA04-4AF9-A137-7BC4FB9AF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 flipH="1">
            <a:off x="324000" y="404640"/>
            <a:ext cx="3743280" cy="5904000"/>
          </a:xfrm>
          <a:prstGeom prst="wedgeRoundRectCallout">
            <a:avLst>
              <a:gd name="adj1" fmla="val -73879"/>
              <a:gd name="adj2" fmla="val -32791"/>
              <a:gd name="adj3" fmla="val 16667"/>
            </a:avLst>
          </a:prstGeom>
          <a:gradFill rotWithShape="0">
            <a:gsLst>
              <a:gs pos="0">
                <a:srgbClr val="ddd351"/>
              </a:gs>
              <a:gs pos="100000">
                <a:srgbClr val="bca4a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352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к - переверты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жьте  бумажного  человечка  и  отправьте  его  вдоль  пунктира,  идущего  посередине  листа  Мёбиус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Фото-0057"/>
          <p:cNvPicPr/>
          <p:nvPr/>
        </p:nvPicPr>
        <p:blipFill>
          <a:blip r:embed="rId1"/>
          <a:stretch/>
        </p:blipFill>
        <p:spPr>
          <a:xfrm>
            <a:off x="4859280" y="765000"/>
            <a:ext cx="3738600" cy="496908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7323-86A6-46EC-A5D0-62015BEEB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5"/>
          <p:cNvSpPr/>
          <p:nvPr/>
        </p:nvSpPr>
        <p:spPr>
          <a:xfrm flipH="1">
            <a:off x="324000" y="404640"/>
            <a:ext cx="3743280" cy="5904000"/>
          </a:xfrm>
          <a:prstGeom prst="wedgeRoundRectCallout">
            <a:avLst>
              <a:gd name="adj1" fmla="val -74472"/>
              <a:gd name="adj2" fmla="val -37310"/>
              <a:gd name="adj3" fmla="val 16667"/>
            </a:avLst>
          </a:prstGeom>
          <a:gradFill rotWithShape="0">
            <a:gsLst>
              <a:gs pos="0">
                <a:srgbClr val="ddd351"/>
              </a:gs>
              <a:gs pos="100000">
                <a:srgbClr val="bca4a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332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 вернулся к  месту  старта.  Но  в  каком  виде! В  перевернутом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  что  нужно сделать человечку, чтобы он  вернулся  к  старту  в нормальном  по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Фото-0058"/>
          <p:cNvPicPr/>
          <p:nvPr/>
        </p:nvPicPr>
        <p:blipFill>
          <a:blip r:embed="rId1"/>
          <a:stretch/>
        </p:blipFill>
        <p:spPr>
          <a:xfrm>
            <a:off x="5076720" y="981000"/>
            <a:ext cx="37944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/>
          <p:cNvSpPr/>
          <p:nvPr/>
        </p:nvSpPr>
        <p:spPr>
          <a:xfrm>
            <a:off x="324000" y="0"/>
            <a:ext cx="8496000" cy="680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ddd35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исло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знают, что такое лента (лист) Мёбиу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, кто ещё не знаком с удивительным листом, который  относится к «математическим неожиданностям», мы предлагаем вместе с нами провести исследование и окунуться в светлое чувство позн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0728-304C-41F6-AFAA-0C9633289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лоса ленточного конвейера, выполненная в виде листа Мёбиуса, позволяет ему работать дольше в два ра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1308443001_6"/>
          <p:cNvPicPr/>
          <p:nvPr/>
        </p:nvPicPr>
        <p:blipFill>
          <a:blip r:embed="rId1"/>
          <a:stretch/>
        </p:blipFill>
        <p:spPr>
          <a:xfrm>
            <a:off x="1187280" y="2060640"/>
            <a:ext cx="655344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матричном принтере красящая лента имеет вид листа Мёби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557_1312456215t"/>
          <p:cNvPicPr/>
          <p:nvPr/>
        </p:nvPicPr>
        <p:blipFill>
          <a:blip r:embed="rId1"/>
          <a:stretch/>
        </p:blipFill>
        <p:spPr>
          <a:xfrm>
            <a:off x="1332000" y="1557360"/>
            <a:ext cx="62643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ша Вселенная вполне вероятно замкнута в ленту Мёби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2138_NpAdvHover"/>
          <p:cNvPicPr/>
          <p:nvPr/>
        </p:nvPicPr>
        <p:blipFill>
          <a:blip r:embed="rId1"/>
          <a:stretch/>
        </p:blipFill>
        <p:spPr>
          <a:xfrm>
            <a:off x="539640" y="1844640"/>
            <a:ext cx="79930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Есть гипотеза, что спираль ДНК сама по себе тоже является фрагментом ленты Мёбиу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1241096474_m_pc_465_1"/>
          <p:cNvPicPr/>
          <p:nvPr/>
        </p:nvPicPr>
        <p:blipFill>
          <a:blip r:embed="rId1"/>
          <a:stretch/>
        </p:blipFill>
        <p:spPr>
          <a:xfrm>
            <a:off x="1835280" y="2205000"/>
            <a:ext cx="5832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зики утверждают, что отражение в зеркал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сновано на свойствах ленты Мёби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irrors_18"/>
          <p:cNvPicPr/>
          <p:nvPr/>
        </p:nvPicPr>
        <p:blipFill>
          <a:blip r:embed="rId1"/>
          <a:stretch/>
        </p:blipFill>
        <p:spPr>
          <a:xfrm>
            <a:off x="826920" y="2297160"/>
            <a:ext cx="64818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0_12b51_4a45a684_XL.jpg"/>
          <p:cNvPicPr/>
          <p:nvPr/>
        </p:nvPicPr>
        <p:blipFill>
          <a:blip r:embed="rId1"/>
          <a:srcRect l="21237" t="0" r="0" b="0"/>
          <a:stretch/>
        </p:blipFill>
        <p:spPr>
          <a:xfrm>
            <a:off x="1692360" y="692280"/>
            <a:ext cx="5759280" cy="54864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. Франкфур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129664"/>
          <p:cNvPicPr/>
          <p:nvPr/>
        </p:nvPicPr>
        <p:blipFill>
          <a:blip r:embed="rId1"/>
          <a:stretch/>
        </p:blipFill>
        <p:spPr>
          <a:xfrm>
            <a:off x="1116000" y="155736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Матье Хемакерзом-Бельгия"/>
          <p:cNvPicPr/>
          <p:nvPr/>
        </p:nvPicPr>
        <p:blipFill>
          <a:blip r:embed="rId1"/>
          <a:stretch/>
        </p:blipFill>
        <p:spPr>
          <a:xfrm>
            <a:off x="324000" y="476280"/>
            <a:ext cx="3740040" cy="48243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150" name="Rectangle 5"/>
          <p:cNvSpPr/>
          <p:nvPr/>
        </p:nvSpPr>
        <p:spPr>
          <a:xfrm>
            <a:off x="4500720" y="403560"/>
            <a:ext cx="1396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женный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графии 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ельгийс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ке Опхов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редстав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ою скульпту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е Хемакер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лист мёбиуса 1"/>
          <p:cNvPicPr/>
          <p:nvPr/>
        </p:nvPicPr>
        <p:blipFill>
          <a:blip r:embed="rId1"/>
          <a:stretch/>
        </p:blipFill>
        <p:spPr>
          <a:xfrm>
            <a:off x="1619280" y="1268280"/>
            <a:ext cx="6121440" cy="459108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ст Мёбиуса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5"/>
          <p:cNvSpPr/>
          <p:nvPr/>
        </p:nvSpPr>
        <p:spPr>
          <a:xfrm>
            <a:off x="324000" y="115920"/>
            <a:ext cx="8424720" cy="6524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ddd35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клеить лист Мёбиуса из квадратного лист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324000" y="0"/>
            <a:ext cx="8496000" cy="680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ddd35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meb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773360"/>
            <a:ext cx="2376360" cy="2889000"/>
          </a:xfrm>
          <a:prstGeom prst="rect">
            <a:avLst/>
          </a:prstGeom>
          <a:ln w="0">
            <a:noFill/>
          </a:ln>
        </p:spPr>
      </p:pic>
      <p:sp>
        <p:nvSpPr>
          <p:cNvPr id="5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AFD0-C97F-44F7-BB27-E94AFCFC2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mmebius"/>
          <p:cNvPicPr/>
          <p:nvPr/>
        </p:nvPicPr>
        <p:blipFill>
          <a:blip r:embed="rId3"/>
          <a:stretch/>
        </p:blipFill>
        <p:spPr>
          <a:xfrm>
            <a:off x="1258920" y="1628640"/>
            <a:ext cx="3205080" cy="389268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59" name="Rectangle 9"/>
          <p:cNvSpPr/>
          <p:nvPr/>
        </p:nvSpPr>
        <p:spPr>
          <a:xfrm>
            <a:off x="4572000" y="119700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густ Фердинанд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ёбиу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1790-186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ebius"/>
          <p:cNvPicPr/>
          <p:nvPr/>
        </p:nvPicPr>
        <p:blipFill>
          <a:blip r:embed="rId4"/>
          <a:stretch/>
        </p:blipFill>
        <p:spPr>
          <a:xfrm>
            <a:off x="5003640" y="3500280"/>
            <a:ext cx="3384720" cy="23068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316080" y="20520"/>
            <a:ext cx="8510400" cy="6815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981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32000" y="1989000"/>
            <a:ext cx="73533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 Мёбиуса – удивительный феномен. Его можно исследовать до бесконечности, мы рассмотрели лишь некоторые его свойства. Надеемся, что мы вас заинтересовали и вы продолжите исследования этого непредсказуемого ли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6CF1-2E93-4131-A7A7-A58691671B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CC48-4B4D-427C-887B-EABCF8F2A7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714240" y="218160"/>
            <a:ext cx="7572600" cy="61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72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кс Д.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Лента Мёбиуса. Вариации на старую те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// «Квант», № 1, 197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йт учителя математики.[Электронный ресурс] – Режим доступа: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http://le-savchen.ucoz.ru/publ/1-1-0-3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вобод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ленты МЁБИУСА. Катушка МЁБИУСА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Электрон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–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а: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bornovec.ru/fizika/index.ht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5"/>
          <p:cNvSpPr/>
          <p:nvPr/>
        </p:nvSpPr>
        <p:spPr>
          <a:xfrm>
            <a:off x="324000" y="0"/>
            <a:ext cx="8496000" cy="680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ddd35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86920" y="1052280"/>
            <a:ext cx="72946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 Мёбиуса – один из объектов области математики под названием «тополог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-другому – «геометр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й»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4E6E-04C2-4030-ABC7-A9E903778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list.gif"/>
          <p:cNvPicPr/>
          <p:nvPr/>
        </p:nvPicPr>
        <p:blipFill>
          <a:blip r:embed="rId1"/>
          <a:stretch/>
        </p:blipFill>
        <p:spPr>
          <a:xfrm>
            <a:off x="1547640" y="3141720"/>
            <a:ext cx="3222720" cy="3049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 rot="10800000">
            <a:off x="324000" y="259920"/>
            <a:ext cx="8820000" cy="6264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fa041"/>
              </a:gs>
              <a:gs pos="50000">
                <a:srgbClr val="bca4a0"/>
              </a:gs>
              <a:gs pos="100000">
                <a:srgbClr val="cfa04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332000" y="17002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казывают, что открыть свой «лист» Мёбиусу помогла служанка, сшившая однажды неправильно концы л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132000" y="47628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Леген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Что такое лента Мёбиуса и зачем ее надо резать?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995640" y="3213000"/>
            <a:ext cx="3619440" cy="224784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8DE4-3B41-4F74-8F3F-29364009B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22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5"/>
          <p:cNvSpPr/>
          <p:nvPr/>
        </p:nvSpPr>
        <p:spPr>
          <a:xfrm>
            <a:off x="324000" y="0"/>
            <a:ext cx="8496000" cy="680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ddd35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942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роцесс получения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(от греч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hypothes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оложение) – научное предположение, выдвигаемое для объяснений каких-либо явлений, достоверность которого еще не доказана опытн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(от лат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xperiment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оба, опыт) – воспроизведение какого-либо явления с целью исследования. Научно поставленный оп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Увлекательное исслед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ситесь несколькими листами бумаги, клеем и ножниц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4859280" y="3573360"/>
            <a:ext cx="2497320" cy="2952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5796000" y="3141720"/>
            <a:ext cx="2448000" cy="2879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6659640" y="2708280"/>
            <a:ext cx="2089080" cy="2738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619280" y="295596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0" spc="-1" strike="noStrike">
                <a:solidFill>
                  <a:srgbClr val="000000"/>
                </a:solidFill>
                <a:latin typeface="Wingdings"/>
                <a:ea typeface="Wingdings"/>
              </a:rPr>
              <a:t>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324000" y="4724280"/>
            <a:ext cx="1199880" cy="186696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625A-4E06-45D9-9B1D-1C4EDDB4B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1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2620800"/>
          </a:xfrm>
          <a:prstGeom prst="rect">
            <a:avLst/>
          </a:prstGeom>
          <a:gradFill rotWithShape="0">
            <a:gsLst>
              <a:gs pos="0">
                <a:srgbClr val="c3ada9"/>
              </a:gs>
              <a:gs pos="100000">
                <a:srgbClr val="ddd351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 бумажную ленту АВСD. Прикладываем ее концы АВ и СD друг к другу и склеиваем таким образом, чтобы точка А совпала с точкой С, а точка B с точк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11280" y="4508640"/>
            <a:ext cx="799308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00" y="530064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24000" y="3933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8388360" y="400536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8388360" y="544500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454F-56B1-445B-8077-885E60860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569960"/>
          </a:xfrm>
          <a:prstGeom prst="rect">
            <a:avLst/>
          </a:prstGeom>
          <a:gradFill rotWithShape="0">
            <a:gsLst>
              <a:gs pos="0">
                <a:srgbClr val="ddd351"/>
              </a:gs>
              <a:gs pos="100000">
                <a:srgbClr val="c3ada9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учим такое перекрученное кольц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Фото-003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84360" y="2205000"/>
            <a:ext cx="7632720" cy="379908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C2A5-CA13-4BE9-8A61-8E834395B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0:33:13Z</dcterms:created>
  <dc:creator>мама</dc:creator>
  <dc:description/>
  <dc:language>en-US</dc:language>
  <cp:lastModifiedBy>matem16</cp:lastModifiedBy>
  <dcterms:modified xsi:type="dcterms:W3CDTF">2013-04-02T10:56:27Z</dcterms:modified>
  <cp:revision>51</cp:revision>
  <dc:subject/>
  <dc:title>Лист Мёбиуса</dc:title>
</cp:coreProperties>
</file>