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28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6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7AC-EDC0-4BD3-919A-5CCC0C28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809-A615-414B-AFD9-5EF3B1D9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6BC-45BC-460F-A4EA-7E859CE8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12B-07D0-4FDD-8A05-AD2934E9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E7B-CDD9-40E1-9C99-71001157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B5A-B267-47DD-BD60-8EF9D65A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E41-827C-43CF-9007-D40819C1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610-5564-4571-AE83-50753106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0C4-9727-401A-9BBD-56490FF9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77D-6685-48FF-AD49-D1CB552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74C-41A7-4A64-9A42-399D304E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737-9C65-46ED-B981-7D4F3F8E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701A-A9AF-49D1-AC06-307B9FCF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7772400" cy="1737000"/>
          </a:xfrm>
          <a:prstGeom prst="rect">
            <a:avLst/>
          </a:prstGeom>
          <a:noFill/>
          <a:ln w="0">
            <a:noFill/>
          </a:ln>
          <a:effectLst>
            <a:outerShdw dist="134955" dir="2927119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витие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жизн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4000" y="3789360"/>
            <a:ext cx="504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никновение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вотные прош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5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15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35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40064" r="0" b="8013"/>
          <a:stretch/>
        </p:blipFill>
        <p:spPr>
          <a:xfrm>
            <a:off x="1979640" y="2852640"/>
            <a:ext cx="669600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6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70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лимат - теплый и влаж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многочисленных болотах хорошо себя чувствовали древние земноводные –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стегоцефал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которые произошл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от древних ры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280" y="189000"/>
            <a:ext cx="8136000" cy="28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смену земноводным пришл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смыкающиеся. Расцвет древни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смыкающихся (их еще называют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ревними ящерами) начался примерн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25 миллионов лет назад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284640"/>
            <a:ext cx="8280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т тогда-то и наступила на Земле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тоящая эпоха динозавров, котора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должалась примерно 160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ллионов лет. Все динозавры были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емными животными.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5516640"/>
            <a:ext cx="84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ществовавшие в то время морск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летающие ящеры к динозаврам не относятся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8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404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гда впервые обнаружили кости динозавров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но в 1820 г. внимание английских и французских исследователей привлекли окаменевшие зубы и кости больших размеров. Изучая их, они пришли к выводу, что окаменелости принадлежат необычайно крупным ящерам – пресмыкающимся, жившим в доисторические врем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989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22 г. англ. врач Паркинсон присвоил одной из находок в коллекции геолога Букланда название мегалозавр (гигантский ящер). В 1924 г. Букланд приступил к его описанию и дал ему научное обозначение. Тогда-то впервые динозавр был признан как таковой и обрел свое наз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716280"/>
            <a:ext cx="856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 время никому из исследователей не приходило в голову, что открытые животные, известные лишь по фрагментам, относятся к самостоятельному виду пресмыкающихся. Впервые к такому выводу пришел лондонский профессор Ричард Оуэн, когда были обнаружены более полные их скелеты. В 1841 году он предложил всех представителей этой группы пресмыкающихся называть динозаврами - ужасными или ужасно большими яще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Первые находки и первоначальные представления о динозаврах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0"/>
            <a:ext cx="9144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вые находки и первоначальные представления о динозавра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2781360"/>
            <a:ext cx="554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Что сохранилось от динозавров 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сновном от них сохранились кости. Находка полного скелета или черепа с зубами – исключительно редкая удача. Чаще всего палеонтологам (палеонтологией называется наука о животных и растениях в геологическом прошлом) приходится довольствоваться обломками костей и отдельными зуб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5052960" cy="2019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973840" y="2421000"/>
            <a:ext cx="27734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476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были найдены динозавры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Где были найдены динозавры?"/>
          <p:cNvPicPr/>
          <p:nvPr/>
        </p:nvPicPr>
        <p:blipFill>
          <a:blip r:embed="rId1"/>
          <a:stretch/>
        </p:blipFill>
        <p:spPr>
          <a:xfrm>
            <a:off x="179280" y="1125360"/>
            <a:ext cx="8640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549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теозавр - первый из гигантских динозавров 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м динозавром, найденным в Германии, был платеозавр, или равнинный ящер. Там же в последствии было обнаружено много других полных скелетов динозав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Платеозавр"/>
          <p:cNvPicPr/>
          <p:nvPr/>
        </p:nvPicPr>
        <p:blipFill>
          <a:blip r:embed="rId1"/>
          <a:stretch/>
        </p:blipFill>
        <p:spPr>
          <a:xfrm>
            <a:off x="250920" y="1989000"/>
            <a:ext cx="78501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808524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ы с Вами живем в эпоху динозавр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ечно, мы знаем, что динозавры давно вымер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 всех живых существ прошлого динозавры – самые знаменит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о не только они были прежними обитателями нашей плане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71640" y="907920"/>
            <a:ext cx="72007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ые-сам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реди динозавр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755640" y="260280"/>
            <a:ext cx="741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ые большие сле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8360" y="1125360"/>
            <a:ext cx="5472000" cy="4702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56360" y="1052640"/>
            <a:ext cx="266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дрозавр В 1932 г. в Солт-Лейк-Сити, шт. Юта, США, были обнаружены следы крупного, передвигавшегося на задних лапах гадрозавра (утконоса). Длина этих следов 136 см, а ширина - 81 см. В других сообщениях из Колорадо и Юты говорилось о следах, ширина которых достигала 95-100 см. Ширина следов, по-видимому, задних конечностей самых крупных брахиозавров доходит до 10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052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могнатус Длина обитавшего в южной Германии и в юго-восточной Франции космогнатуса ( изящная челюсть ) и малоизученного растительноядного фаброзавра из шт. Колорадо, США, от кончика носа до кончика хвоста составляла 70 - 75 см. Первый весил около 3 кг, а второй - 6,8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640" y="189000"/>
            <a:ext cx="806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ый маленький динозав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050920" y="2205000"/>
            <a:ext cx="4969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336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907920"/>
            <a:ext cx="302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хиозавр Он был обнаружен в позднеюрских отложениях (150 - 144 млн. лет назад). Раскопки велись немецкими экспедициями в 1909 - 11 гг., а отпрепарировали кости и собрали скелет в Музее естественной истории Университета Гумбольдта в Берлине. Общая длина брахиозавра составила 22,2 м; высота в холке - 6 м; высота с поднятой головой - 14 м. Вероятно, при жизни вес динозавра был равен 30 - 40 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9640" y="260280"/>
            <a:ext cx="820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ый высокий динозав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52563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24000" y="40464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ый зубастый динозав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нитомимиды У Pelecanimimus из орнитомимид ( птицеподобного динозавра ) было более 220 очень острых з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050920" y="1844640"/>
            <a:ext cx="46548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1268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оодонтиды У нелетающих динозавров – троодонтидов масса мозга по отношению к массе тела была такова, что, возможно, это динозавры были самыми умными, такими же, как самые умные пт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33336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ый сообразительный динозав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476360" y="2133720"/>
            <a:ext cx="597708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98100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ми тяжелыми были, вероят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итанозав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Antarctosaurus giganteus (гигантский антарктический ящер), весивший 40-80 т, ископаемые останки которого найдены в Индии и Аргенти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рахиозав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Brachiosaurus altithorax (рукоящер), названный так за свои длинные передние конечности (45-55 т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доки Seismosaurus halli (ящер, сотрясающий землю) и Supersaurus vivianae (вес обоих превышал 50 т, а по некоторым расчетам, приближался к 100 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мый вес аргентинского титанозавра 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ргентинозав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ходил до 100 т. Оценки, сделанные в 1994 г., были основаны на размерах его гигантских позвон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333360"/>
            <a:ext cx="842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ый тяжелый динозав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39640" y="1052640"/>
            <a:ext cx="249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раннозав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372360" y="5516640"/>
            <a:ext cx="194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егозав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249876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азвитие жизни на Земле началось около 3,5 млрд. лет назад, причем  не на суше, а в океане, где для этого были более благоприятные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4046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ак развивалась жизнь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332000" y="33336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цератоп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547640" y="189000"/>
            <a:ext cx="2953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плодо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55640" y="1052640"/>
            <a:ext cx="763272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нозавры вымерли примерно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5 миллионов лет назад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тому времени на Земле появилис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ообразные цветковые растения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также птицы и млекопитающ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00000" y="450864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и животные произошл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 древних пресмыкающихс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4360" y="333360"/>
            <a:ext cx="784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и птиц и зверей был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ного удивительных и неповторимы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40320" cy="5157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1557360"/>
            <a:ext cx="42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гающие птицы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ОРОРАК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и самыми грозными хищниками южно-американских саванн. Рост их достигал 2 метров. Они питались древними копытными нотоунгулятами, обитавшими только в Южной Америке. Жи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ОРОРАК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всего" 25 млн. лет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056360" cy="5853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124000" y="260280"/>
            <a:ext cx="511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лезубый тиг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4360" y="404640"/>
            <a:ext cx="755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льшерогий олен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2144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84360" y="404640"/>
            <a:ext cx="4103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мон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77744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95280" y="0"/>
          <a:ext cx="8353440" cy="6857640"/>
        </p:xfrm>
        <a:graphic>
          <a:graphicData uri="http://schemas.openxmlformats.org/drawingml/2006/table">
            <a:tbl>
              <a:tblPr/>
              <a:tblGrid>
                <a:gridCol w="1152360"/>
                <a:gridCol w="2303640"/>
                <a:gridCol w="2719440"/>
                <a:gridCol w="21780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ль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ния в  раститель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животном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изменения, касающиеся Зем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3,5 млр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500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350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225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65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907920"/>
          <a:ext cx="8353440" cy="728640"/>
        </p:xfrm>
        <a:graphic>
          <a:graphicData uri="http://schemas.openxmlformats.org/drawingml/2006/table">
            <a:tbl>
              <a:tblPr/>
              <a:tblGrid>
                <a:gridCol w="1152720"/>
                <a:gridCol w="2303280"/>
                <a:gridCol w="2719440"/>
                <a:gridCol w="2178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3,5 млр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кеане Земли началось развитие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95280" y="1628640"/>
          <a:ext cx="8353440" cy="1433520"/>
        </p:xfrm>
        <a:graphic>
          <a:graphicData uri="http://schemas.openxmlformats.org/drawingml/2006/table">
            <a:tbl>
              <a:tblPr/>
              <a:tblGrid>
                <a:gridCol w="1152720"/>
                <a:gridCol w="2303280"/>
                <a:gridCol w="2719440"/>
                <a:gridCol w="2178000"/>
              </a:tblGrid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500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океане   водились разнообразные водорос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кеане водились: медуз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аллы, морские лилии, трилобиты - дальние родственники раков, рыбы, среди которых хищник динихт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95280" y="3068640"/>
          <a:ext cx="8353440" cy="1431720"/>
        </p:xfrm>
        <a:graphic>
          <a:graphicData uri="http://schemas.openxmlformats.org/drawingml/2006/table">
            <a:tbl>
              <a:tblPr/>
              <a:tblGrid>
                <a:gridCol w="1152360"/>
                <a:gridCol w="2303640"/>
                <a:gridCol w="2719440"/>
                <a:gridCol w="2178000"/>
              </a:tblGrid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350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а состоят  из папоротников, хвощей  и  плау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есах ползали: скорпион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ножки; летали: стрекозы; в болотах хорошо чувствовали    себя    стегоцефалы, которые произошли от древних ры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ые    существа  заселили сушу. Отмирая,    растения образовы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ежи   каменного уг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95280" y="4508640"/>
          <a:ext cx="8353440" cy="892080"/>
        </p:xfrm>
        <a:graphic>
          <a:graphicData uri="http://schemas.openxmlformats.org/drawingml/2006/table">
            <a:tbl>
              <a:tblPr/>
              <a:tblGrid>
                <a:gridCol w="1152720"/>
                <a:gridCol w="2303280"/>
                <a:gridCol w="2719440"/>
                <a:gridCol w="21780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225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цвет       пресмык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озавры - одна из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евних пресмык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95280" y="5425920"/>
          <a:ext cx="8353440" cy="1432080"/>
        </p:xfrm>
        <a:graphic>
          <a:graphicData uri="http://schemas.openxmlformats.org/drawingml/2006/table">
            <a:tbl>
              <a:tblPr/>
              <a:tblGrid>
                <a:gridCol w="1152720"/>
                <a:gridCol w="2303280"/>
                <a:gridCol w="2719440"/>
                <a:gridCol w="2178000"/>
              </a:tblGrid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65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лет 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ились     разнообразные цветковые рас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озавры вымерли.  Появились  птицы  и   млекопитающие:   фороракос   -   хищная птица;     саблезубый     тигр; большерогий олень; ма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4195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80000" y="0"/>
            <a:ext cx="35640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7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500 млн. лет назад в океане водились разнообразные водоросли и всевозможные животные: медузы, кораллы, морские лилии. Особенно много было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рилобито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508640"/>
            <a:ext cx="88930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72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трилобиты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льние родственники ра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еты панцирем размеры- от 2 до 7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ли у дна, где медленно ползали и плав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же трилобиты полностью вымер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250200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3573360"/>
            <a:ext cx="8569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долго до появления динозавров в древних морях жили причудливые животные, которые напоминали сильно увеличенных мокриц. Ученые назвали их 'трехдольчатыми', или, что одно и то же,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рилобитами.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ни жили на Земле более 300 миллионов лет. Их окаменевшие панцири встречаются очень часто и иногда в большом количестве. 'Трехдольчатыми' их назвали не случайно. Тело трилобитов было разделено продольными бороздками на центральную и две боковые части. Оно состояло из множества сегментов, объединенных в три отдела: головной, туловищный и хвостовой. Все тело защищал прочный хитиновый панцирь. На голове у некоторых из них располагались два глаза, а также антенны, которыми трилобиты ощупывали дно. Под панцирем находились лапки, при помощи которых трилобиты могли передвига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80000" y="0"/>
            <a:ext cx="25862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00360" cy="6192720"/>
          </a:xfrm>
          <a:prstGeom prst="rect">
            <a:avLst/>
          </a:prstGeom>
          <a:ln w="76320">
            <a:solidFill>
              <a:srgbClr val="00ff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27280" y="3141720"/>
            <a:ext cx="471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инихтис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щник - гроза морских обита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омен - около 10 метров в длин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404640"/>
            <a:ext cx="43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1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 временем в морях появились различные рыбы, в том числе хищ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416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407664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инихтис – панцирная рыба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Слово 'динихтис' составлено из двух слов: дейнос' - страшный или ужасный и 'ихтис' - рыба.Все рыбы дышат при помощи жабр, и только некоторые из них имеют еще и легкие. Такие удивительные рыбы населяли моря, озера и реки миллионы лет назад и были очень многочисленны. Они почти полностью вымер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лов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инихтис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была одета в проч-ный панцирь - 'рыцарский шлем', состоящий из нескольких пластин. Зубов у нее не было, но широкие остроугольные пластины, которыми продолжались челюсти рыбы, резали как пила. А достигала эта рыба в длину ни много, ни мало - 10 метров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7640" y="189000"/>
            <a:ext cx="4419360" cy="612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0" y="476280"/>
            <a:ext cx="507672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степенно живые существа заселили и су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99"/>
                </a:solidFill>
                <a:latin typeface="Arial"/>
              </a:rPr>
              <a:t>Каменноугольный пери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350 млн. лет назад суша покрыта пышными ле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гигантские папоротники, хвощи и пл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многоножки, пауки, скорпионы, гигантские стрек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9:24:35Z</dcterms:created>
  <dc:creator>1</dc:creator>
  <dc:description/>
  <dc:language>en-US</dc:language>
  <cp:lastModifiedBy>xxx</cp:lastModifiedBy>
  <dcterms:modified xsi:type="dcterms:W3CDTF">2009-03-09T16:18:13Z</dcterms:modified>
  <cp:revision>23</cp:revision>
  <dc:subject/>
  <dc:title>Слайд 1</dc:title>
</cp:coreProperties>
</file>