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211-3E52-4FFE-B4AD-767EEA3A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7AC-79EB-4A20-BBD3-4A3BD21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CC4-D7CE-4314-880C-7E19724F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887-2681-4E04-BF22-A4B75CD0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368-3D96-449A-A953-677F936A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BD00-6338-4F2F-909C-F5464C13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9028-EB4C-4D2B-828A-DE2A7AEB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8AF1-B2A0-4CC0-BE50-4C9A9FD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A8DF-57C7-4426-B193-154587A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C3E3-77F0-4CB2-A6CB-B4A49AD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6A94-F0DA-45A1-8708-70A9F58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DB4-8329-45D7-B3EE-954BC54C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EEC-D8A2-469F-845A-995D3BB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B98E-2C88-445B-A69E-5F21DEA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F502-1207-4F0A-9DC1-2D25A02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AF64-7374-49E4-B4D0-764CDB7D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F7AD-8866-4B79-A4C5-CCEFA74F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910-ED99-46F9-AF91-FADBBE8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03E-2628-4CA9-B1C1-70EEDE08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908-F6BC-4284-A1BF-B17B69F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726-EC66-4971-AFFC-AA5F316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C74-A03D-406F-A097-9B9CC35B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951-5EE8-4B78-9DC3-E884D6E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FDA-7760-49D8-BEBA-C552CDE1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3C3-F594-4395-9262-A7D77A37AF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9810-509B-49B8-A30D-506859C759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Фетр – это материал, полученный техникой валяния пуха (тонкого волоса кролика), зайца, отхода меха пушных зверей, а также овечьей шер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527640" cy="26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295128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27352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042920" y="333360"/>
            <a:ext cx="7191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 ИСПОЛЬЗУЮТ ФЕТР?</a:t>
            </a:r>
            <a:endParaRPr b="0" lang="en-US" sz="44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2440080" cy="357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635280" y="2565360"/>
            <a:ext cx="2376720" cy="374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826920" y="450864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340000" y="98100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готавливаю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ляпы, сумки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увь,перчатк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00000" y="476280"/>
            <a:ext cx="718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корируют интерьер дома</a:t>
            </a:r>
            <a:endParaRPr b="0" lang="en-US" sz="44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952720" cy="207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16360" y="2565360"/>
            <a:ext cx="2202120" cy="273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168720" cy="2527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39640" y="1916280"/>
            <a:ext cx="3818160" cy="1966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1052640"/>
            <a:ext cx="826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Изготавливают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панно, картины, пледы, подушки, рамки для фо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дставки под горячую посуду, декорируют кружки, банк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403280" y="189000"/>
            <a:ext cx="56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фетра шьют игрушки и </a:t>
            </a:r>
            <a:endParaRPr b="0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навальные костюмы</a:t>
            </a:r>
            <a:endParaRPr b="0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2144520" cy="2878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788000" y="1557360"/>
            <a:ext cx="3241440" cy="2581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253836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403280" y="189000"/>
            <a:ext cx="639144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тр отлично подходит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создания украшений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лок, чехлов для гадже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2354040" cy="235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2734920" cy="231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756160" cy="21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227640" y="1916280"/>
            <a:ext cx="237672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2920" y="1325520"/>
            <a:ext cx="6873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-экологическая чист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-высокая технологичнос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-приклеивается, пришив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-режется без образования бахромы,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-сухая химчистка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-не отражает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-водоотталкивающая пропитка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-антимолевая, антистатическая обработки,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-высокая стойкость к истир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42920" y="404640"/>
            <a:ext cx="67914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ИМУЩЕСТВА ФЕТРА</a:t>
            </a:r>
            <a:endParaRPr b="0" lang="en-US" sz="4400" spc="1" strike="noStrike">
              <a:ln w="12600">
                <a:solidFill>
                  <a:srgbClr val="6600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9:24:11Z</dcterms:created>
  <dc:creator>user</dc:creator>
  <dc:description/>
  <dc:language>en-US</dc:language>
  <cp:lastModifiedBy>user</cp:lastModifiedBy>
  <dcterms:modified xsi:type="dcterms:W3CDTF">2013-10-22T11:34:13Z</dcterms:modified>
  <cp:revision>14</cp:revision>
  <dc:subject/>
  <dc:title>Слайд 1</dc:title>
</cp:coreProperties>
</file>