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F83-7D38-4059-A810-6696DFC3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763-E3D0-4811-819F-971075C7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9079-D11D-4AD3-9A4B-E90D0AAB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1C5-700A-4C69-8330-A4FFCAAC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D619-28BB-43A0-B258-D1798CC3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E9D4-B2E2-4BA9-977C-B9CA947D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6C8C-B52A-40D8-B6A8-1199A039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6171-4A0B-43AE-AB03-343B9C00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2E2E-079D-48AC-9392-DB470ACF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6883-A1A7-45DE-AC2C-7C6DB872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71CD-1676-48BE-B732-F24F99E4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3A3-3CD2-42EA-BC7C-2CB93F0E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8D20-FCD2-4D2A-8900-1998FE9F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82F8-DEA5-4269-89CD-1BBE99C4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35B3-1750-491F-9FAD-2210A680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3CD2-24B6-42C6-BD32-97A0980F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1CD9-AF95-4C72-94F0-9A449B18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58BE0-422D-4445-AAC7-23A34289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18524-EA61-4A50-BFB8-8659CEAE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B6B34-980C-481A-AAB1-70162A46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0FD4B-46A2-4757-94F0-D78B8BBB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9FD20-BE73-4EF0-8E95-30DE3F7F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742-54A2-4AF1-8FC2-F8E68D00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877D5-2CE5-4909-BE69-F95BF57C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34C8B-7E77-4530-B47F-CED33B41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F6F84-D9D6-41B9-B2C5-B43CF5F5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CE382-5D33-49B4-9D2E-86918486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7C181-7827-4B0C-B9C6-33B5B478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D3331-FE30-4D58-92F4-950E539D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93F67-4183-4E33-862B-13ED9883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D0468-3BC2-4BFE-A920-82C7F9B1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2CBDC-69FF-4321-A9DA-401511FD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32875-DBBC-4353-A699-47C4C66F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C49-3371-449D-AC06-70DE6927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3DA9A-1729-41BC-AB4E-8B4C32A3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66273-B403-45A8-B639-AD50E695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42E5A-94B9-465E-B348-BDDEC762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E8328-EB6C-4016-8D0C-4A5455D1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F15DE-B915-4FCE-A934-0BD03FCE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5821C-AB65-405D-88D7-7DA1F35D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7A08A-FF74-4E1F-9135-52AE9334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793A5-A9B0-45AB-BBFF-E60DD36F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67E41-7F0E-4146-809D-2142C05B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830-9FCC-4F6B-87FF-014CA39B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CE8-65AF-4DB5-91A0-3CA54502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BA9-C48D-452F-8DB5-581D7FAC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ECE-2147-4AC5-A1EF-15B24F4E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E9F-C8BA-42DD-8D19-F7377AF6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61F5-269D-47B8-BEF9-D36285681581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361E-188F-4C7D-9459-9D685BE51694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C452-DC00-42F1-A2AD-3EFA5F997FC1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0915-3FD3-4DD9-8A69-C1A72A755BF4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резентация на тему «Архиваторы»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Выполнил ученик 11 класса «А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МБОУ СОШ №15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Одеменин Евген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en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асибо за внима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152280" y="1295280"/>
            <a:ext cx="8839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ивато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являются одними из наиболее распространенных сервисных программ, предназначенные для архив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упаковки файлов путем сжатия информ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Courier New"/>
              </a:rPr>
              <a:t>Что такое архиваторы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266760" y="3352680"/>
            <a:ext cx="86104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ивный фай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специальным образом организованный файл, содержащий в себе один или несколько файлов в сжатом или несжатом виде и служебную информацию (имена файлов, дата и время их создания, размер и 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14480" y="9907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жатие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процесс преобразования информации, хранящейся в файле к виду, при котором уменьшается избыточность в ее представлении и соответственно требуется меньший объем памяти для хра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52280" y="257796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исходит сжатие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а счет устранения избыточности различными способами, например за счет упрощения кодов, исключения из них постоянных битов или представления повторяющихся символов в виде коэффициента повторения.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2280" y="455616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если в текстовом файле слово «мама» встречается 1000 раз, то размер НЕсжатого файла равен 4000 байт (4байта х 1000раз= 4000байт). Если же сжать этот файл, то архиватор  запишет слово «мама» в архив только один раз, но  при этом отметит, что это слово встречается 4000 раз. Таким образом наш текстовый файл сожмется приблизительно в 500 ра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24456"/>
                </a:solidFill>
                <a:latin typeface="Courier New"/>
              </a:rPr>
              <a:t>Сжатие информации.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24456"/>
                </a:solidFill>
                <a:latin typeface="Courier New"/>
              </a:rPr>
              <a:t>Сжатие информации.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24" name="Group 23"/>
          <p:cNvGrpSpPr/>
          <p:nvPr/>
        </p:nvGrpSpPr>
        <p:grpSpPr>
          <a:xfrm>
            <a:off x="114480" y="990720"/>
            <a:ext cx="8915400" cy="2143440"/>
            <a:chOff x="114480" y="990720"/>
            <a:chExt cx="8915400" cy="2143440"/>
          </a:xfrm>
        </p:grpSpPr>
        <p:sp>
          <p:nvSpPr>
            <p:cNvPr id="225" name="Text Box 2"/>
            <p:cNvSpPr/>
            <p:nvPr/>
          </p:nvSpPr>
          <p:spPr>
            <a:xfrm>
              <a:off x="114480" y="990720"/>
              <a:ext cx="8915400" cy="17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тепень сжатия информации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– это один из важнейших показателей архива. Характеризуется коэффициентом К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определяемым как отношение объема сжатого файла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к объему исходного файла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выраженное в процентах (%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Group 17"/>
            <p:cNvGrpSpPr/>
            <p:nvPr/>
          </p:nvGrpSpPr>
          <p:grpSpPr>
            <a:xfrm>
              <a:off x="6787800" y="2184120"/>
              <a:ext cx="2127600" cy="950040"/>
              <a:chOff x="6787800" y="2184120"/>
              <a:chExt cx="2127600" cy="950040"/>
            </a:xfrm>
          </p:grpSpPr>
          <p:sp>
            <p:nvSpPr>
              <p:cNvPr id="227" name="Rectangle 10"/>
              <p:cNvSpPr/>
              <p:nvPr/>
            </p:nvSpPr>
            <p:spPr>
              <a:xfrm>
                <a:off x="6787800" y="2458800"/>
                <a:ext cx="281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11"/>
              <p:cNvSpPr/>
              <p:nvPr/>
            </p:nvSpPr>
            <p:spPr>
              <a:xfrm>
                <a:off x="7456680" y="2184120"/>
                <a:ext cx="3088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12"/>
              <p:cNvSpPr/>
              <p:nvPr/>
            </p:nvSpPr>
            <p:spPr>
              <a:xfrm>
                <a:off x="7473960" y="2717640"/>
                <a:ext cx="2980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Text Box 13"/>
              <p:cNvSpPr/>
              <p:nvPr/>
            </p:nvSpPr>
            <p:spPr>
              <a:xfrm>
                <a:off x="7162200" y="2484000"/>
                <a:ext cx="172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15"/>
              <p:cNvSpPr/>
              <p:nvPr/>
            </p:nvSpPr>
            <p:spPr>
              <a:xfrm>
                <a:off x="7391160" y="2666880"/>
                <a:ext cx="38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7924680" y="2514600"/>
                <a:ext cx="990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·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0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24"/>
          <p:cNvGrpSpPr/>
          <p:nvPr/>
        </p:nvGrpSpPr>
        <p:grpSpPr>
          <a:xfrm>
            <a:off x="152280" y="3063600"/>
            <a:ext cx="4038840" cy="1776240"/>
            <a:chOff x="152280" y="3063600"/>
            <a:chExt cx="4038840" cy="1776240"/>
          </a:xfrm>
        </p:grpSpPr>
        <p:sp>
          <p:nvSpPr>
            <p:cNvPr id="234" name="Text Box 18"/>
            <p:cNvSpPr/>
            <p:nvPr/>
          </p:nvSpPr>
          <p:spPr>
            <a:xfrm>
              <a:off x="152280" y="3063600"/>
              <a:ext cx="4038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тепень сжатия зависит о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0"/>
            <p:cNvSpPr/>
            <p:nvPr/>
          </p:nvSpPr>
          <p:spPr>
            <a:xfrm>
              <a:off x="152280" y="3581280"/>
              <a:ext cx="38102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60000"/>
                </a:lnSpc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пользуемой програм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етода сжат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ипа исходного фай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25"/>
          <p:cNvGrpSpPr/>
          <p:nvPr/>
        </p:nvGrpSpPr>
        <p:grpSpPr>
          <a:xfrm>
            <a:off x="4648320" y="3063600"/>
            <a:ext cx="4267080" cy="2284560"/>
            <a:chOff x="4648320" y="3063600"/>
            <a:chExt cx="4267080" cy="2284560"/>
          </a:xfrm>
        </p:grpSpPr>
        <p:sp>
          <p:nvSpPr>
            <p:cNvPr id="237" name="Text Box 19"/>
            <p:cNvSpPr/>
            <p:nvPr/>
          </p:nvSpPr>
          <p:spPr>
            <a:xfrm>
              <a:off x="4648320" y="3063600"/>
              <a:ext cx="4267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иболее хорошо сжимаются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4724280" y="3505320"/>
              <a:ext cx="3810240" cy="18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графические файлы (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bmp, *.pn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некоторые другие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екстовые файлы (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doc, *.txt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xls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т.д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Text Box 22"/>
          <p:cNvSpPr/>
          <p:nvPr/>
        </p:nvSpPr>
        <p:spPr>
          <a:xfrm>
            <a:off x="152280" y="51055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охо сжимаю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файлы исполняемых программ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.exe, *.com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загрузочных модулей (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dl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пример) – 60-9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" dur="7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5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775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275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775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43080" y="42840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24456"/>
                </a:solidFill>
                <a:latin typeface="Courier New"/>
              </a:rPr>
              <a:t>Архиваторы.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304920" y="1214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распространенными в настоящее время архиваторами явля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28760" y="2143080"/>
          <a:ext cx="8229600" cy="392904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785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держиваемые форматы архив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rar, *.arj, *.ice, *.pak, *.zip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exe (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распаковывающие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многие друг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rar, *.arj, *.ice, *.pak, *.zip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exe (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распаковывающие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многие друг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Z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rar, *.arj, *.ice, *.pak, *.zip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exe (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распаковывающие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многие друг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71800" y="28548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24456"/>
                </a:solidFill>
                <a:latin typeface="Courier New"/>
              </a:rPr>
              <a:t>Архиваторы.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228600" y="914400"/>
            <a:ext cx="838188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егодня большинство пользователей работает с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inACE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inRAR (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ичем последний разработан в России). Это связано с тем, что оба эти архиватора использовать лучшие методы сжатия, по сравнению с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inZIP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. Кроме того, они позволяют создавать самораспаковывающиеся архивы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75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25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14440" y="14256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24456"/>
                </a:solidFill>
                <a:latin typeface="Courier New"/>
              </a:rPr>
              <a:t>WinRAR.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571840" y="64296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особенности программ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9480" y="1600200"/>
            <a:ext cx="8001000" cy="49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можность работы в двух режимах – полноэкранного интерактивного интерфейса и обычного интерфейса командной стро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держка других типов архивов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ra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.ar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смотр их содержимого, изменения и преобра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высокоэффективного метода сжат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i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епрерывный), увеличивающего степень сжатия на 10-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создания самораспаковывающихся и многотомных архи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щита архива от изменений паролем (блокиров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частичного или полного восстановления поврежденных архи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ие другие функции архиватора (более 15) можно найти в справочном руководст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75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25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7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20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7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2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7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2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700"/>
                            </p:stCondLst>
                            <p:childTnLst>
                              <p:par>
                                <p:cTn id="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ourier New"/>
              </a:rPr>
              <a:t>Самораспаковывающиеся архивы.</a:t>
            </a:r>
            <a:endParaRPr b="0" lang="en-US" sz="5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52280" y="4038480"/>
            <a:ext cx="88394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граммы-архиваторы позволяют создавать архивные файлы, для извлечения которых не требуются какие-либо программы, т.к. сами архивные файлы могут содержать программу распаковки. Такие файлы называю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амораспаковывающими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архивами. Чаще всего, такие архивы имеют расширение 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ex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азываются такие архивы – SF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рхивы (от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ting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ое   добавление,   именуемое   SF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дулем,   увеличивает    размер    архива   на   35 килобайт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95360" y="12193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ораспаковывающимися архив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загрузочный, исполняемый модуль, который способен к самостоятельной разархивации находящихся в нем файлов без использования программы архиват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rar"/>
          <p:cNvPicPr/>
          <p:nvPr/>
        </p:nvPicPr>
        <p:blipFill>
          <a:blip r:embed="rId1"/>
          <a:stretch/>
        </p:blipFill>
        <p:spPr>
          <a:xfrm>
            <a:off x="533520" y="2666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rar_sfx"/>
          <p:cNvPicPr/>
          <p:nvPr/>
        </p:nvPicPr>
        <p:blipFill>
          <a:blip r:embed="rId2"/>
          <a:stretch/>
        </p:blipFill>
        <p:spPr>
          <a:xfrm>
            <a:off x="6858000" y="27432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9"/>
          <p:cNvSpPr/>
          <p:nvPr/>
        </p:nvSpPr>
        <p:spPr>
          <a:xfrm>
            <a:off x="2209680" y="2743200"/>
            <a:ext cx="2286000" cy="1219320"/>
          </a:xfrm>
          <a:prstGeom prst="leftArrowCallout">
            <a:avLst>
              <a:gd name="adj1" fmla="val 14585"/>
              <a:gd name="adj2" fmla="val 15625"/>
              <a:gd name="adj3" fmla="val 29164"/>
              <a:gd name="adj4" fmla="val 71118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ч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хи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зданного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nR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10"/>
          <p:cNvSpPr/>
          <p:nvPr/>
        </p:nvSpPr>
        <p:spPr>
          <a:xfrm flipH="1">
            <a:off x="4648320" y="2743200"/>
            <a:ext cx="2133360" cy="1219320"/>
          </a:xfrm>
          <a:prstGeom prst="leftArrowCallout">
            <a:avLst>
              <a:gd name="adj1" fmla="val 14585"/>
              <a:gd name="adj2" fmla="val 15625"/>
              <a:gd name="adj3" fmla="val 27216"/>
              <a:gd name="adj4" fmla="val 71118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ч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FX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хи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зданного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nR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24456"/>
                </a:solidFill>
                <a:latin typeface="Courier New"/>
              </a:rPr>
              <a:t>Многотомные архивы.</a:t>
            </a:r>
            <a:endParaRPr b="0" lang="en-US" sz="4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43080" y="762120"/>
            <a:ext cx="84582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им из важнейших достоинств архивато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RA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возможность создания многотомных архивов, т.е. архивов  для размещения которых необходимо две и более дискет. На каждом из дисков размещается один или несколько том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же возможность работы с многотомными архивами может пригодится при работе в сети Интернет, точнее при работе с электронной почтой, когда существует лимит размера пис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43080" y="41911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отомный архи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архив «раздробленный» на некоторое количество частей (томов), при чем: первый том многотомного архива получает расширение *.rar, а расширения последующих томов нумеруются как *.r00, *.r01, *.r02 и т.д. до *.r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1:31:59Z</dcterms:created>
  <dc:creator>Отличник</dc:creator>
  <dc:description/>
  <dc:language>en-US</dc:language>
  <cp:lastModifiedBy>Home</cp:lastModifiedBy>
  <dcterms:modified xsi:type="dcterms:W3CDTF">2011-12-12T13:01:52Z</dcterms:modified>
  <cp:revision>26</cp:revision>
  <dc:subject/>
  <dc:title>Презентация PowerPoint</dc:title>
</cp:coreProperties>
</file>