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873-8068-47B7-8CBF-65C7BED1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5D5-3C56-46E0-AA6A-58D976C9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B8E-7A96-4FA7-87ED-866322C5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C0E-A777-4432-9056-9F7D4E50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A76-9C5D-4DB2-BE48-6A7C95EB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33F-8D5A-42C6-BFA8-EAAD6928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091-7CA4-4D8C-8040-18A0B0EE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C2F-9384-4825-B6B5-629F3BCA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587-ECB0-446B-822C-325DA2F0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5CA-0D6C-4C50-AEF4-E173B652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9F6-22E5-42CC-B84D-DC7A9940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852-6D88-4446-A039-A7C6E5AF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D5AC-6050-4C86-8CE8-BAC5089F9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148428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565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8360" y="2565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3933720"/>
            <a:ext cx="1439640" cy="755640"/>
          </a:xfrm>
          <a:custGeom>
            <a:avLst/>
            <a:gdLst/>
            <a:ahLst/>
            <a:rect l="l" t="t" r="r" b="b"/>
            <a:pathLst>
              <a:path w="907" h="476">
                <a:moveTo>
                  <a:pt x="0" y="136"/>
                </a:moveTo>
                <a:cubicBezTo>
                  <a:pt x="34" y="68"/>
                  <a:pt x="68" y="0"/>
                  <a:pt x="182" y="45"/>
                </a:cubicBezTo>
                <a:cubicBezTo>
                  <a:pt x="296" y="90"/>
                  <a:pt x="560" y="340"/>
                  <a:pt x="681" y="408"/>
                </a:cubicBezTo>
                <a:cubicBezTo>
                  <a:pt x="802" y="476"/>
                  <a:pt x="884" y="446"/>
                  <a:pt x="907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2781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2781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2120" y="3502080"/>
            <a:ext cx="1416240" cy="1008000"/>
          </a:xfrm>
          <a:custGeom>
            <a:avLst/>
            <a:gdLst/>
            <a:ahLst/>
            <a:rect l="l" t="t" r="r" b="b"/>
            <a:pathLst>
              <a:path w="892" h="635">
                <a:moveTo>
                  <a:pt x="30" y="589"/>
                </a:moveTo>
                <a:cubicBezTo>
                  <a:pt x="60" y="634"/>
                  <a:pt x="620" y="635"/>
                  <a:pt x="756" y="544"/>
                </a:cubicBezTo>
                <a:cubicBezTo>
                  <a:pt x="892" y="453"/>
                  <a:pt x="877" y="90"/>
                  <a:pt x="847" y="45"/>
                </a:cubicBezTo>
                <a:cubicBezTo>
                  <a:pt x="817" y="0"/>
                  <a:pt x="710" y="181"/>
                  <a:pt x="574" y="272"/>
                </a:cubicBezTo>
                <a:cubicBezTo>
                  <a:pt x="438" y="363"/>
                  <a:pt x="0" y="544"/>
                  <a:pt x="30" y="589"/>
                </a:cubicBezTo>
                <a:close/>
              </a:path>
            </a:pathLst>
          </a:custGeom>
          <a:solidFill>
            <a:srgbClr val="5f591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580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242100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2492280"/>
            <a:ext cx="2876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3760" y="3753000"/>
            <a:ext cx="1379520" cy="947520"/>
          </a:xfrm>
          <a:custGeom>
            <a:avLst/>
            <a:gdLst/>
            <a:ahLst/>
            <a:rect l="l" t="t" r="r" b="b"/>
            <a:pathLst>
              <a:path w="869" h="597">
                <a:moveTo>
                  <a:pt x="30" y="476"/>
                </a:moveTo>
                <a:cubicBezTo>
                  <a:pt x="0" y="453"/>
                  <a:pt x="454" y="461"/>
                  <a:pt x="575" y="386"/>
                </a:cubicBezTo>
                <a:cubicBezTo>
                  <a:pt x="696" y="311"/>
                  <a:pt x="726" y="0"/>
                  <a:pt x="756" y="23"/>
                </a:cubicBezTo>
                <a:cubicBezTo>
                  <a:pt x="786" y="46"/>
                  <a:pt x="869" y="447"/>
                  <a:pt x="756" y="522"/>
                </a:cubicBezTo>
                <a:cubicBezTo>
                  <a:pt x="643" y="597"/>
                  <a:pt x="60" y="499"/>
                  <a:pt x="30" y="476"/>
                </a:cubicBezTo>
                <a:close/>
              </a:path>
            </a:pathLst>
          </a:custGeom>
          <a:solidFill>
            <a:srgbClr val="5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213372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20500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2205000"/>
            <a:ext cx="2876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1341360"/>
            <a:ext cx="1441440" cy="216000"/>
          </a:xfrm>
          <a:custGeom>
            <a:avLst/>
            <a:gdLst/>
            <a:ahLst/>
            <a:rect l="l" t="t" r="r" b="b"/>
            <a:pathLst>
              <a:path w="908" h="136">
                <a:moveTo>
                  <a:pt x="0" y="136"/>
                </a:moveTo>
                <a:lnTo>
                  <a:pt x="182" y="0"/>
                </a:lnTo>
                <a:lnTo>
                  <a:pt x="817" y="0"/>
                </a:lnTo>
                <a:lnTo>
                  <a:pt x="908" y="136"/>
                </a:lnTo>
              </a:path>
            </a:pathLst>
          </a:custGeom>
          <a:solidFill>
            <a:srgbClr val="5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3513240"/>
            <a:ext cx="1176480" cy="672840"/>
          </a:xfrm>
          <a:custGeom>
            <a:avLst/>
            <a:gdLst/>
            <a:ahLst/>
            <a:rect l="l" t="t" r="r" b="b"/>
            <a:pathLst>
              <a:path w="741" h="424">
                <a:moveTo>
                  <a:pt x="635" y="38"/>
                </a:moveTo>
                <a:cubicBezTo>
                  <a:pt x="529" y="76"/>
                  <a:pt x="0" y="378"/>
                  <a:pt x="0" y="401"/>
                </a:cubicBezTo>
                <a:cubicBezTo>
                  <a:pt x="0" y="424"/>
                  <a:pt x="529" y="235"/>
                  <a:pt x="635" y="174"/>
                </a:cubicBezTo>
                <a:cubicBezTo>
                  <a:pt x="741" y="113"/>
                  <a:pt x="741" y="0"/>
                  <a:pt x="635" y="38"/>
                </a:cubicBezTo>
                <a:close/>
              </a:path>
            </a:pathLst>
          </a:custGeom>
          <a:solidFill>
            <a:srgbClr val="5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06064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206064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59160" y="3705120"/>
            <a:ext cx="1128960" cy="814320"/>
          </a:xfrm>
          <a:custGeom>
            <a:avLst/>
            <a:gdLst/>
            <a:ahLst/>
            <a:rect l="l" t="t" r="r" b="b"/>
            <a:pathLst>
              <a:path w="711" h="513">
                <a:moveTo>
                  <a:pt x="106" y="144"/>
                </a:moveTo>
                <a:cubicBezTo>
                  <a:pt x="212" y="61"/>
                  <a:pt x="681" y="0"/>
                  <a:pt x="696" y="7"/>
                </a:cubicBezTo>
                <a:cubicBezTo>
                  <a:pt x="711" y="14"/>
                  <a:pt x="303" y="106"/>
                  <a:pt x="197" y="189"/>
                </a:cubicBezTo>
                <a:cubicBezTo>
                  <a:pt x="91" y="272"/>
                  <a:pt x="68" y="513"/>
                  <a:pt x="61" y="506"/>
                </a:cubicBezTo>
                <a:cubicBezTo>
                  <a:pt x="54" y="499"/>
                  <a:pt x="0" y="227"/>
                  <a:pt x="106" y="144"/>
                </a:cubicBezTo>
                <a:close/>
              </a:path>
            </a:pathLst>
          </a:custGeom>
          <a:solidFill>
            <a:srgbClr val="6969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981000"/>
            <a:ext cx="1512720" cy="576360"/>
          </a:xfrm>
          <a:custGeom>
            <a:avLst/>
            <a:gdLst/>
            <a:ahLst/>
            <a:rect l="l" t="t" r="r" b="b"/>
            <a:pathLst>
              <a:path w="953" h="363">
                <a:moveTo>
                  <a:pt x="0" y="363"/>
                </a:moveTo>
                <a:lnTo>
                  <a:pt x="227" y="227"/>
                </a:lnTo>
                <a:lnTo>
                  <a:pt x="272" y="91"/>
                </a:lnTo>
                <a:lnTo>
                  <a:pt x="408" y="45"/>
                </a:lnTo>
                <a:lnTo>
                  <a:pt x="454" y="0"/>
                </a:lnTo>
                <a:lnTo>
                  <a:pt x="499" y="91"/>
                </a:lnTo>
                <a:lnTo>
                  <a:pt x="635" y="136"/>
                </a:lnTo>
                <a:lnTo>
                  <a:pt x="953" y="363"/>
                </a:lnTo>
                <a:lnTo>
                  <a:pt x="680" y="272"/>
                </a:lnTo>
                <a:lnTo>
                  <a:pt x="454" y="272"/>
                </a:lnTo>
                <a:lnTo>
                  <a:pt x="136" y="317"/>
                </a:lnTo>
                <a:lnTo>
                  <a:pt x="0" y="363"/>
                </a:lnTo>
                <a:close/>
              </a:path>
            </a:pathLst>
          </a:custGeom>
          <a:solidFill>
            <a:srgbClr val="5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206064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206064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500280"/>
            <a:ext cx="1081080" cy="865440"/>
          </a:xfrm>
          <a:custGeom>
            <a:avLst/>
            <a:gdLst/>
            <a:ahLst/>
            <a:rect l="l" t="t" r="r" b="b"/>
            <a:pathLst>
              <a:path w="681" h="545">
                <a:moveTo>
                  <a:pt x="0" y="545"/>
                </a:moveTo>
                <a:cubicBezTo>
                  <a:pt x="11" y="386"/>
                  <a:pt x="23" y="227"/>
                  <a:pt x="136" y="136"/>
                </a:cubicBezTo>
                <a:cubicBezTo>
                  <a:pt x="249" y="45"/>
                  <a:pt x="583" y="23"/>
                  <a:pt x="6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476280"/>
            <a:ext cx="1441440" cy="1081080"/>
          </a:xfrm>
          <a:custGeom>
            <a:avLst/>
            <a:gdLst/>
            <a:ahLst/>
            <a:rect l="l" t="t" r="r" b="b"/>
            <a:pathLst>
              <a:path w="908" h="681">
                <a:moveTo>
                  <a:pt x="0" y="681"/>
                </a:moveTo>
                <a:lnTo>
                  <a:pt x="182" y="545"/>
                </a:lnTo>
                <a:lnTo>
                  <a:pt x="272" y="363"/>
                </a:lnTo>
                <a:lnTo>
                  <a:pt x="318" y="182"/>
                </a:lnTo>
                <a:lnTo>
                  <a:pt x="318" y="91"/>
                </a:lnTo>
                <a:lnTo>
                  <a:pt x="454" y="0"/>
                </a:lnTo>
                <a:lnTo>
                  <a:pt x="499" y="91"/>
                </a:lnTo>
                <a:lnTo>
                  <a:pt x="590" y="182"/>
                </a:lnTo>
                <a:lnTo>
                  <a:pt x="635" y="454"/>
                </a:lnTo>
                <a:lnTo>
                  <a:pt x="908" y="681"/>
                </a:lnTo>
                <a:lnTo>
                  <a:pt x="635" y="590"/>
                </a:lnTo>
                <a:lnTo>
                  <a:pt x="318" y="590"/>
                </a:lnTo>
                <a:lnTo>
                  <a:pt x="0" y="681"/>
                </a:lnTo>
                <a:close/>
              </a:path>
            </a:pathLst>
          </a:custGeom>
          <a:solidFill>
            <a:srgbClr val="5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234936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2349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11520" y="3502080"/>
            <a:ext cx="2063880" cy="755640"/>
          </a:xfrm>
          <a:custGeom>
            <a:avLst/>
            <a:gdLst/>
            <a:ahLst/>
            <a:rect l="l" t="t" r="r" b="b"/>
            <a:pathLst>
              <a:path w="1300" h="476">
                <a:moveTo>
                  <a:pt x="15" y="453"/>
                </a:moveTo>
                <a:cubicBezTo>
                  <a:pt x="0" y="430"/>
                  <a:pt x="348" y="90"/>
                  <a:pt x="560" y="45"/>
                </a:cubicBezTo>
                <a:cubicBezTo>
                  <a:pt x="772" y="0"/>
                  <a:pt x="1270" y="158"/>
                  <a:pt x="1285" y="181"/>
                </a:cubicBezTo>
                <a:cubicBezTo>
                  <a:pt x="1300" y="204"/>
                  <a:pt x="862" y="136"/>
                  <a:pt x="650" y="181"/>
                </a:cubicBezTo>
                <a:cubicBezTo>
                  <a:pt x="438" y="226"/>
                  <a:pt x="30" y="476"/>
                  <a:pt x="15" y="453"/>
                </a:cubicBezTo>
                <a:close/>
              </a:path>
            </a:pathLst>
          </a:custGeom>
          <a:solidFill>
            <a:srgbClr val="98989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35280" y="-27000"/>
            <a:ext cx="1368360" cy="1655640"/>
          </a:xfrm>
          <a:custGeom>
            <a:avLst/>
            <a:gdLst/>
            <a:ahLst/>
            <a:rect l="l" t="t" r="r" b="b"/>
            <a:pathLst>
              <a:path w="862" h="1043">
                <a:moveTo>
                  <a:pt x="0" y="1043"/>
                </a:moveTo>
                <a:lnTo>
                  <a:pt x="227" y="816"/>
                </a:lnTo>
                <a:lnTo>
                  <a:pt x="363" y="544"/>
                </a:lnTo>
                <a:lnTo>
                  <a:pt x="363" y="227"/>
                </a:lnTo>
                <a:lnTo>
                  <a:pt x="454" y="90"/>
                </a:lnTo>
                <a:lnTo>
                  <a:pt x="363" y="45"/>
                </a:lnTo>
                <a:lnTo>
                  <a:pt x="182" y="136"/>
                </a:lnTo>
                <a:lnTo>
                  <a:pt x="136" y="363"/>
                </a:lnTo>
                <a:lnTo>
                  <a:pt x="91" y="227"/>
                </a:lnTo>
                <a:lnTo>
                  <a:pt x="182" y="45"/>
                </a:lnTo>
                <a:lnTo>
                  <a:pt x="454" y="0"/>
                </a:lnTo>
                <a:lnTo>
                  <a:pt x="545" y="45"/>
                </a:lnTo>
                <a:lnTo>
                  <a:pt x="726" y="45"/>
                </a:lnTo>
                <a:lnTo>
                  <a:pt x="817" y="136"/>
                </a:lnTo>
                <a:lnTo>
                  <a:pt x="635" y="90"/>
                </a:lnTo>
                <a:lnTo>
                  <a:pt x="590" y="181"/>
                </a:lnTo>
                <a:lnTo>
                  <a:pt x="635" y="408"/>
                </a:lnTo>
                <a:lnTo>
                  <a:pt x="635" y="635"/>
                </a:lnTo>
                <a:lnTo>
                  <a:pt x="635" y="816"/>
                </a:lnTo>
                <a:lnTo>
                  <a:pt x="862" y="952"/>
                </a:lnTo>
                <a:lnTo>
                  <a:pt x="499" y="907"/>
                </a:lnTo>
                <a:lnTo>
                  <a:pt x="46" y="952"/>
                </a:lnTo>
              </a:path>
            </a:pathLst>
          </a:custGeom>
          <a:solidFill>
            <a:srgbClr val="5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234936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3597120"/>
            <a:ext cx="1692000" cy="552600"/>
          </a:xfrm>
          <a:custGeom>
            <a:avLst/>
            <a:gdLst/>
            <a:ahLst/>
            <a:rect l="l" t="t" r="r" b="b"/>
            <a:pathLst>
              <a:path w="1066" h="348">
                <a:moveTo>
                  <a:pt x="0" y="348"/>
                </a:moveTo>
                <a:cubicBezTo>
                  <a:pt x="53" y="204"/>
                  <a:pt x="107" y="60"/>
                  <a:pt x="273" y="30"/>
                </a:cubicBezTo>
                <a:cubicBezTo>
                  <a:pt x="439" y="0"/>
                  <a:pt x="930" y="121"/>
                  <a:pt x="998" y="166"/>
                </a:cubicBezTo>
                <a:cubicBezTo>
                  <a:pt x="1066" y="211"/>
                  <a:pt x="873" y="256"/>
                  <a:pt x="681" y="3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6720" y="2276640"/>
            <a:ext cx="7164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64000" y="115920"/>
            <a:ext cx="1944720" cy="1512720"/>
          </a:xfrm>
          <a:custGeom>
            <a:avLst/>
            <a:gdLst/>
            <a:ahLst/>
            <a:rect l="l" t="t" r="r" b="b"/>
            <a:pathLst>
              <a:path w="1225" h="953">
                <a:moveTo>
                  <a:pt x="998" y="953"/>
                </a:moveTo>
                <a:lnTo>
                  <a:pt x="816" y="772"/>
                </a:lnTo>
                <a:lnTo>
                  <a:pt x="771" y="590"/>
                </a:lnTo>
                <a:lnTo>
                  <a:pt x="726" y="454"/>
                </a:lnTo>
                <a:lnTo>
                  <a:pt x="771" y="273"/>
                </a:lnTo>
                <a:lnTo>
                  <a:pt x="680" y="227"/>
                </a:lnTo>
                <a:lnTo>
                  <a:pt x="907" y="227"/>
                </a:lnTo>
                <a:lnTo>
                  <a:pt x="953" y="363"/>
                </a:lnTo>
                <a:lnTo>
                  <a:pt x="907" y="590"/>
                </a:lnTo>
                <a:lnTo>
                  <a:pt x="907" y="681"/>
                </a:lnTo>
                <a:lnTo>
                  <a:pt x="953" y="590"/>
                </a:lnTo>
                <a:lnTo>
                  <a:pt x="1043" y="409"/>
                </a:lnTo>
                <a:lnTo>
                  <a:pt x="1134" y="545"/>
                </a:lnTo>
                <a:lnTo>
                  <a:pt x="1043" y="636"/>
                </a:lnTo>
                <a:lnTo>
                  <a:pt x="1225" y="545"/>
                </a:lnTo>
                <a:lnTo>
                  <a:pt x="1134" y="409"/>
                </a:lnTo>
                <a:lnTo>
                  <a:pt x="1043" y="227"/>
                </a:lnTo>
                <a:lnTo>
                  <a:pt x="953" y="137"/>
                </a:lnTo>
                <a:lnTo>
                  <a:pt x="680" y="137"/>
                </a:lnTo>
                <a:lnTo>
                  <a:pt x="590" y="182"/>
                </a:lnTo>
                <a:lnTo>
                  <a:pt x="499" y="182"/>
                </a:lnTo>
                <a:lnTo>
                  <a:pt x="454" y="91"/>
                </a:lnTo>
                <a:lnTo>
                  <a:pt x="272" y="0"/>
                </a:lnTo>
                <a:lnTo>
                  <a:pt x="0" y="91"/>
                </a:lnTo>
                <a:lnTo>
                  <a:pt x="0" y="227"/>
                </a:lnTo>
                <a:lnTo>
                  <a:pt x="45" y="137"/>
                </a:lnTo>
                <a:lnTo>
                  <a:pt x="181" y="91"/>
                </a:lnTo>
                <a:lnTo>
                  <a:pt x="91" y="363"/>
                </a:lnTo>
                <a:lnTo>
                  <a:pt x="181" y="227"/>
                </a:lnTo>
                <a:lnTo>
                  <a:pt x="272" y="182"/>
                </a:lnTo>
                <a:lnTo>
                  <a:pt x="317" y="273"/>
                </a:lnTo>
                <a:lnTo>
                  <a:pt x="227" y="363"/>
                </a:lnTo>
                <a:lnTo>
                  <a:pt x="91" y="499"/>
                </a:lnTo>
                <a:lnTo>
                  <a:pt x="136" y="636"/>
                </a:lnTo>
                <a:lnTo>
                  <a:pt x="136" y="499"/>
                </a:lnTo>
                <a:lnTo>
                  <a:pt x="272" y="409"/>
                </a:lnTo>
                <a:lnTo>
                  <a:pt x="317" y="590"/>
                </a:lnTo>
                <a:lnTo>
                  <a:pt x="227" y="726"/>
                </a:lnTo>
                <a:lnTo>
                  <a:pt x="136" y="862"/>
                </a:lnTo>
                <a:lnTo>
                  <a:pt x="45" y="908"/>
                </a:lnTo>
                <a:lnTo>
                  <a:pt x="363" y="817"/>
                </a:lnTo>
                <a:lnTo>
                  <a:pt x="635" y="817"/>
                </a:lnTo>
                <a:lnTo>
                  <a:pt x="953" y="908"/>
                </a:lnTo>
              </a:path>
            </a:pathLst>
          </a:custGeom>
          <a:solidFill>
            <a:srgbClr val="5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2349360"/>
            <a:ext cx="21600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2349360"/>
            <a:ext cx="21600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573360"/>
            <a:ext cx="1116000" cy="719280"/>
          </a:xfrm>
          <a:custGeom>
            <a:avLst/>
            <a:gdLst/>
            <a:ahLst/>
            <a:rect l="l" t="t" r="r" b="b"/>
            <a:pathLst>
              <a:path w="703" h="453">
                <a:moveTo>
                  <a:pt x="0" y="0"/>
                </a:moveTo>
                <a:cubicBezTo>
                  <a:pt x="283" y="11"/>
                  <a:pt x="567" y="22"/>
                  <a:pt x="635" y="90"/>
                </a:cubicBezTo>
                <a:cubicBezTo>
                  <a:pt x="703" y="158"/>
                  <a:pt x="476" y="363"/>
                  <a:pt x="408" y="408"/>
                </a:cubicBezTo>
                <a:cubicBezTo>
                  <a:pt x="340" y="453"/>
                  <a:pt x="283" y="408"/>
                  <a:pt x="227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4000" y="836640"/>
            <a:ext cx="1512720" cy="792000"/>
          </a:xfrm>
          <a:custGeom>
            <a:avLst/>
            <a:gdLst/>
            <a:ahLst/>
            <a:rect l="l" t="t" r="r" b="b"/>
            <a:pathLst>
              <a:path w="953" h="499">
                <a:moveTo>
                  <a:pt x="0" y="499"/>
                </a:moveTo>
                <a:lnTo>
                  <a:pt x="317" y="272"/>
                </a:lnTo>
                <a:lnTo>
                  <a:pt x="317" y="91"/>
                </a:lnTo>
                <a:lnTo>
                  <a:pt x="408" y="0"/>
                </a:lnTo>
                <a:lnTo>
                  <a:pt x="544" y="0"/>
                </a:lnTo>
                <a:lnTo>
                  <a:pt x="680" y="136"/>
                </a:lnTo>
                <a:lnTo>
                  <a:pt x="726" y="318"/>
                </a:lnTo>
                <a:lnTo>
                  <a:pt x="953" y="454"/>
                </a:lnTo>
                <a:lnTo>
                  <a:pt x="635" y="363"/>
                </a:lnTo>
                <a:lnTo>
                  <a:pt x="317" y="363"/>
                </a:lnTo>
                <a:lnTo>
                  <a:pt x="45" y="454"/>
                </a:lnTo>
              </a:path>
            </a:pathLst>
          </a:custGeom>
          <a:solidFill>
            <a:srgbClr val="5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48000" y="2565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2565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716280"/>
            <a:ext cx="576360" cy="671400"/>
          </a:xfrm>
          <a:custGeom>
            <a:avLst/>
            <a:gdLst/>
            <a:ahLst/>
            <a:rect l="l" t="t" r="r" b="b"/>
            <a:pathLst>
              <a:path w="363" h="423">
                <a:moveTo>
                  <a:pt x="363" y="0"/>
                </a:moveTo>
                <a:cubicBezTo>
                  <a:pt x="279" y="151"/>
                  <a:pt x="196" y="303"/>
                  <a:pt x="136" y="363"/>
                </a:cubicBezTo>
                <a:cubicBezTo>
                  <a:pt x="76" y="423"/>
                  <a:pt x="15" y="378"/>
                  <a:pt x="0" y="3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1341360"/>
            <a:ext cx="1441440" cy="216000"/>
          </a:xfrm>
          <a:custGeom>
            <a:avLst/>
            <a:gdLst/>
            <a:ahLst/>
            <a:rect l="l" t="t" r="r" b="b"/>
            <a:pathLst>
              <a:path w="908" h="136">
                <a:moveTo>
                  <a:pt x="0" y="136"/>
                </a:moveTo>
                <a:lnTo>
                  <a:pt x="182" y="45"/>
                </a:lnTo>
                <a:lnTo>
                  <a:pt x="409" y="0"/>
                </a:lnTo>
                <a:lnTo>
                  <a:pt x="908" y="90"/>
                </a:lnTo>
                <a:lnTo>
                  <a:pt x="46" y="90"/>
                </a:lnTo>
              </a:path>
            </a:pathLst>
          </a:custGeom>
          <a:solidFill>
            <a:srgbClr val="5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206064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06064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7280" y="3849840"/>
            <a:ext cx="1009440" cy="671400"/>
          </a:xfrm>
          <a:custGeom>
            <a:avLst/>
            <a:gdLst/>
            <a:ahLst/>
            <a:rect l="l" t="t" r="r" b="b"/>
            <a:pathLst>
              <a:path w="636" h="423">
                <a:moveTo>
                  <a:pt x="636" y="7"/>
                </a:moveTo>
                <a:cubicBezTo>
                  <a:pt x="636" y="14"/>
                  <a:pt x="288" y="317"/>
                  <a:pt x="182" y="370"/>
                </a:cubicBezTo>
                <a:cubicBezTo>
                  <a:pt x="76" y="423"/>
                  <a:pt x="0" y="332"/>
                  <a:pt x="0" y="325"/>
                </a:cubicBezTo>
                <a:cubicBezTo>
                  <a:pt x="0" y="318"/>
                  <a:pt x="76" y="378"/>
                  <a:pt x="182" y="325"/>
                </a:cubicBezTo>
                <a:cubicBezTo>
                  <a:pt x="288" y="272"/>
                  <a:pt x="636" y="0"/>
                  <a:pt x="636" y="7"/>
                </a:cubicBezTo>
                <a:close/>
              </a:path>
            </a:pathLst>
          </a:custGeom>
          <a:solidFill>
            <a:srgbClr val="98989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112536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270828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270828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3753000"/>
            <a:ext cx="1439640" cy="396720"/>
          </a:xfrm>
          <a:custGeom>
            <a:avLst/>
            <a:gdLst/>
            <a:ahLst/>
            <a:rect l="l" t="t" r="r" b="b"/>
            <a:pathLst>
              <a:path w="907" h="250">
                <a:moveTo>
                  <a:pt x="0" y="114"/>
                </a:moveTo>
                <a:cubicBezTo>
                  <a:pt x="83" y="57"/>
                  <a:pt x="167" y="0"/>
                  <a:pt x="318" y="23"/>
                </a:cubicBezTo>
                <a:cubicBezTo>
                  <a:pt x="469" y="46"/>
                  <a:pt x="809" y="212"/>
                  <a:pt x="907" y="2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95008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2565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2565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284640"/>
            <a:ext cx="1800000" cy="1008000"/>
          </a:xfrm>
          <a:custGeom>
            <a:avLst/>
            <a:gdLst/>
            <a:ahLst/>
            <a:rect l="l" t="t" r="r" b="b"/>
            <a:pathLst>
              <a:path w="1134" h="635">
                <a:moveTo>
                  <a:pt x="0" y="635"/>
                </a:moveTo>
                <a:cubicBezTo>
                  <a:pt x="56" y="578"/>
                  <a:pt x="113" y="522"/>
                  <a:pt x="272" y="454"/>
                </a:cubicBezTo>
                <a:cubicBezTo>
                  <a:pt x="431" y="386"/>
                  <a:pt x="808" y="303"/>
                  <a:pt x="952" y="227"/>
                </a:cubicBezTo>
                <a:cubicBezTo>
                  <a:pt x="1096" y="151"/>
                  <a:pt x="1115" y="75"/>
                  <a:pt x="1134" y="0"/>
                </a:cubicBezTo>
              </a:path>
            </a:pathLst>
          </a:custGeom>
          <a:solidFill>
            <a:srgbClr val="98989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2997360"/>
            <a:ext cx="503280" cy="623880"/>
          </a:xfrm>
          <a:custGeom>
            <a:avLst/>
            <a:gdLst/>
            <a:ahLst/>
            <a:rect l="l" t="t" r="r" b="b"/>
            <a:pathLst>
              <a:path w="317" h="393">
                <a:moveTo>
                  <a:pt x="0" y="0"/>
                </a:moveTo>
                <a:cubicBezTo>
                  <a:pt x="113" y="106"/>
                  <a:pt x="227" y="212"/>
                  <a:pt x="272" y="272"/>
                </a:cubicBezTo>
                <a:cubicBezTo>
                  <a:pt x="317" y="332"/>
                  <a:pt x="317" y="393"/>
                  <a:pt x="272" y="363"/>
                </a:cubicBezTo>
                <a:cubicBezTo>
                  <a:pt x="227" y="333"/>
                  <a:pt x="113" y="212"/>
                  <a:pt x="0" y="91"/>
                </a:cubicBez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2708280"/>
            <a:ext cx="287640" cy="480960"/>
          </a:xfrm>
          <a:custGeom>
            <a:avLst/>
            <a:gdLst/>
            <a:ahLst/>
            <a:rect l="l" t="t" r="r" b="b"/>
            <a:pathLst>
              <a:path w="181" h="303">
                <a:moveTo>
                  <a:pt x="181" y="0"/>
                </a:moveTo>
                <a:cubicBezTo>
                  <a:pt x="90" y="121"/>
                  <a:pt x="0" y="243"/>
                  <a:pt x="0" y="273"/>
                </a:cubicBezTo>
                <a:cubicBezTo>
                  <a:pt x="0" y="303"/>
                  <a:pt x="144" y="212"/>
                  <a:pt x="181" y="182"/>
                </a:cubicBez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620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19640" y="2565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2565360"/>
            <a:ext cx="2876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350028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0" y="363"/>
                </a:moveTo>
                <a:cubicBezTo>
                  <a:pt x="211" y="348"/>
                  <a:pt x="423" y="333"/>
                  <a:pt x="589" y="273"/>
                </a:cubicBezTo>
                <a:cubicBezTo>
                  <a:pt x="755" y="213"/>
                  <a:pt x="937" y="23"/>
                  <a:pt x="99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3213000"/>
            <a:ext cx="216000" cy="1152720"/>
          </a:xfrm>
          <a:custGeom>
            <a:avLst/>
            <a:gdLst/>
            <a:ahLst/>
            <a:rect l="l" t="t" r="r" b="b"/>
            <a:pathLst>
              <a:path w="136" h="726">
                <a:moveTo>
                  <a:pt x="136" y="0"/>
                </a:moveTo>
                <a:lnTo>
                  <a:pt x="0" y="317"/>
                </a:lnTo>
                <a:lnTo>
                  <a:pt x="0" y="726"/>
                </a:lnTo>
                <a:lnTo>
                  <a:pt x="90" y="317"/>
                </a:lnTo>
                <a:lnTo>
                  <a:pt x="136" y="227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2997360"/>
            <a:ext cx="287280" cy="1368360"/>
          </a:xfrm>
          <a:custGeom>
            <a:avLst/>
            <a:gdLst/>
            <a:ahLst/>
            <a:rect l="l" t="t" r="r" b="b"/>
            <a:pathLst>
              <a:path w="181" h="862">
                <a:moveTo>
                  <a:pt x="0" y="0"/>
                </a:moveTo>
                <a:lnTo>
                  <a:pt x="181" y="363"/>
                </a:lnTo>
                <a:lnTo>
                  <a:pt x="136" y="862"/>
                </a:lnTo>
                <a:lnTo>
                  <a:pt x="90" y="726"/>
                </a:lnTo>
                <a:lnTo>
                  <a:pt x="45" y="816"/>
                </a:lnTo>
                <a:lnTo>
                  <a:pt x="90" y="408"/>
                </a:lnTo>
                <a:lnTo>
                  <a:pt x="0" y="272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349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76720" y="2349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3692520"/>
            <a:ext cx="1368360" cy="949320"/>
          </a:xfrm>
          <a:custGeom>
            <a:avLst/>
            <a:gdLst/>
            <a:ahLst/>
            <a:rect l="l" t="t" r="r" b="b"/>
            <a:pathLst>
              <a:path w="862" h="598">
                <a:moveTo>
                  <a:pt x="0" y="242"/>
                </a:moveTo>
                <a:cubicBezTo>
                  <a:pt x="0" y="257"/>
                  <a:pt x="219" y="598"/>
                  <a:pt x="363" y="560"/>
                </a:cubicBezTo>
                <a:cubicBezTo>
                  <a:pt x="507" y="522"/>
                  <a:pt x="862" y="30"/>
                  <a:pt x="862" y="15"/>
                </a:cubicBezTo>
                <a:cubicBezTo>
                  <a:pt x="862" y="0"/>
                  <a:pt x="507" y="431"/>
                  <a:pt x="363" y="469"/>
                </a:cubicBezTo>
                <a:cubicBezTo>
                  <a:pt x="219" y="507"/>
                  <a:pt x="0" y="227"/>
                  <a:pt x="0" y="24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2852640"/>
            <a:ext cx="792000" cy="505080"/>
          </a:xfrm>
          <a:custGeom>
            <a:avLst/>
            <a:gdLst/>
            <a:ahLst/>
            <a:rect l="l" t="t" r="r" b="b"/>
            <a:pathLst>
              <a:path w="499" h="318">
                <a:moveTo>
                  <a:pt x="499" y="182"/>
                </a:moveTo>
                <a:lnTo>
                  <a:pt x="317" y="182"/>
                </a:lnTo>
                <a:lnTo>
                  <a:pt x="136" y="0"/>
                </a:lnTo>
                <a:lnTo>
                  <a:pt x="136" y="91"/>
                </a:lnTo>
                <a:lnTo>
                  <a:pt x="0" y="0"/>
                </a:lnTo>
                <a:lnTo>
                  <a:pt x="272" y="318"/>
                </a:lnTo>
                <a:lnTo>
                  <a:pt x="499" y="272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2997360"/>
            <a:ext cx="503280" cy="1439640"/>
          </a:xfrm>
          <a:custGeom>
            <a:avLst/>
            <a:gdLst/>
            <a:ahLst/>
            <a:rect l="l" t="t" r="r" b="b"/>
            <a:pathLst>
              <a:path w="317" h="907">
                <a:moveTo>
                  <a:pt x="0" y="0"/>
                </a:moveTo>
                <a:lnTo>
                  <a:pt x="272" y="272"/>
                </a:lnTo>
                <a:lnTo>
                  <a:pt x="317" y="816"/>
                </a:lnTo>
                <a:lnTo>
                  <a:pt x="226" y="726"/>
                </a:lnTo>
                <a:lnTo>
                  <a:pt x="226" y="907"/>
                </a:lnTo>
                <a:lnTo>
                  <a:pt x="136" y="408"/>
                </a:lnTo>
                <a:lnTo>
                  <a:pt x="0" y="272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108000" y="-108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3640" y="242100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3640" y="2421000"/>
            <a:ext cx="2876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4000" y="3789360"/>
            <a:ext cx="936720" cy="658800"/>
          </a:xfrm>
          <a:custGeom>
            <a:avLst/>
            <a:gdLst/>
            <a:ahLst/>
            <a:rect l="l" t="t" r="r" b="b"/>
            <a:pathLst>
              <a:path w="590" h="415">
                <a:moveTo>
                  <a:pt x="0" y="0"/>
                </a:moveTo>
                <a:cubicBezTo>
                  <a:pt x="109" y="200"/>
                  <a:pt x="219" y="401"/>
                  <a:pt x="317" y="408"/>
                </a:cubicBezTo>
                <a:cubicBezTo>
                  <a:pt x="415" y="415"/>
                  <a:pt x="545" y="113"/>
                  <a:pt x="59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24000" y="1773360"/>
            <a:ext cx="360360" cy="1584360"/>
          </a:xfrm>
          <a:custGeom>
            <a:avLst/>
            <a:gdLst/>
            <a:ahLst/>
            <a:rect l="l" t="t" r="r" b="b"/>
            <a:pathLst>
              <a:path w="227" h="998">
                <a:moveTo>
                  <a:pt x="227" y="862"/>
                </a:moveTo>
                <a:lnTo>
                  <a:pt x="91" y="589"/>
                </a:lnTo>
                <a:lnTo>
                  <a:pt x="181" y="181"/>
                </a:lnTo>
                <a:lnTo>
                  <a:pt x="91" y="227"/>
                </a:lnTo>
                <a:lnTo>
                  <a:pt x="91" y="90"/>
                </a:lnTo>
                <a:lnTo>
                  <a:pt x="91" y="0"/>
                </a:lnTo>
                <a:lnTo>
                  <a:pt x="0" y="544"/>
                </a:lnTo>
                <a:lnTo>
                  <a:pt x="91" y="862"/>
                </a:lnTo>
                <a:lnTo>
                  <a:pt x="227" y="998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00720" y="3068640"/>
            <a:ext cx="576360" cy="1224000"/>
          </a:xfrm>
          <a:custGeom>
            <a:avLst/>
            <a:gdLst/>
            <a:ahLst/>
            <a:rect l="l" t="t" r="r" b="b"/>
            <a:pathLst>
              <a:path w="363" h="771">
                <a:moveTo>
                  <a:pt x="0" y="0"/>
                </a:moveTo>
                <a:lnTo>
                  <a:pt x="272" y="453"/>
                </a:lnTo>
                <a:lnTo>
                  <a:pt x="363" y="771"/>
                </a:lnTo>
                <a:lnTo>
                  <a:pt x="272" y="635"/>
                </a:lnTo>
                <a:lnTo>
                  <a:pt x="226" y="726"/>
                </a:lnTo>
                <a:lnTo>
                  <a:pt x="136" y="453"/>
                </a:lnTo>
                <a:lnTo>
                  <a:pt x="0" y="272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989000"/>
            <a:ext cx="431640" cy="432000"/>
          </a:xfrm>
          <a:prstGeom prst="sun">
            <a:avLst>
              <a:gd name="adj" fmla="val 25000"/>
            </a:avLst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263700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263700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3789360"/>
            <a:ext cx="936720" cy="658800"/>
          </a:xfrm>
          <a:custGeom>
            <a:avLst/>
            <a:gdLst/>
            <a:ahLst/>
            <a:rect l="l" t="t" r="r" b="b"/>
            <a:pathLst>
              <a:path w="590" h="415">
                <a:moveTo>
                  <a:pt x="0" y="0"/>
                </a:moveTo>
                <a:cubicBezTo>
                  <a:pt x="109" y="200"/>
                  <a:pt x="219" y="401"/>
                  <a:pt x="317" y="408"/>
                </a:cubicBezTo>
                <a:cubicBezTo>
                  <a:pt x="415" y="415"/>
                  <a:pt x="545" y="113"/>
                  <a:pt x="59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406800">
            <a:off x="2117520" y="1781280"/>
            <a:ext cx="502920" cy="1655640"/>
          </a:xfrm>
          <a:custGeom>
            <a:avLst/>
            <a:gdLst/>
            <a:ahLst/>
            <a:rect l="l" t="t" r="r" b="b"/>
            <a:pathLst>
              <a:path w="227" h="998">
                <a:moveTo>
                  <a:pt x="227" y="862"/>
                </a:moveTo>
                <a:lnTo>
                  <a:pt x="91" y="589"/>
                </a:lnTo>
                <a:lnTo>
                  <a:pt x="181" y="181"/>
                </a:lnTo>
                <a:lnTo>
                  <a:pt x="91" y="227"/>
                </a:lnTo>
                <a:lnTo>
                  <a:pt x="91" y="90"/>
                </a:lnTo>
                <a:lnTo>
                  <a:pt x="91" y="0"/>
                </a:lnTo>
                <a:lnTo>
                  <a:pt x="0" y="544"/>
                </a:lnTo>
                <a:lnTo>
                  <a:pt x="91" y="862"/>
                </a:lnTo>
                <a:lnTo>
                  <a:pt x="227" y="998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3068640"/>
            <a:ext cx="576360" cy="1224000"/>
          </a:xfrm>
          <a:custGeom>
            <a:avLst/>
            <a:gdLst/>
            <a:ahLst/>
            <a:rect l="l" t="t" r="r" b="b"/>
            <a:pathLst>
              <a:path w="363" h="771">
                <a:moveTo>
                  <a:pt x="0" y="0"/>
                </a:moveTo>
                <a:lnTo>
                  <a:pt x="272" y="453"/>
                </a:lnTo>
                <a:lnTo>
                  <a:pt x="363" y="771"/>
                </a:lnTo>
                <a:lnTo>
                  <a:pt x="272" y="635"/>
                </a:lnTo>
                <a:lnTo>
                  <a:pt x="226" y="726"/>
                </a:lnTo>
                <a:lnTo>
                  <a:pt x="136" y="453"/>
                </a:lnTo>
                <a:lnTo>
                  <a:pt x="0" y="272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3141720"/>
            <a:ext cx="1008000" cy="1079280"/>
          </a:xfrm>
          <a:prstGeom prst="sun">
            <a:avLst>
              <a:gd name="adj" fmla="val 25000"/>
            </a:avLst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21474000">
            <a:off x="248400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21468600">
            <a:off x="320328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468600">
            <a:off x="500328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1448800">
            <a:off x="3276360" y="278100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1448800">
            <a:off x="5076360" y="278100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1467400">
            <a:off x="3564000" y="3789360"/>
            <a:ext cx="936720" cy="658800"/>
          </a:xfrm>
          <a:custGeom>
            <a:avLst/>
            <a:gdLst/>
            <a:ahLst/>
            <a:rect l="l" t="t" r="r" b="b"/>
            <a:pathLst>
              <a:path w="590" h="415">
                <a:moveTo>
                  <a:pt x="0" y="0"/>
                </a:moveTo>
                <a:cubicBezTo>
                  <a:pt x="109" y="200"/>
                  <a:pt x="219" y="401"/>
                  <a:pt x="317" y="408"/>
                </a:cubicBezTo>
                <a:cubicBezTo>
                  <a:pt x="415" y="415"/>
                  <a:pt x="545" y="113"/>
                  <a:pt x="59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17880" y="1781280"/>
            <a:ext cx="502920" cy="1655640"/>
          </a:xfrm>
          <a:custGeom>
            <a:avLst/>
            <a:gdLst/>
            <a:ahLst/>
            <a:rect l="l" t="t" r="r" b="b"/>
            <a:pathLst>
              <a:path w="227" h="998">
                <a:moveTo>
                  <a:pt x="227" y="862"/>
                </a:moveTo>
                <a:lnTo>
                  <a:pt x="91" y="589"/>
                </a:lnTo>
                <a:lnTo>
                  <a:pt x="181" y="181"/>
                </a:lnTo>
                <a:lnTo>
                  <a:pt x="91" y="227"/>
                </a:lnTo>
                <a:lnTo>
                  <a:pt x="91" y="90"/>
                </a:lnTo>
                <a:lnTo>
                  <a:pt x="91" y="0"/>
                </a:lnTo>
                <a:lnTo>
                  <a:pt x="0" y="544"/>
                </a:lnTo>
                <a:lnTo>
                  <a:pt x="91" y="862"/>
                </a:lnTo>
                <a:lnTo>
                  <a:pt x="227" y="998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1466200">
            <a:off x="6300360" y="3068280"/>
            <a:ext cx="576360" cy="1224000"/>
          </a:xfrm>
          <a:custGeom>
            <a:avLst/>
            <a:gdLst/>
            <a:ahLst/>
            <a:rect l="l" t="t" r="r" b="b"/>
            <a:pathLst>
              <a:path w="363" h="771">
                <a:moveTo>
                  <a:pt x="0" y="0"/>
                </a:moveTo>
                <a:lnTo>
                  <a:pt x="272" y="453"/>
                </a:lnTo>
                <a:lnTo>
                  <a:pt x="363" y="771"/>
                </a:lnTo>
                <a:lnTo>
                  <a:pt x="272" y="635"/>
                </a:lnTo>
                <a:lnTo>
                  <a:pt x="226" y="726"/>
                </a:lnTo>
                <a:lnTo>
                  <a:pt x="136" y="453"/>
                </a:lnTo>
                <a:lnTo>
                  <a:pt x="0" y="272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95640" y="3429000"/>
            <a:ext cx="2881080" cy="2664000"/>
          </a:xfrm>
          <a:prstGeom prst="sun">
            <a:avLst>
              <a:gd name="adj" fmla="val 25000"/>
            </a:avLst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rot="21474000">
            <a:off x="248400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1468600">
            <a:off x="320328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1468600">
            <a:off x="500328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21448800">
            <a:off x="3347640" y="206028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1448800">
            <a:off x="5148000" y="206028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1467400">
            <a:off x="3564000" y="3789360"/>
            <a:ext cx="936720" cy="658800"/>
          </a:xfrm>
          <a:custGeom>
            <a:avLst/>
            <a:gdLst/>
            <a:ahLst/>
            <a:rect l="l" t="t" r="r" b="b"/>
            <a:pathLst>
              <a:path w="590" h="415">
                <a:moveTo>
                  <a:pt x="0" y="0"/>
                </a:moveTo>
                <a:cubicBezTo>
                  <a:pt x="109" y="200"/>
                  <a:pt x="219" y="401"/>
                  <a:pt x="317" y="408"/>
                </a:cubicBezTo>
                <a:cubicBezTo>
                  <a:pt x="415" y="415"/>
                  <a:pt x="545" y="113"/>
                  <a:pt x="59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0713800">
            <a:off x="2117880" y="1780920"/>
            <a:ext cx="502920" cy="1655640"/>
          </a:xfrm>
          <a:custGeom>
            <a:avLst/>
            <a:gdLst/>
            <a:ahLst/>
            <a:rect l="l" t="t" r="r" b="b"/>
            <a:pathLst>
              <a:path w="227" h="998">
                <a:moveTo>
                  <a:pt x="227" y="862"/>
                </a:moveTo>
                <a:lnTo>
                  <a:pt x="91" y="589"/>
                </a:lnTo>
                <a:lnTo>
                  <a:pt x="181" y="181"/>
                </a:lnTo>
                <a:lnTo>
                  <a:pt x="91" y="227"/>
                </a:lnTo>
                <a:lnTo>
                  <a:pt x="91" y="90"/>
                </a:lnTo>
                <a:lnTo>
                  <a:pt x="91" y="0"/>
                </a:lnTo>
                <a:lnTo>
                  <a:pt x="0" y="544"/>
                </a:lnTo>
                <a:lnTo>
                  <a:pt x="91" y="862"/>
                </a:lnTo>
                <a:lnTo>
                  <a:pt x="227" y="998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21466200">
            <a:off x="6300360" y="3068280"/>
            <a:ext cx="576360" cy="1224000"/>
          </a:xfrm>
          <a:custGeom>
            <a:avLst/>
            <a:gdLst/>
            <a:ahLst/>
            <a:rect l="l" t="t" r="r" b="b"/>
            <a:pathLst>
              <a:path w="363" h="771">
                <a:moveTo>
                  <a:pt x="0" y="0"/>
                </a:moveTo>
                <a:lnTo>
                  <a:pt x="272" y="453"/>
                </a:lnTo>
                <a:lnTo>
                  <a:pt x="363" y="771"/>
                </a:lnTo>
                <a:lnTo>
                  <a:pt x="272" y="635"/>
                </a:lnTo>
                <a:lnTo>
                  <a:pt x="226" y="726"/>
                </a:lnTo>
                <a:lnTo>
                  <a:pt x="136" y="453"/>
                </a:lnTo>
                <a:lnTo>
                  <a:pt x="0" y="272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1628640"/>
            <a:ext cx="4032000" cy="3888000"/>
          </a:xfrm>
          <a:prstGeom prst="sun">
            <a:avLst>
              <a:gd name="adj" fmla="val 25000"/>
            </a:avLst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rot="21474000">
            <a:off x="248400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68600">
            <a:off x="3276360" y="2133720"/>
            <a:ext cx="57600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1448800">
            <a:off x="3276360" y="263664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1467400">
            <a:off x="3564000" y="3789360"/>
            <a:ext cx="936720" cy="658800"/>
          </a:xfrm>
          <a:custGeom>
            <a:avLst/>
            <a:gdLst/>
            <a:ahLst/>
            <a:rect l="l" t="t" r="r" b="b"/>
            <a:pathLst>
              <a:path w="590" h="415">
                <a:moveTo>
                  <a:pt x="0" y="0"/>
                </a:moveTo>
                <a:cubicBezTo>
                  <a:pt x="109" y="200"/>
                  <a:pt x="219" y="401"/>
                  <a:pt x="317" y="408"/>
                </a:cubicBezTo>
                <a:cubicBezTo>
                  <a:pt x="415" y="415"/>
                  <a:pt x="545" y="113"/>
                  <a:pt x="59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957800">
            <a:off x="1907640" y="1773360"/>
            <a:ext cx="503280" cy="1655640"/>
          </a:xfrm>
          <a:custGeom>
            <a:avLst/>
            <a:gdLst/>
            <a:ahLst/>
            <a:rect l="l" t="t" r="r" b="b"/>
            <a:pathLst>
              <a:path w="227" h="998">
                <a:moveTo>
                  <a:pt x="227" y="862"/>
                </a:moveTo>
                <a:lnTo>
                  <a:pt x="91" y="589"/>
                </a:lnTo>
                <a:lnTo>
                  <a:pt x="181" y="181"/>
                </a:lnTo>
                <a:lnTo>
                  <a:pt x="91" y="227"/>
                </a:lnTo>
                <a:lnTo>
                  <a:pt x="91" y="90"/>
                </a:lnTo>
                <a:lnTo>
                  <a:pt x="91" y="0"/>
                </a:lnTo>
                <a:lnTo>
                  <a:pt x="0" y="544"/>
                </a:lnTo>
                <a:lnTo>
                  <a:pt x="91" y="862"/>
                </a:lnTo>
                <a:lnTo>
                  <a:pt x="227" y="998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1466200">
            <a:off x="6300360" y="3068280"/>
            <a:ext cx="576360" cy="1224000"/>
          </a:xfrm>
          <a:custGeom>
            <a:avLst/>
            <a:gdLst/>
            <a:ahLst/>
            <a:rect l="l" t="t" r="r" b="b"/>
            <a:pathLst>
              <a:path w="363" h="771">
                <a:moveTo>
                  <a:pt x="0" y="0"/>
                </a:moveTo>
                <a:lnTo>
                  <a:pt x="272" y="453"/>
                </a:lnTo>
                <a:lnTo>
                  <a:pt x="363" y="771"/>
                </a:lnTo>
                <a:lnTo>
                  <a:pt x="272" y="635"/>
                </a:lnTo>
                <a:lnTo>
                  <a:pt x="226" y="726"/>
                </a:lnTo>
                <a:lnTo>
                  <a:pt x="136" y="453"/>
                </a:lnTo>
                <a:lnTo>
                  <a:pt x="0" y="272"/>
                </a:lnTo>
              </a:path>
            </a:pathLst>
          </a:custGeom>
          <a:solidFill>
            <a:srgbClr val="fef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-603360"/>
            <a:ext cx="7848720" cy="7848720"/>
          </a:xfrm>
          <a:prstGeom prst="sun">
            <a:avLst>
              <a:gd name="adj" fmla="val 25000"/>
            </a:avLst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468600">
            <a:off x="4932000" y="213372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1448800">
            <a:off x="5003280" y="2565000"/>
            <a:ext cx="2876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21468600">
            <a:off x="3276360" y="2060640"/>
            <a:ext cx="57600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21448800">
            <a:off x="3344400" y="2487240"/>
            <a:ext cx="29052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56000" y="3824280"/>
            <a:ext cx="1704960" cy="1165320"/>
          </a:xfrm>
          <a:custGeom>
            <a:avLst/>
            <a:gdLst/>
            <a:ahLst/>
            <a:rect l="l" t="t" r="r" b="b"/>
            <a:pathLst>
              <a:path w="1074" h="734">
                <a:moveTo>
                  <a:pt x="23" y="23"/>
                </a:moveTo>
                <a:cubicBezTo>
                  <a:pt x="0" y="16"/>
                  <a:pt x="197" y="371"/>
                  <a:pt x="295" y="477"/>
                </a:cubicBezTo>
                <a:cubicBezTo>
                  <a:pt x="393" y="583"/>
                  <a:pt x="484" y="734"/>
                  <a:pt x="612" y="658"/>
                </a:cubicBezTo>
                <a:cubicBezTo>
                  <a:pt x="740" y="582"/>
                  <a:pt x="1058" y="46"/>
                  <a:pt x="1066" y="23"/>
                </a:cubicBezTo>
                <a:cubicBezTo>
                  <a:pt x="1074" y="0"/>
                  <a:pt x="764" y="439"/>
                  <a:pt x="658" y="522"/>
                </a:cubicBezTo>
                <a:cubicBezTo>
                  <a:pt x="552" y="605"/>
                  <a:pt x="537" y="605"/>
                  <a:pt x="431" y="522"/>
                </a:cubicBezTo>
                <a:cubicBezTo>
                  <a:pt x="325" y="439"/>
                  <a:pt x="46" y="30"/>
                  <a:pt x="23" y="23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4920" y="-100080"/>
            <a:ext cx="9217080" cy="6985080"/>
          </a:xfrm>
          <a:prstGeom prst="irregularSeal1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258920" y="1052640"/>
            <a:ext cx="6121440" cy="441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он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270828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270828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3716280"/>
            <a:ext cx="1800360" cy="289080"/>
          </a:xfrm>
          <a:custGeom>
            <a:avLst/>
            <a:gdLst/>
            <a:ahLst/>
            <a:rect l="l" t="t" r="r" b="b"/>
            <a:pathLst>
              <a:path w="1134" h="182">
                <a:moveTo>
                  <a:pt x="0" y="182"/>
                </a:moveTo>
                <a:cubicBezTo>
                  <a:pt x="102" y="171"/>
                  <a:pt x="204" y="160"/>
                  <a:pt x="363" y="137"/>
                </a:cubicBezTo>
                <a:cubicBezTo>
                  <a:pt x="522" y="114"/>
                  <a:pt x="824" y="69"/>
                  <a:pt x="952" y="46"/>
                </a:cubicBezTo>
                <a:cubicBezTo>
                  <a:pt x="1080" y="23"/>
                  <a:pt x="1107" y="11"/>
                  <a:pt x="11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558972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2565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2565360"/>
            <a:ext cx="2876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360" y="3500280"/>
            <a:ext cx="1656000" cy="576360"/>
          </a:xfrm>
          <a:custGeom>
            <a:avLst/>
            <a:gdLst/>
            <a:ahLst/>
            <a:rect l="l" t="t" r="r" b="b"/>
            <a:pathLst>
              <a:path w="1043" h="363">
                <a:moveTo>
                  <a:pt x="0" y="363"/>
                </a:moveTo>
                <a:lnTo>
                  <a:pt x="453" y="136"/>
                </a:lnTo>
                <a:lnTo>
                  <a:pt x="816" y="46"/>
                </a:lnTo>
                <a:lnTo>
                  <a:pt x="998" y="0"/>
                </a:lnTo>
                <a:lnTo>
                  <a:pt x="1043" y="91"/>
                </a:lnTo>
                <a:lnTo>
                  <a:pt x="589" y="273"/>
                </a:lnTo>
                <a:lnTo>
                  <a:pt x="0" y="36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141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242100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2421000"/>
            <a:ext cx="2876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3357720"/>
            <a:ext cx="1512720" cy="576000"/>
          </a:xfrm>
          <a:custGeom>
            <a:avLst/>
            <a:gdLst/>
            <a:ahLst/>
            <a:rect l="l" t="t" r="r" b="b"/>
            <a:pathLst>
              <a:path w="681" h="408">
                <a:moveTo>
                  <a:pt x="0" y="408"/>
                </a:moveTo>
                <a:lnTo>
                  <a:pt x="363" y="272"/>
                </a:lnTo>
                <a:lnTo>
                  <a:pt x="681" y="0"/>
                </a:lnTo>
                <a:lnTo>
                  <a:pt x="590" y="408"/>
                </a:lnTo>
                <a:lnTo>
                  <a:pt x="0" y="4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213372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220500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6720" y="220500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3500280"/>
            <a:ext cx="1800360" cy="936720"/>
          </a:xfrm>
          <a:custGeom>
            <a:avLst/>
            <a:gdLst/>
            <a:ahLst/>
            <a:rect l="l" t="t" r="r" b="b"/>
            <a:pathLst>
              <a:path w="1134" h="590">
                <a:moveTo>
                  <a:pt x="0" y="590"/>
                </a:moveTo>
                <a:lnTo>
                  <a:pt x="998" y="409"/>
                </a:lnTo>
                <a:lnTo>
                  <a:pt x="1134" y="0"/>
                </a:lnTo>
                <a:lnTo>
                  <a:pt x="952" y="318"/>
                </a:lnTo>
                <a:lnTo>
                  <a:pt x="0" y="59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765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213372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213372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3933720"/>
            <a:ext cx="1655640" cy="647640"/>
          </a:xfrm>
          <a:custGeom>
            <a:avLst/>
            <a:gdLst/>
            <a:ahLst/>
            <a:rect l="l" t="t" r="r" b="b"/>
            <a:pathLst>
              <a:path w="1043" h="408">
                <a:moveTo>
                  <a:pt x="0" y="90"/>
                </a:moveTo>
                <a:lnTo>
                  <a:pt x="499" y="272"/>
                </a:lnTo>
                <a:lnTo>
                  <a:pt x="1043" y="0"/>
                </a:lnTo>
                <a:lnTo>
                  <a:pt x="499" y="408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9079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2205000"/>
            <a:ext cx="2876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220500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3789360"/>
            <a:ext cx="1152360" cy="647640"/>
          </a:xfrm>
          <a:custGeom>
            <a:avLst/>
            <a:gdLst/>
            <a:ahLst/>
            <a:rect l="l" t="t" r="r" b="b"/>
            <a:pathLst>
              <a:path w="726" h="408">
                <a:moveTo>
                  <a:pt x="0" y="408"/>
                </a:moveTo>
                <a:lnTo>
                  <a:pt x="499" y="317"/>
                </a:lnTo>
                <a:lnTo>
                  <a:pt x="726" y="0"/>
                </a:lnTo>
                <a:lnTo>
                  <a:pt x="545" y="408"/>
                </a:lnTo>
                <a:lnTo>
                  <a:pt x="0" y="408"/>
                </a:lnTo>
                <a:close/>
              </a:path>
            </a:pathLst>
          </a:custGeom>
          <a:solidFill>
            <a:srgbClr val="5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17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84360" y="1413000"/>
            <a:ext cx="3816360" cy="3816360"/>
          </a:xfrm>
          <a:prstGeom prst="ellipse">
            <a:avLst/>
          </a:prstGeom>
          <a:solidFill>
            <a:srgbClr val="fef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2060640"/>
            <a:ext cx="576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2565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2565360"/>
            <a:ext cx="2872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3760" y="3753000"/>
            <a:ext cx="1379520" cy="947520"/>
          </a:xfrm>
          <a:custGeom>
            <a:avLst/>
            <a:gdLst/>
            <a:ahLst/>
            <a:rect l="l" t="t" r="r" b="b"/>
            <a:pathLst>
              <a:path w="869" h="597">
                <a:moveTo>
                  <a:pt x="30" y="476"/>
                </a:moveTo>
                <a:cubicBezTo>
                  <a:pt x="0" y="453"/>
                  <a:pt x="454" y="461"/>
                  <a:pt x="575" y="386"/>
                </a:cubicBezTo>
                <a:cubicBezTo>
                  <a:pt x="696" y="311"/>
                  <a:pt x="726" y="0"/>
                  <a:pt x="756" y="23"/>
                </a:cubicBezTo>
                <a:cubicBezTo>
                  <a:pt x="786" y="46"/>
                  <a:pt x="869" y="447"/>
                  <a:pt x="756" y="522"/>
                </a:cubicBezTo>
                <a:cubicBezTo>
                  <a:pt x="643" y="597"/>
                  <a:pt x="60" y="499"/>
                  <a:pt x="30" y="476"/>
                </a:cubicBezTo>
                <a:close/>
              </a:path>
            </a:pathLst>
          </a:custGeom>
          <a:solidFill>
            <a:srgbClr val="5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35772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1:03:20Z</dcterms:created>
  <dc:creator>Калистова</dc:creator>
  <dc:description/>
  <dc:language>en-US</dc:language>
  <cp:lastModifiedBy>Дом</cp:lastModifiedBy>
  <dcterms:modified xsi:type="dcterms:W3CDTF">2009-04-11T08:39:02Z</dcterms:modified>
  <cp:revision>5</cp:revision>
  <dc:subject/>
  <dc:title>Слайд 1</dc:title>
</cp:coreProperties>
</file>