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04F-CD1D-4B09-8F69-BFE46277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AE6-ABCC-46C2-A612-C29AD0B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613-FCE0-44E7-B499-2E4255E2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0A9-D3CA-47B8-A4A5-E1FB7E16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BE6-B3F0-4B12-9234-C57E05A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0EE-E33E-4A0E-A8EE-CB2FC426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7AB-14EF-43FC-BDF3-1EFFABFB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89E-C3BF-40A2-B875-8668F29F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6C0-E501-4A18-A4EB-4C1BFE44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AA5-24EE-4B04-B64D-00FDD532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B41-C5D5-42BD-93B9-B520ACC3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F57-5287-42AC-A9C6-5303E15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9AA-2F5D-4E75-AAD7-7A58297F8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0028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357336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84720" y="5378400"/>
            <a:ext cx="1326960" cy="708120"/>
          </a:xfrm>
          <a:custGeom>
            <a:avLst/>
            <a:gdLst/>
            <a:ahLst/>
            <a:rect l="l" t="t" r="r" b="b"/>
            <a:pathLst>
              <a:path w="836" h="446">
                <a:moveTo>
                  <a:pt x="836" y="0"/>
                </a:moveTo>
                <a:cubicBezTo>
                  <a:pt x="788" y="15"/>
                  <a:pt x="778" y="39"/>
                  <a:pt x="738" y="68"/>
                </a:cubicBezTo>
                <a:cubicBezTo>
                  <a:pt x="716" y="84"/>
                  <a:pt x="666" y="100"/>
                  <a:pt x="641" y="107"/>
                </a:cubicBezTo>
                <a:cubicBezTo>
                  <a:pt x="595" y="138"/>
                  <a:pt x="611" y="134"/>
                  <a:pt x="533" y="136"/>
                </a:cubicBezTo>
                <a:cubicBezTo>
                  <a:pt x="357" y="142"/>
                  <a:pt x="182" y="143"/>
                  <a:pt x="6" y="146"/>
                </a:cubicBezTo>
                <a:cubicBezTo>
                  <a:pt x="18" y="333"/>
                  <a:pt x="0" y="253"/>
                  <a:pt x="45" y="390"/>
                </a:cubicBezTo>
                <a:cubicBezTo>
                  <a:pt x="49" y="403"/>
                  <a:pt x="47" y="418"/>
                  <a:pt x="55" y="429"/>
                </a:cubicBezTo>
                <a:cubicBezTo>
                  <a:pt x="61" y="437"/>
                  <a:pt x="74" y="436"/>
                  <a:pt x="84" y="439"/>
                </a:cubicBezTo>
                <a:cubicBezTo>
                  <a:pt x="365" y="427"/>
                  <a:pt x="244" y="446"/>
                  <a:pt x="377" y="400"/>
                </a:cubicBezTo>
                <a:cubicBezTo>
                  <a:pt x="384" y="390"/>
                  <a:pt x="392" y="382"/>
                  <a:pt x="397" y="371"/>
                </a:cubicBezTo>
                <a:cubicBezTo>
                  <a:pt x="399" y="367"/>
                  <a:pt x="413" y="315"/>
                  <a:pt x="416" y="312"/>
                </a:cubicBezTo>
                <a:cubicBezTo>
                  <a:pt x="423" y="305"/>
                  <a:pt x="435" y="305"/>
                  <a:pt x="445" y="302"/>
                </a:cubicBezTo>
                <a:cubicBezTo>
                  <a:pt x="452" y="292"/>
                  <a:pt x="460" y="283"/>
                  <a:pt x="465" y="273"/>
                </a:cubicBezTo>
                <a:cubicBezTo>
                  <a:pt x="470" y="264"/>
                  <a:pt x="467" y="250"/>
                  <a:pt x="475" y="244"/>
                </a:cubicBezTo>
                <a:cubicBezTo>
                  <a:pt x="521" y="211"/>
                  <a:pt x="592" y="220"/>
                  <a:pt x="641" y="195"/>
                </a:cubicBezTo>
                <a:cubicBezTo>
                  <a:pt x="683" y="174"/>
                  <a:pt x="718" y="142"/>
                  <a:pt x="758" y="117"/>
                </a:cubicBezTo>
                <a:cubicBezTo>
                  <a:pt x="764" y="94"/>
                  <a:pt x="777" y="63"/>
                  <a:pt x="777" y="39"/>
                </a:cubicBezTo>
                <a:lnTo>
                  <a:pt x="748" y="8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3840" y="5610240"/>
            <a:ext cx="696960" cy="869760"/>
          </a:xfrm>
          <a:custGeom>
            <a:avLst/>
            <a:gdLst/>
            <a:ahLst/>
            <a:rect l="l" t="t" r="r" b="b"/>
            <a:pathLst>
              <a:path w="439" h="548">
                <a:moveTo>
                  <a:pt x="439" y="0"/>
                </a:moveTo>
                <a:cubicBezTo>
                  <a:pt x="421" y="53"/>
                  <a:pt x="401" y="101"/>
                  <a:pt x="370" y="147"/>
                </a:cubicBezTo>
                <a:cubicBezTo>
                  <a:pt x="360" y="189"/>
                  <a:pt x="347" y="224"/>
                  <a:pt x="331" y="264"/>
                </a:cubicBezTo>
                <a:cubicBezTo>
                  <a:pt x="321" y="331"/>
                  <a:pt x="296" y="434"/>
                  <a:pt x="224" y="459"/>
                </a:cubicBezTo>
                <a:cubicBezTo>
                  <a:pt x="198" y="498"/>
                  <a:pt x="211" y="513"/>
                  <a:pt x="165" y="527"/>
                </a:cubicBezTo>
                <a:cubicBezTo>
                  <a:pt x="155" y="534"/>
                  <a:pt x="148" y="548"/>
                  <a:pt x="136" y="547"/>
                </a:cubicBezTo>
                <a:cubicBezTo>
                  <a:pt x="102" y="545"/>
                  <a:pt x="39" y="518"/>
                  <a:pt x="39" y="518"/>
                </a:cubicBezTo>
                <a:cubicBezTo>
                  <a:pt x="28" y="486"/>
                  <a:pt x="10" y="462"/>
                  <a:pt x="0" y="430"/>
                </a:cubicBezTo>
                <a:cubicBezTo>
                  <a:pt x="4" y="415"/>
                  <a:pt x="30" y="331"/>
                  <a:pt x="39" y="322"/>
                </a:cubicBezTo>
                <a:cubicBezTo>
                  <a:pt x="46" y="315"/>
                  <a:pt x="58" y="316"/>
                  <a:pt x="68" y="313"/>
                </a:cubicBezTo>
                <a:cubicBezTo>
                  <a:pt x="113" y="245"/>
                  <a:pt x="85" y="262"/>
                  <a:pt x="136" y="244"/>
                </a:cubicBezTo>
                <a:cubicBezTo>
                  <a:pt x="154" y="218"/>
                  <a:pt x="157" y="182"/>
                  <a:pt x="175" y="156"/>
                </a:cubicBezTo>
                <a:cubicBezTo>
                  <a:pt x="201" y="118"/>
                  <a:pt x="224" y="67"/>
                  <a:pt x="224" y="20"/>
                </a:cubicBezTo>
              </a:path>
            </a:pathLst>
          </a:custGeom>
          <a:solidFill>
            <a:srgbClr val="e93d5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504720" cy="28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3789360"/>
            <a:ext cx="21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60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84720" y="5378400"/>
            <a:ext cx="1326960" cy="708120"/>
          </a:xfrm>
          <a:custGeom>
            <a:avLst/>
            <a:gdLst/>
            <a:ahLst/>
            <a:rect l="l" t="t" r="r" b="b"/>
            <a:pathLst>
              <a:path w="836" h="446">
                <a:moveTo>
                  <a:pt x="836" y="0"/>
                </a:moveTo>
                <a:cubicBezTo>
                  <a:pt x="788" y="15"/>
                  <a:pt x="778" y="39"/>
                  <a:pt x="738" y="68"/>
                </a:cubicBezTo>
                <a:cubicBezTo>
                  <a:pt x="716" y="84"/>
                  <a:pt x="666" y="100"/>
                  <a:pt x="641" y="107"/>
                </a:cubicBezTo>
                <a:cubicBezTo>
                  <a:pt x="595" y="138"/>
                  <a:pt x="611" y="134"/>
                  <a:pt x="533" y="136"/>
                </a:cubicBezTo>
                <a:cubicBezTo>
                  <a:pt x="357" y="142"/>
                  <a:pt x="182" y="143"/>
                  <a:pt x="6" y="146"/>
                </a:cubicBezTo>
                <a:cubicBezTo>
                  <a:pt x="18" y="333"/>
                  <a:pt x="0" y="253"/>
                  <a:pt x="45" y="390"/>
                </a:cubicBezTo>
                <a:cubicBezTo>
                  <a:pt x="49" y="403"/>
                  <a:pt x="47" y="418"/>
                  <a:pt x="55" y="429"/>
                </a:cubicBezTo>
                <a:cubicBezTo>
                  <a:pt x="61" y="437"/>
                  <a:pt x="74" y="436"/>
                  <a:pt x="84" y="439"/>
                </a:cubicBezTo>
                <a:cubicBezTo>
                  <a:pt x="365" y="427"/>
                  <a:pt x="244" y="446"/>
                  <a:pt x="377" y="400"/>
                </a:cubicBezTo>
                <a:cubicBezTo>
                  <a:pt x="384" y="390"/>
                  <a:pt x="392" y="382"/>
                  <a:pt x="397" y="371"/>
                </a:cubicBezTo>
                <a:cubicBezTo>
                  <a:pt x="399" y="367"/>
                  <a:pt x="413" y="315"/>
                  <a:pt x="416" y="312"/>
                </a:cubicBezTo>
                <a:cubicBezTo>
                  <a:pt x="423" y="305"/>
                  <a:pt x="435" y="305"/>
                  <a:pt x="445" y="302"/>
                </a:cubicBezTo>
                <a:cubicBezTo>
                  <a:pt x="452" y="292"/>
                  <a:pt x="460" y="283"/>
                  <a:pt x="465" y="273"/>
                </a:cubicBezTo>
                <a:cubicBezTo>
                  <a:pt x="470" y="264"/>
                  <a:pt x="467" y="250"/>
                  <a:pt x="475" y="244"/>
                </a:cubicBezTo>
                <a:cubicBezTo>
                  <a:pt x="521" y="211"/>
                  <a:pt x="592" y="220"/>
                  <a:pt x="641" y="195"/>
                </a:cubicBezTo>
                <a:cubicBezTo>
                  <a:pt x="683" y="174"/>
                  <a:pt x="718" y="142"/>
                  <a:pt x="758" y="117"/>
                </a:cubicBezTo>
                <a:cubicBezTo>
                  <a:pt x="764" y="94"/>
                  <a:pt x="777" y="63"/>
                  <a:pt x="777" y="39"/>
                </a:cubicBezTo>
                <a:lnTo>
                  <a:pt x="748" y="8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63840" y="5610240"/>
            <a:ext cx="696960" cy="869760"/>
          </a:xfrm>
          <a:custGeom>
            <a:avLst/>
            <a:gdLst/>
            <a:ahLst/>
            <a:rect l="l" t="t" r="r" b="b"/>
            <a:pathLst>
              <a:path w="439" h="548">
                <a:moveTo>
                  <a:pt x="439" y="0"/>
                </a:moveTo>
                <a:cubicBezTo>
                  <a:pt x="421" y="53"/>
                  <a:pt x="401" y="101"/>
                  <a:pt x="370" y="147"/>
                </a:cubicBezTo>
                <a:cubicBezTo>
                  <a:pt x="360" y="189"/>
                  <a:pt x="347" y="224"/>
                  <a:pt x="331" y="264"/>
                </a:cubicBezTo>
                <a:cubicBezTo>
                  <a:pt x="321" y="331"/>
                  <a:pt x="296" y="434"/>
                  <a:pt x="224" y="459"/>
                </a:cubicBezTo>
                <a:cubicBezTo>
                  <a:pt x="198" y="498"/>
                  <a:pt x="211" y="513"/>
                  <a:pt x="165" y="527"/>
                </a:cubicBezTo>
                <a:cubicBezTo>
                  <a:pt x="155" y="534"/>
                  <a:pt x="148" y="548"/>
                  <a:pt x="136" y="547"/>
                </a:cubicBezTo>
                <a:cubicBezTo>
                  <a:pt x="102" y="545"/>
                  <a:pt x="39" y="518"/>
                  <a:pt x="39" y="518"/>
                </a:cubicBezTo>
                <a:cubicBezTo>
                  <a:pt x="28" y="486"/>
                  <a:pt x="10" y="462"/>
                  <a:pt x="0" y="430"/>
                </a:cubicBezTo>
                <a:cubicBezTo>
                  <a:pt x="4" y="415"/>
                  <a:pt x="30" y="331"/>
                  <a:pt x="39" y="322"/>
                </a:cubicBezTo>
                <a:cubicBezTo>
                  <a:pt x="46" y="315"/>
                  <a:pt x="58" y="316"/>
                  <a:pt x="68" y="313"/>
                </a:cubicBezTo>
                <a:cubicBezTo>
                  <a:pt x="113" y="245"/>
                  <a:pt x="85" y="262"/>
                  <a:pt x="136" y="244"/>
                </a:cubicBezTo>
                <a:cubicBezTo>
                  <a:pt x="154" y="218"/>
                  <a:pt x="157" y="182"/>
                  <a:pt x="175" y="156"/>
                </a:cubicBezTo>
                <a:cubicBezTo>
                  <a:pt x="201" y="118"/>
                  <a:pt x="224" y="67"/>
                  <a:pt x="224" y="20"/>
                </a:cubicBezTo>
              </a:path>
            </a:pathLst>
          </a:custGeom>
          <a:solidFill>
            <a:srgbClr val="e93d5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4724280"/>
            <a:ext cx="505080" cy="287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4076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84720" y="5378400"/>
            <a:ext cx="1326960" cy="708120"/>
          </a:xfrm>
          <a:custGeom>
            <a:avLst/>
            <a:gdLst/>
            <a:ahLst/>
            <a:rect l="l" t="t" r="r" b="b"/>
            <a:pathLst>
              <a:path w="836" h="446">
                <a:moveTo>
                  <a:pt x="836" y="0"/>
                </a:moveTo>
                <a:cubicBezTo>
                  <a:pt x="788" y="15"/>
                  <a:pt x="778" y="39"/>
                  <a:pt x="738" y="68"/>
                </a:cubicBezTo>
                <a:cubicBezTo>
                  <a:pt x="716" y="84"/>
                  <a:pt x="666" y="100"/>
                  <a:pt x="641" y="107"/>
                </a:cubicBezTo>
                <a:cubicBezTo>
                  <a:pt x="595" y="138"/>
                  <a:pt x="611" y="134"/>
                  <a:pt x="533" y="136"/>
                </a:cubicBezTo>
                <a:cubicBezTo>
                  <a:pt x="357" y="142"/>
                  <a:pt x="182" y="143"/>
                  <a:pt x="6" y="146"/>
                </a:cubicBezTo>
                <a:cubicBezTo>
                  <a:pt x="18" y="333"/>
                  <a:pt x="0" y="253"/>
                  <a:pt x="45" y="390"/>
                </a:cubicBezTo>
                <a:cubicBezTo>
                  <a:pt x="49" y="403"/>
                  <a:pt x="47" y="418"/>
                  <a:pt x="55" y="429"/>
                </a:cubicBezTo>
                <a:cubicBezTo>
                  <a:pt x="61" y="437"/>
                  <a:pt x="74" y="436"/>
                  <a:pt x="84" y="439"/>
                </a:cubicBezTo>
                <a:cubicBezTo>
                  <a:pt x="365" y="427"/>
                  <a:pt x="244" y="446"/>
                  <a:pt x="377" y="400"/>
                </a:cubicBezTo>
                <a:cubicBezTo>
                  <a:pt x="384" y="390"/>
                  <a:pt x="392" y="382"/>
                  <a:pt x="397" y="371"/>
                </a:cubicBezTo>
                <a:cubicBezTo>
                  <a:pt x="399" y="367"/>
                  <a:pt x="413" y="315"/>
                  <a:pt x="416" y="312"/>
                </a:cubicBezTo>
                <a:cubicBezTo>
                  <a:pt x="423" y="305"/>
                  <a:pt x="435" y="305"/>
                  <a:pt x="445" y="302"/>
                </a:cubicBezTo>
                <a:cubicBezTo>
                  <a:pt x="452" y="292"/>
                  <a:pt x="460" y="283"/>
                  <a:pt x="465" y="273"/>
                </a:cubicBezTo>
                <a:cubicBezTo>
                  <a:pt x="470" y="264"/>
                  <a:pt x="467" y="250"/>
                  <a:pt x="475" y="244"/>
                </a:cubicBezTo>
                <a:cubicBezTo>
                  <a:pt x="521" y="211"/>
                  <a:pt x="592" y="220"/>
                  <a:pt x="641" y="195"/>
                </a:cubicBezTo>
                <a:cubicBezTo>
                  <a:pt x="683" y="174"/>
                  <a:pt x="718" y="142"/>
                  <a:pt x="758" y="117"/>
                </a:cubicBezTo>
                <a:cubicBezTo>
                  <a:pt x="764" y="94"/>
                  <a:pt x="777" y="63"/>
                  <a:pt x="777" y="39"/>
                </a:cubicBezTo>
                <a:lnTo>
                  <a:pt x="748" y="8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63840" y="5610240"/>
            <a:ext cx="696960" cy="869760"/>
          </a:xfrm>
          <a:custGeom>
            <a:avLst/>
            <a:gdLst/>
            <a:ahLst/>
            <a:rect l="l" t="t" r="r" b="b"/>
            <a:pathLst>
              <a:path w="439" h="548">
                <a:moveTo>
                  <a:pt x="439" y="0"/>
                </a:moveTo>
                <a:cubicBezTo>
                  <a:pt x="421" y="53"/>
                  <a:pt x="401" y="101"/>
                  <a:pt x="370" y="147"/>
                </a:cubicBezTo>
                <a:cubicBezTo>
                  <a:pt x="360" y="189"/>
                  <a:pt x="347" y="224"/>
                  <a:pt x="331" y="264"/>
                </a:cubicBezTo>
                <a:cubicBezTo>
                  <a:pt x="321" y="331"/>
                  <a:pt x="296" y="434"/>
                  <a:pt x="224" y="459"/>
                </a:cubicBezTo>
                <a:cubicBezTo>
                  <a:pt x="198" y="498"/>
                  <a:pt x="211" y="513"/>
                  <a:pt x="165" y="527"/>
                </a:cubicBezTo>
                <a:cubicBezTo>
                  <a:pt x="155" y="534"/>
                  <a:pt x="148" y="548"/>
                  <a:pt x="136" y="547"/>
                </a:cubicBezTo>
                <a:cubicBezTo>
                  <a:pt x="102" y="545"/>
                  <a:pt x="39" y="518"/>
                  <a:pt x="39" y="518"/>
                </a:cubicBezTo>
                <a:cubicBezTo>
                  <a:pt x="28" y="486"/>
                  <a:pt x="10" y="462"/>
                  <a:pt x="0" y="430"/>
                </a:cubicBezTo>
                <a:cubicBezTo>
                  <a:pt x="4" y="415"/>
                  <a:pt x="30" y="331"/>
                  <a:pt x="39" y="322"/>
                </a:cubicBezTo>
                <a:cubicBezTo>
                  <a:pt x="46" y="315"/>
                  <a:pt x="58" y="316"/>
                  <a:pt x="68" y="313"/>
                </a:cubicBezTo>
                <a:cubicBezTo>
                  <a:pt x="113" y="245"/>
                  <a:pt x="85" y="262"/>
                  <a:pt x="136" y="244"/>
                </a:cubicBezTo>
                <a:cubicBezTo>
                  <a:pt x="154" y="218"/>
                  <a:pt x="157" y="182"/>
                  <a:pt x="175" y="156"/>
                </a:cubicBezTo>
                <a:cubicBezTo>
                  <a:pt x="201" y="118"/>
                  <a:pt x="224" y="67"/>
                  <a:pt x="224" y="20"/>
                </a:cubicBezTo>
              </a:path>
            </a:pathLst>
          </a:custGeom>
          <a:solidFill>
            <a:srgbClr val="e93d5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6308640"/>
            <a:ext cx="505080" cy="287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76360" y="2781360"/>
            <a:ext cx="3960720" cy="366372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4076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84720" y="5378400"/>
            <a:ext cx="1326960" cy="708120"/>
          </a:xfrm>
          <a:custGeom>
            <a:avLst/>
            <a:gdLst/>
            <a:ahLst/>
            <a:rect l="l" t="t" r="r" b="b"/>
            <a:pathLst>
              <a:path w="836" h="446">
                <a:moveTo>
                  <a:pt x="836" y="0"/>
                </a:moveTo>
                <a:cubicBezTo>
                  <a:pt x="788" y="15"/>
                  <a:pt x="778" y="39"/>
                  <a:pt x="738" y="68"/>
                </a:cubicBezTo>
                <a:cubicBezTo>
                  <a:pt x="716" y="84"/>
                  <a:pt x="666" y="100"/>
                  <a:pt x="641" y="107"/>
                </a:cubicBezTo>
                <a:cubicBezTo>
                  <a:pt x="595" y="138"/>
                  <a:pt x="611" y="134"/>
                  <a:pt x="533" y="136"/>
                </a:cubicBezTo>
                <a:cubicBezTo>
                  <a:pt x="357" y="142"/>
                  <a:pt x="182" y="143"/>
                  <a:pt x="6" y="146"/>
                </a:cubicBezTo>
                <a:cubicBezTo>
                  <a:pt x="18" y="333"/>
                  <a:pt x="0" y="253"/>
                  <a:pt x="45" y="390"/>
                </a:cubicBezTo>
                <a:cubicBezTo>
                  <a:pt x="49" y="403"/>
                  <a:pt x="47" y="418"/>
                  <a:pt x="55" y="429"/>
                </a:cubicBezTo>
                <a:cubicBezTo>
                  <a:pt x="61" y="437"/>
                  <a:pt x="74" y="436"/>
                  <a:pt x="84" y="439"/>
                </a:cubicBezTo>
                <a:cubicBezTo>
                  <a:pt x="365" y="427"/>
                  <a:pt x="244" y="446"/>
                  <a:pt x="377" y="400"/>
                </a:cubicBezTo>
                <a:cubicBezTo>
                  <a:pt x="384" y="390"/>
                  <a:pt x="392" y="382"/>
                  <a:pt x="397" y="371"/>
                </a:cubicBezTo>
                <a:cubicBezTo>
                  <a:pt x="399" y="367"/>
                  <a:pt x="413" y="315"/>
                  <a:pt x="416" y="312"/>
                </a:cubicBezTo>
                <a:cubicBezTo>
                  <a:pt x="423" y="305"/>
                  <a:pt x="435" y="305"/>
                  <a:pt x="445" y="302"/>
                </a:cubicBezTo>
                <a:cubicBezTo>
                  <a:pt x="452" y="292"/>
                  <a:pt x="460" y="283"/>
                  <a:pt x="465" y="273"/>
                </a:cubicBezTo>
                <a:cubicBezTo>
                  <a:pt x="470" y="264"/>
                  <a:pt x="467" y="250"/>
                  <a:pt x="475" y="244"/>
                </a:cubicBezTo>
                <a:cubicBezTo>
                  <a:pt x="521" y="211"/>
                  <a:pt x="592" y="220"/>
                  <a:pt x="641" y="195"/>
                </a:cubicBezTo>
                <a:cubicBezTo>
                  <a:pt x="683" y="174"/>
                  <a:pt x="718" y="142"/>
                  <a:pt x="758" y="117"/>
                </a:cubicBezTo>
                <a:cubicBezTo>
                  <a:pt x="764" y="94"/>
                  <a:pt x="777" y="63"/>
                  <a:pt x="777" y="39"/>
                </a:cubicBezTo>
                <a:lnTo>
                  <a:pt x="748" y="8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95680" y="559440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0" y="59"/>
                </a:moveTo>
                <a:cubicBezTo>
                  <a:pt x="11" y="42"/>
                  <a:pt x="25" y="0"/>
                  <a:pt x="3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16200" y="5610240"/>
            <a:ext cx="1360440" cy="1147680"/>
          </a:xfrm>
          <a:custGeom>
            <a:avLst/>
            <a:gdLst/>
            <a:ahLst/>
            <a:rect l="l" t="t" r="r" b="b"/>
            <a:pathLst>
              <a:path w="857" h="723">
                <a:moveTo>
                  <a:pt x="857" y="10"/>
                </a:moveTo>
                <a:cubicBezTo>
                  <a:pt x="834" y="56"/>
                  <a:pt x="826" y="105"/>
                  <a:pt x="798" y="147"/>
                </a:cubicBezTo>
                <a:cubicBezTo>
                  <a:pt x="772" y="248"/>
                  <a:pt x="806" y="131"/>
                  <a:pt x="769" y="215"/>
                </a:cubicBezTo>
                <a:cubicBezTo>
                  <a:pt x="745" y="268"/>
                  <a:pt x="759" y="293"/>
                  <a:pt x="700" y="313"/>
                </a:cubicBezTo>
                <a:cubicBezTo>
                  <a:pt x="684" y="365"/>
                  <a:pt x="656" y="423"/>
                  <a:pt x="603" y="439"/>
                </a:cubicBezTo>
                <a:cubicBezTo>
                  <a:pt x="576" y="521"/>
                  <a:pt x="617" y="425"/>
                  <a:pt x="564" y="478"/>
                </a:cubicBezTo>
                <a:cubicBezTo>
                  <a:pt x="557" y="485"/>
                  <a:pt x="561" y="501"/>
                  <a:pt x="554" y="508"/>
                </a:cubicBezTo>
                <a:cubicBezTo>
                  <a:pt x="550" y="512"/>
                  <a:pt x="449" y="588"/>
                  <a:pt x="437" y="596"/>
                </a:cubicBezTo>
                <a:cubicBezTo>
                  <a:pt x="422" y="641"/>
                  <a:pt x="411" y="631"/>
                  <a:pt x="368" y="644"/>
                </a:cubicBezTo>
                <a:cubicBezTo>
                  <a:pt x="358" y="651"/>
                  <a:pt x="346" y="655"/>
                  <a:pt x="339" y="664"/>
                </a:cubicBezTo>
                <a:cubicBezTo>
                  <a:pt x="333" y="672"/>
                  <a:pt x="336" y="686"/>
                  <a:pt x="329" y="693"/>
                </a:cubicBezTo>
                <a:cubicBezTo>
                  <a:pt x="322" y="700"/>
                  <a:pt x="309" y="699"/>
                  <a:pt x="300" y="703"/>
                </a:cubicBezTo>
                <a:cubicBezTo>
                  <a:pt x="287" y="709"/>
                  <a:pt x="274" y="716"/>
                  <a:pt x="261" y="723"/>
                </a:cubicBezTo>
                <a:cubicBezTo>
                  <a:pt x="209" y="716"/>
                  <a:pt x="155" y="718"/>
                  <a:pt x="105" y="703"/>
                </a:cubicBezTo>
                <a:cubicBezTo>
                  <a:pt x="95" y="700"/>
                  <a:pt x="100" y="683"/>
                  <a:pt x="95" y="674"/>
                </a:cubicBezTo>
                <a:cubicBezTo>
                  <a:pt x="77" y="637"/>
                  <a:pt x="82" y="646"/>
                  <a:pt x="46" y="635"/>
                </a:cubicBezTo>
                <a:cubicBezTo>
                  <a:pt x="33" y="615"/>
                  <a:pt x="0" y="599"/>
                  <a:pt x="7" y="576"/>
                </a:cubicBezTo>
                <a:cubicBezTo>
                  <a:pt x="17" y="543"/>
                  <a:pt x="28" y="511"/>
                  <a:pt x="37" y="478"/>
                </a:cubicBezTo>
                <a:cubicBezTo>
                  <a:pt x="41" y="465"/>
                  <a:pt x="38" y="449"/>
                  <a:pt x="46" y="439"/>
                </a:cubicBezTo>
                <a:cubicBezTo>
                  <a:pt x="53" y="431"/>
                  <a:pt x="66" y="433"/>
                  <a:pt x="76" y="430"/>
                </a:cubicBezTo>
                <a:cubicBezTo>
                  <a:pt x="111" y="375"/>
                  <a:pt x="127" y="295"/>
                  <a:pt x="193" y="273"/>
                </a:cubicBezTo>
                <a:cubicBezTo>
                  <a:pt x="219" y="234"/>
                  <a:pt x="233" y="240"/>
                  <a:pt x="271" y="215"/>
                </a:cubicBezTo>
                <a:cubicBezTo>
                  <a:pt x="299" y="172"/>
                  <a:pt x="313" y="181"/>
                  <a:pt x="359" y="166"/>
                </a:cubicBezTo>
                <a:cubicBezTo>
                  <a:pt x="369" y="134"/>
                  <a:pt x="363" y="133"/>
                  <a:pt x="398" y="117"/>
                </a:cubicBezTo>
                <a:cubicBezTo>
                  <a:pt x="417" y="109"/>
                  <a:pt x="456" y="98"/>
                  <a:pt x="456" y="98"/>
                </a:cubicBezTo>
                <a:cubicBezTo>
                  <a:pt x="489" y="76"/>
                  <a:pt x="521" y="70"/>
                  <a:pt x="554" y="49"/>
                </a:cubicBezTo>
                <a:cubicBezTo>
                  <a:pt x="557" y="39"/>
                  <a:pt x="557" y="27"/>
                  <a:pt x="564" y="20"/>
                </a:cubicBezTo>
                <a:cubicBezTo>
                  <a:pt x="570" y="14"/>
                  <a:pt x="594" y="9"/>
                  <a:pt x="603" y="0"/>
                </a:cubicBezTo>
              </a:path>
            </a:pathLst>
          </a:custGeom>
          <a:solidFill>
            <a:srgbClr val="e93d5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6381720"/>
            <a:ext cx="43164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2781360"/>
            <a:ext cx="3960720" cy="366372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076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594400"/>
            <a:ext cx="127008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800" y="0"/>
                </a:moveTo>
                <a:cubicBezTo>
                  <a:pt x="753" y="32"/>
                  <a:pt x="660" y="74"/>
                  <a:pt x="605" y="88"/>
                </a:cubicBezTo>
                <a:cubicBezTo>
                  <a:pt x="423" y="81"/>
                  <a:pt x="248" y="66"/>
                  <a:pt x="68" y="49"/>
                </a:cubicBezTo>
                <a:cubicBezTo>
                  <a:pt x="46" y="35"/>
                  <a:pt x="27" y="20"/>
                  <a:pt x="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78800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3213000"/>
            <a:ext cx="2808360" cy="3024360"/>
          </a:xfrm>
          <a:prstGeom prst="ellipse">
            <a:avLst/>
          </a:prstGeom>
          <a:solidFill>
            <a:srgbClr val="f75b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342900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5280" y="3933720"/>
            <a:ext cx="21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479736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5522760"/>
            <a:ext cx="127008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800" y="0"/>
                </a:moveTo>
                <a:cubicBezTo>
                  <a:pt x="753" y="32"/>
                  <a:pt x="660" y="74"/>
                  <a:pt x="605" y="88"/>
                </a:cubicBezTo>
                <a:cubicBezTo>
                  <a:pt x="423" y="81"/>
                  <a:pt x="248" y="66"/>
                  <a:pt x="68" y="49"/>
                </a:cubicBezTo>
                <a:cubicBezTo>
                  <a:pt x="46" y="35"/>
                  <a:pt x="27" y="20"/>
                  <a:pt x="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502080"/>
            <a:ext cx="50328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79640" y="2781360"/>
            <a:ext cx="4319640" cy="4076640"/>
          </a:xfrm>
          <a:prstGeom prst="ellipse">
            <a:avLst/>
          </a:prstGeom>
          <a:solidFill>
            <a:srgbClr val="f75b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3141720"/>
            <a:ext cx="50328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4437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373720"/>
            <a:ext cx="127008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800" y="0"/>
                </a:moveTo>
                <a:cubicBezTo>
                  <a:pt x="753" y="32"/>
                  <a:pt x="660" y="74"/>
                  <a:pt x="605" y="88"/>
                </a:cubicBezTo>
                <a:cubicBezTo>
                  <a:pt x="423" y="81"/>
                  <a:pt x="248" y="66"/>
                  <a:pt x="68" y="49"/>
                </a:cubicBezTo>
                <a:cubicBezTo>
                  <a:pt x="46" y="35"/>
                  <a:pt x="27" y="20"/>
                  <a:pt x="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3213000"/>
            <a:ext cx="5029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3716280"/>
            <a:ext cx="21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364500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47640" y="1341360"/>
            <a:ext cx="6337440" cy="5516640"/>
          </a:xfrm>
          <a:prstGeom prst="ellipse">
            <a:avLst/>
          </a:prstGeom>
          <a:solidFill>
            <a:srgbClr val="f75b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349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86064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4797360"/>
            <a:ext cx="1269720" cy="139680"/>
          </a:xfrm>
          <a:custGeom>
            <a:avLst/>
            <a:gdLst/>
            <a:ahLst/>
            <a:rect l="l" t="t" r="r" b="b"/>
            <a:pathLst>
              <a:path w="800" h="88">
                <a:moveTo>
                  <a:pt x="800" y="0"/>
                </a:moveTo>
                <a:cubicBezTo>
                  <a:pt x="753" y="32"/>
                  <a:pt x="660" y="74"/>
                  <a:pt x="605" y="88"/>
                </a:cubicBezTo>
                <a:cubicBezTo>
                  <a:pt x="423" y="81"/>
                  <a:pt x="248" y="66"/>
                  <a:pt x="68" y="49"/>
                </a:cubicBezTo>
                <a:cubicBezTo>
                  <a:pt x="46" y="35"/>
                  <a:pt x="27" y="20"/>
                  <a:pt x="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2492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2997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2852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62560" y="557280"/>
            <a:ext cx="3241800" cy="2355840"/>
          </a:xfrm>
          <a:custGeom>
            <a:avLst/>
            <a:gdLst/>
            <a:ahLst/>
            <a:rect l="l" t="t" r="r" b="b"/>
            <a:pathLst>
              <a:path w="2042" h="1484">
                <a:moveTo>
                  <a:pt x="1904" y="0"/>
                </a:moveTo>
                <a:cubicBezTo>
                  <a:pt x="1705" y="9"/>
                  <a:pt x="1506" y="7"/>
                  <a:pt x="1308" y="30"/>
                </a:cubicBezTo>
                <a:cubicBezTo>
                  <a:pt x="1204" y="42"/>
                  <a:pt x="1107" y="83"/>
                  <a:pt x="1005" y="98"/>
                </a:cubicBezTo>
                <a:cubicBezTo>
                  <a:pt x="982" y="105"/>
                  <a:pt x="960" y="114"/>
                  <a:pt x="937" y="118"/>
                </a:cubicBezTo>
                <a:cubicBezTo>
                  <a:pt x="892" y="127"/>
                  <a:pt x="800" y="137"/>
                  <a:pt x="800" y="137"/>
                </a:cubicBezTo>
                <a:cubicBezTo>
                  <a:pt x="732" y="172"/>
                  <a:pt x="661" y="206"/>
                  <a:pt x="586" y="225"/>
                </a:cubicBezTo>
                <a:cubicBezTo>
                  <a:pt x="561" y="261"/>
                  <a:pt x="520" y="280"/>
                  <a:pt x="478" y="293"/>
                </a:cubicBezTo>
                <a:cubicBezTo>
                  <a:pt x="434" y="323"/>
                  <a:pt x="380" y="347"/>
                  <a:pt x="332" y="371"/>
                </a:cubicBezTo>
                <a:cubicBezTo>
                  <a:pt x="289" y="393"/>
                  <a:pt x="315" y="366"/>
                  <a:pt x="273" y="401"/>
                </a:cubicBezTo>
                <a:cubicBezTo>
                  <a:pt x="262" y="410"/>
                  <a:pt x="256" y="423"/>
                  <a:pt x="244" y="430"/>
                </a:cubicBezTo>
                <a:cubicBezTo>
                  <a:pt x="226" y="440"/>
                  <a:pt x="185" y="450"/>
                  <a:pt x="185" y="450"/>
                </a:cubicBezTo>
                <a:cubicBezTo>
                  <a:pt x="162" y="524"/>
                  <a:pt x="197" y="434"/>
                  <a:pt x="146" y="498"/>
                </a:cubicBezTo>
                <a:cubicBezTo>
                  <a:pt x="108" y="546"/>
                  <a:pt x="173" y="517"/>
                  <a:pt x="107" y="537"/>
                </a:cubicBezTo>
                <a:cubicBezTo>
                  <a:pt x="101" y="547"/>
                  <a:pt x="93" y="556"/>
                  <a:pt x="88" y="567"/>
                </a:cubicBezTo>
                <a:cubicBezTo>
                  <a:pt x="83" y="576"/>
                  <a:pt x="85" y="589"/>
                  <a:pt x="78" y="596"/>
                </a:cubicBezTo>
                <a:cubicBezTo>
                  <a:pt x="71" y="603"/>
                  <a:pt x="58" y="601"/>
                  <a:pt x="49" y="606"/>
                </a:cubicBezTo>
                <a:cubicBezTo>
                  <a:pt x="38" y="611"/>
                  <a:pt x="29" y="619"/>
                  <a:pt x="19" y="625"/>
                </a:cubicBezTo>
                <a:cubicBezTo>
                  <a:pt x="13" y="638"/>
                  <a:pt x="0" y="650"/>
                  <a:pt x="0" y="664"/>
                </a:cubicBezTo>
                <a:cubicBezTo>
                  <a:pt x="0" y="697"/>
                  <a:pt x="26" y="733"/>
                  <a:pt x="39" y="762"/>
                </a:cubicBezTo>
                <a:cubicBezTo>
                  <a:pt x="43" y="771"/>
                  <a:pt x="42" y="784"/>
                  <a:pt x="49" y="791"/>
                </a:cubicBezTo>
                <a:cubicBezTo>
                  <a:pt x="56" y="798"/>
                  <a:pt x="68" y="798"/>
                  <a:pt x="78" y="801"/>
                </a:cubicBezTo>
                <a:cubicBezTo>
                  <a:pt x="101" y="868"/>
                  <a:pt x="96" y="936"/>
                  <a:pt x="137" y="996"/>
                </a:cubicBezTo>
                <a:cubicBezTo>
                  <a:pt x="155" y="1057"/>
                  <a:pt x="205" y="1084"/>
                  <a:pt x="263" y="1104"/>
                </a:cubicBezTo>
                <a:cubicBezTo>
                  <a:pt x="286" y="1172"/>
                  <a:pt x="264" y="1155"/>
                  <a:pt x="312" y="1172"/>
                </a:cubicBezTo>
                <a:cubicBezTo>
                  <a:pt x="319" y="1182"/>
                  <a:pt x="328" y="1190"/>
                  <a:pt x="332" y="1201"/>
                </a:cubicBezTo>
                <a:cubicBezTo>
                  <a:pt x="338" y="1220"/>
                  <a:pt x="327" y="1247"/>
                  <a:pt x="342" y="1260"/>
                </a:cubicBezTo>
                <a:cubicBezTo>
                  <a:pt x="369" y="1284"/>
                  <a:pt x="461" y="1294"/>
                  <a:pt x="498" y="1299"/>
                </a:cubicBezTo>
                <a:cubicBezTo>
                  <a:pt x="517" y="1305"/>
                  <a:pt x="538" y="1309"/>
                  <a:pt x="556" y="1318"/>
                </a:cubicBezTo>
                <a:cubicBezTo>
                  <a:pt x="571" y="1325"/>
                  <a:pt x="580" y="1341"/>
                  <a:pt x="595" y="1348"/>
                </a:cubicBezTo>
                <a:cubicBezTo>
                  <a:pt x="616" y="1359"/>
                  <a:pt x="641" y="1359"/>
                  <a:pt x="664" y="1367"/>
                </a:cubicBezTo>
                <a:cubicBezTo>
                  <a:pt x="674" y="1374"/>
                  <a:pt x="683" y="1382"/>
                  <a:pt x="693" y="1387"/>
                </a:cubicBezTo>
                <a:cubicBezTo>
                  <a:pt x="702" y="1392"/>
                  <a:pt x="715" y="1390"/>
                  <a:pt x="722" y="1397"/>
                </a:cubicBezTo>
                <a:cubicBezTo>
                  <a:pt x="729" y="1404"/>
                  <a:pt x="725" y="1419"/>
                  <a:pt x="732" y="1426"/>
                </a:cubicBezTo>
                <a:cubicBezTo>
                  <a:pt x="739" y="1433"/>
                  <a:pt x="752" y="1431"/>
                  <a:pt x="761" y="1436"/>
                </a:cubicBezTo>
                <a:cubicBezTo>
                  <a:pt x="794" y="1452"/>
                  <a:pt x="826" y="1468"/>
                  <a:pt x="859" y="1484"/>
                </a:cubicBezTo>
                <a:cubicBezTo>
                  <a:pt x="1012" y="1478"/>
                  <a:pt x="1166" y="1481"/>
                  <a:pt x="1318" y="1465"/>
                </a:cubicBezTo>
                <a:cubicBezTo>
                  <a:pt x="1328" y="1464"/>
                  <a:pt x="1322" y="1444"/>
                  <a:pt x="1328" y="1436"/>
                </a:cubicBezTo>
                <a:cubicBezTo>
                  <a:pt x="1335" y="1427"/>
                  <a:pt x="1347" y="1423"/>
                  <a:pt x="1357" y="1416"/>
                </a:cubicBezTo>
                <a:cubicBezTo>
                  <a:pt x="1372" y="1372"/>
                  <a:pt x="1397" y="1332"/>
                  <a:pt x="1415" y="1289"/>
                </a:cubicBezTo>
                <a:cubicBezTo>
                  <a:pt x="1419" y="1280"/>
                  <a:pt x="1418" y="1267"/>
                  <a:pt x="1425" y="1260"/>
                </a:cubicBezTo>
                <a:cubicBezTo>
                  <a:pt x="1433" y="1253"/>
                  <a:pt x="1445" y="1253"/>
                  <a:pt x="1455" y="1250"/>
                </a:cubicBezTo>
                <a:cubicBezTo>
                  <a:pt x="1467" y="1211"/>
                  <a:pt x="1480" y="1195"/>
                  <a:pt x="1513" y="1172"/>
                </a:cubicBezTo>
                <a:cubicBezTo>
                  <a:pt x="1538" y="1075"/>
                  <a:pt x="1501" y="1174"/>
                  <a:pt x="1552" y="1123"/>
                </a:cubicBezTo>
                <a:cubicBezTo>
                  <a:pt x="1559" y="1116"/>
                  <a:pt x="1557" y="1103"/>
                  <a:pt x="1562" y="1094"/>
                </a:cubicBezTo>
                <a:cubicBezTo>
                  <a:pt x="1576" y="1066"/>
                  <a:pt x="1588" y="1058"/>
                  <a:pt x="1611" y="1035"/>
                </a:cubicBezTo>
                <a:cubicBezTo>
                  <a:pt x="1614" y="1025"/>
                  <a:pt x="1615" y="1014"/>
                  <a:pt x="1621" y="1006"/>
                </a:cubicBezTo>
                <a:cubicBezTo>
                  <a:pt x="1628" y="997"/>
                  <a:pt x="1644" y="996"/>
                  <a:pt x="1650" y="986"/>
                </a:cubicBezTo>
                <a:cubicBezTo>
                  <a:pt x="1658" y="972"/>
                  <a:pt x="1654" y="953"/>
                  <a:pt x="1660" y="938"/>
                </a:cubicBezTo>
                <a:cubicBezTo>
                  <a:pt x="1669" y="914"/>
                  <a:pt x="1691" y="896"/>
                  <a:pt x="1708" y="879"/>
                </a:cubicBezTo>
                <a:cubicBezTo>
                  <a:pt x="1730" y="795"/>
                  <a:pt x="1700" y="882"/>
                  <a:pt x="1747" y="811"/>
                </a:cubicBezTo>
                <a:cubicBezTo>
                  <a:pt x="1772" y="773"/>
                  <a:pt x="1752" y="761"/>
                  <a:pt x="1806" y="742"/>
                </a:cubicBezTo>
                <a:cubicBezTo>
                  <a:pt x="1833" y="665"/>
                  <a:pt x="1793" y="755"/>
                  <a:pt x="1845" y="703"/>
                </a:cubicBezTo>
                <a:cubicBezTo>
                  <a:pt x="1852" y="696"/>
                  <a:pt x="1849" y="682"/>
                  <a:pt x="1855" y="674"/>
                </a:cubicBezTo>
                <a:cubicBezTo>
                  <a:pt x="1862" y="665"/>
                  <a:pt x="1874" y="661"/>
                  <a:pt x="1884" y="655"/>
                </a:cubicBezTo>
                <a:cubicBezTo>
                  <a:pt x="1904" y="616"/>
                  <a:pt x="1910" y="591"/>
                  <a:pt x="1952" y="576"/>
                </a:cubicBezTo>
                <a:cubicBezTo>
                  <a:pt x="1978" y="538"/>
                  <a:pt x="1986" y="497"/>
                  <a:pt x="2011" y="459"/>
                </a:cubicBezTo>
                <a:cubicBezTo>
                  <a:pt x="2008" y="421"/>
                  <a:pt x="2042" y="144"/>
                  <a:pt x="1943" y="79"/>
                </a:cubicBezTo>
                <a:cubicBezTo>
                  <a:pt x="1925" y="53"/>
                  <a:pt x="1917" y="28"/>
                  <a:pt x="1904" y="0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34920" y="946080"/>
            <a:ext cx="2941920" cy="3135240"/>
          </a:xfrm>
          <a:custGeom>
            <a:avLst/>
            <a:gdLst/>
            <a:ahLst/>
            <a:rect l="l" t="t" r="r" b="b"/>
            <a:pathLst>
              <a:path w="1853" h="1975">
                <a:moveTo>
                  <a:pt x="1539" y="78"/>
                </a:moveTo>
                <a:cubicBezTo>
                  <a:pt x="1353" y="56"/>
                  <a:pt x="1169" y="25"/>
                  <a:pt x="983" y="0"/>
                </a:cubicBezTo>
                <a:cubicBezTo>
                  <a:pt x="692" y="8"/>
                  <a:pt x="741" y="7"/>
                  <a:pt x="553" y="39"/>
                </a:cubicBezTo>
                <a:cubicBezTo>
                  <a:pt x="520" y="61"/>
                  <a:pt x="494" y="68"/>
                  <a:pt x="456" y="78"/>
                </a:cubicBezTo>
                <a:cubicBezTo>
                  <a:pt x="415" y="104"/>
                  <a:pt x="407" y="123"/>
                  <a:pt x="358" y="136"/>
                </a:cubicBezTo>
                <a:cubicBezTo>
                  <a:pt x="345" y="175"/>
                  <a:pt x="329" y="191"/>
                  <a:pt x="290" y="205"/>
                </a:cubicBezTo>
                <a:cubicBezTo>
                  <a:pt x="287" y="215"/>
                  <a:pt x="287" y="227"/>
                  <a:pt x="280" y="234"/>
                </a:cubicBezTo>
                <a:cubicBezTo>
                  <a:pt x="273" y="241"/>
                  <a:pt x="260" y="238"/>
                  <a:pt x="251" y="244"/>
                </a:cubicBezTo>
                <a:cubicBezTo>
                  <a:pt x="239" y="252"/>
                  <a:pt x="232" y="264"/>
                  <a:pt x="221" y="273"/>
                </a:cubicBezTo>
                <a:cubicBezTo>
                  <a:pt x="212" y="280"/>
                  <a:pt x="202" y="286"/>
                  <a:pt x="192" y="292"/>
                </a:cubicBezTo>
                <a:cubicBezTo>
                  <a:pt x="182" y="322"/>
                  <a:pt x="171" y="364"/>
                  <a:pt x="153" y="390"/>
                </a:cubicBezTo>
                <a:cubicBezTo>
                  <a:pt x="145" y="401"/>
                  <a:pt x="133" y="408"/>
                  <a:pt x="124" y="419"/>
                </a:cubicBezTo>
                <a:cubicBezTo>
                  <a:pt x="116" y="428"/>
                  <a:pt x="111" y="439"/>
                  <a:pt x="104" y="449"/>
                </a:cubicBezTo>
                <a:cubicBezTo>
                  <a:pt x="95" y="493"/>
                  <a:pt x="90" y="519"/>
                  <a:pt x="65" y="556"/>
                </a:cubicBezTo>
                <a:cubicBezTo>
                  <a:pt x="62" y="576"/>
                  <a:pt x="60" y="596"/>
                  <a:pt x="55" y="615"/>
                </a:cubicBezTo>
                <a:cubicBezTo>
                  <a:pt x="44" y="661"/>
                  <a:pt x="16" y="751"/>
                  <a:pt x="16" y="751"/>
                </a:cubicBezTo>
                <a:cubicBezTo>
                  <a:pt x="8" y="962"/>
                  <a:pt x="0" y="1167"/>
                  <a:pt x="36" y="1376"/>
                </a:cubicBezTo>
                <a:cubicBezTo>
                  <a:pt x="53" y="1475"/>
                  <a:pt x="66" y="1575"/>
                  <a:pt x="124" y="1659"/>
                </a:cubicBezTo>
                <a:cubicBezTo>
                  <a:pt x="141" y="1715"/>
                  <a:pt x="118" y="1668"/>
                  <a:pt x="163" y="1698"/>
                </a:cubicBezTo>
                <a:cubicBezTo>
                  <a:pt x="197" y="1721"/>
                  <a:pt x="222" y="1757"/>
                  <a:pt x="260" y="1776"/>
                </a:cubicBezTo>
                <a:cubicBezTo>
                  <a:pt x="282" y="1787"/>
                  <a:pt x="352" y="1816"/>
                  <a:pt x="378" y="1825"/>
                </a:cubicBezTo>
                <a:cubicBezTo>
                  <a:pt x="471" y="1889"/>
                  <a:pt x="563" y="1864"/>
                  <a:pt x="690" y="1874"/>
                </a:cubicBezTo>
                <a:cubicBezTo>
                  <a:pt x="892" y="1907"/>
                  <a:pt x="1095" y="1931"/>
                  <a:pt x="1295" y="1972"/>
                </a:cubicBezTo>
                <a:cubicBezTo>
                  <a:pt x="1399" y="1936"/>
                  <a:pt x="1316" y="1975"/>
                  <a:pt x="1344" y="1728"/>
                </a:cubicBezTo>
                <a:cubicBezTo>
                  <a:pt x="1351" y="1668"/>
                  <a:pt x="1356" y="1566"/>
                  <a:pt x="1393" y="1513"/>
                </a:cubicBezTo>
                <a:cubicBezTo>
                  <a:pt x="1411" y="1457"/>
                  <a:pt x="1432" y="1381"/>
                  <a:pt x="1471" y="1337"/>
                </a:cubicBezTo>
                <a:cubicBezTo>
                  <a:pt x="1482" y="1325"/>
                  <a:pt x="1499" y="1319"/>
                  <a:pt x="1510" y="1308"/>
                </a:cubicBezTo>
                <a:cubicBezTo>
                  <a:pt x="1622" y="1196"/>
                  <a:pt x="1436" y="1351"/>
                  <a:pt x="1588" y="1230"/>
                </a:cubicBezTo>
                <a:cubicBezTo>
                  <a:pt x="1609" y="1190"/>
                  <a:pt x="1641" y="1155"/>
                  <a:pt x="1656" y="1112"/>
                </a:cubicBezTo>
                <a:cubicBezTo>
                  <a:pt x="1671" y="1070"/>
                  <a:pt x="1677" y="1040"/>
                  <a:pt x="1715" y="1015"/>
                </a:cubicBezTo>
                <a:cubicBezTo>
                  <a:pt x="1735" y="957"/>
                  <a:pt x="1761" y="906"/>
                  <a:pt x="1783" y="849"/>
                </a:cubicBezTo>
                <a:cubicBezTo>
                  <a:pt x="1786" y="813"/>
                  <a:pt x="1786" y="776"/>
                  <a:pt x="1793" y="741"/>
                </a:cubicBezTo>
                <a:cubicBezTo>
                  <a:pt x="1796" y="727"/>
                  <a:pt x="1807" y="715"/>
                  <a:pt x="1813" y="702"/>
                </a:cubicBezTo>
                <a:cubicBezTo>
                  <a:pt x="1824" y="676"/>
                  <a:pt x="1828" y="641"/>
                  <a:pt x="1832" y="615"/>
                </a:cubicBezTo>
                <a:cubicBezTo>
                  <a:pt x="1823" y="393"/>
                  <a:pt x="1853" y="427"/>
                  <a:pt x="1793" y="312"/>
                </a:cubicBezTo>
                <a:cubicBezTo>
                  <a:pt x="1788" y="303"/>
                  <a:pt x="1790" y="290"/>
                  <a:pt x="1783" y="283"/>
                </a:cubicBezTo>
                <a:cubicBezTo>
                  <a:pt x="1774" y="274"/>
                  <a:pt x="1710" y="248"/>
                  <a:pt x="1695" y="244"/>
                </a:cubicBezTo>
                <a:cubicBezTo>
                  <a:pt x="1671" y="164"/>
                  <a:pt x="1708" y="257"/>
                  <a:pt x="1656" y="205"/>
                </a:cubicBezTo>
                <a:cubicBezTo>
                  <a:pt x="1647" y="196"/>
                  <a:pt x="1628" y="128"/>
                  <a:pt x="1617" y="117"/>
                </a:cubicBezTo>
                <a:cubicBezTo>
                  <a:pt x="1586" y="86"/>
                  <a:pt x="1527" y="109"/>
                  <a:pt x="1490" y="87"/>
                </a:cubicBezTo>
                <a:cubicBezTo>
                  <a:pt x="1476" y="79"/>
                  <a:pt x="1523" y="81"/>
                  <a:pt x="1539" y="78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59520" y="3641760"/>
            <a:ext cx="2416320" cy="3392280"/>
          </a:xfrm>
          <a:custGeom>
            <a:avLst/>
            <a:gdLst/>
            <a:ahLst/>
            <a:rect l="l" t="t" r="r" b="b"/>
            <a:pathLst>
              <a:path w="1522" h="2137">
                <a:moveTo>
                  <a:pt x="1435" y="0"/>
                </a:moveTo>
                <a:cubicBezTo>
                  <a:pt x="1419" y="54"/>
                  <a:pt x="1440" y="16"/>
                  <a:pt x="1377" y="39"/>
                </a:cubicBezTo>
                <a:cubicBezTo>
                  <a:pt x="1366" y="43"/>
                  <a:pt x="1358" y="54"/>
                  <a:pt x="1347" y="59"/>
                </a:cubicBezTo>
                <a:cubicBezTo>
                  <a:pt x="1286" y="84"/>
                  <a:pt x="1215" y="107"/>
                  <a:pt x="1152" y="127"/>
                </a:cubicBezTo>
                <a:cubicBezTo>
                  <a:pt x="1086" y="172"/>
                  <a:pt x="1169" y="121"/>
                  <a:pt x="1064" y="156"/>
                </a:cubicBezTo>
                <a:cubicBezTo>
                  <a:pt x="1053" y="160"/>
                  <a:pt x="1046" y="172"/>
                  <a:pt x="1035" y="176"/>
                </a:cubicBezTo>
                <a:cubicBezTo>
                  <a:pt x="952" y="209"/>
                  <a:pt x="857" y="215"/>
                  <a:pt x="771" y="235"/>
                </a:cubicBezTo>
                <a:cubicBezTo>
                  <a:pt x="735" y="243"/>
                  <a:pt x="700" y="254"/>
                  <a:pt x="664" y="264"/>
                </a:cubicBezTo>
                <a:cubicBezTo>
                  <a:pt x="634" y="272"/>
                  <a:pt x="576" y="293"/>
                  <a:pt x="576" y="293"/>
                </a:cubicBezTo>
                <a:cubicBezTo>
                  <a:pt x="563" y="303"/>
                  <a:pt x="551" y="314"/>
                  <a:pt x="537" y="322"/>
                </a:cubicBezTo>
                <a:cubicBezTo>
                  <a:pt x="528" y="327"/>
                  <a:pt x="516" y="326"/>
                  <a:pt x="508" y="332"/>
                </a:cubicBezTo>
                <a:cubicBezTo>
                  <a:pt x="473" y="356"/>
                  <a:pt x="445" y="397"/>
                  <a:pt x="410" y="420"/>
                </a:cubicBezTo>
                <a:cubicBezTo>
                  <a:pt x="392" y="432"/>
                  <a:pt x="370" y="437"/>
                  <a:pt x="352" y="449"/>
                </a:cubicBezTo>
                <a:cubicBezTo>
                  <a:pt x="333" y="507"/>
                  <a:pt x="357" y="455"/>
                  <a:pt x="313" y="498"/>
                </a:cubicBezTo>
                <a:cubicBezTo>
                  <a:pt x="276" y="535"/>
                  <a:pt x="247" y="579"/>
                  <a:pt x="195" y="596"/>
                </a:cubicBezTo>
                <a:cubicBezTo>
                  <a:pt x="130" y="661"/>
                  <a:pt x="163" y="645"/>
                  <a:pt x="108" y="664"/>
                </a:cubicBezTo>
                <a:cubicBezTo>
                  <a:pt x="88" y="684"/>
                  <a:pt x="69" y="703"/>
                  <a:pt x="49" y="723"/>
                </a:cubicBezTo>
                <a:cubicBezTo>
                  <a:pt x="35" y="737"/>
                  <a:pt x="44" y="767"/>
                  <a:pt x="30" y="781"/>
                </a:cubicBezTo>
                <a:cubicBezTo>
                  <a:pt x="23" y="788"/>
                  <a:pt x="10" y="788"/>
                  <a:pt x="0" y="791"/>
                </a:cubicBezTo>
                <a:cubicBezTo>
                  <a:pt x="11" y="854"/>
                  <a:pt x="26" y="862"/>
                  <a:pt x="39" y="918"/>
                </a:cubicBezTo>
                <a:cubicBezTo>
                  <a:pt x="32" y="1084"/>
                  <a:pt x="2" y="1243"/>
                  <a:pt x="30" y="1406"/>
                </a:cubicBezTo>
                <a:cubicBezTo>
                  <a:pt x="36" y="1504"/>
                  <a:pt x="34" y="1573"/>
                  <a:pt x="69" y="1660"/>
                </a:cubicBezTo>
                <a:cubicBezTo>
                  <a:pt x="78" y="1729"/>
                  <a:pt x="66" y="1753"/>
                  <a:pt x="137" y="1728"/>
                </a:cubicBezTo>
                <a:cubicBezTo>
                  <a:pt x="156" y="1735"/>
                  <a:pt x="178" y="1737"/>
                  <a:pt x="195" y="1748"/>
                </a:cubicBezTo>
                <a:cubicBezTo>
                  <a:pt x="205" y="1754"/>
                  <a:pt x="214" y="1762"/>
                  <a:pt x="225" y="1767"/>
                </a:cubicBezTo>
                <a:cubicBezTo>
                  <a:pt x="292" y="1795"/>
                  <a:pt x="376" y="1801"/>
                  <a:pt x="449" y="1816"/>
                </a:cubicBezTo>
                <a:cubicBezTo>
                  <a:pt x="462" y="1823"/>
                  <a:pt x="473" y="1836"/>
                  <a:pt x="488" y="1836"/>
                </a:cubicBezTo>
                <a:cubicBezTo>
                  <a:pt x="513" y="1836"/>
                  <a:pt x="533" y="1814"/>
                  <a:pt x="557" y="1806"/>
                </a:cubicBezTo>
                <a:cubicBezTo>
                  <a:pt x="563" y="1796"/>
                  <a:pt x="565" y="1779"/>
                  <a:pt x="576" y="1777"/>
                </a:cubicBezTo>
                <a:cubicBezTo>
                  <a:pt x="590" y="1775"/>
                  <a:pt x="601" y="1793"/>
                  <a:pt x="615" y="1797"/>
                </a:cubicBezTo>
                <a:cubicBezTo>
                  <a:pt x="634" y="1803"/>
                  <a:pt x="654" y="1803"/>
                  <a:pt x="674" y="1806"/>
                </a:cubicBezTo>
                <a:cubicBezTo>
                  <a:pt x="716" y="1827"/>
                  <a:pt x="758" y="1836"/>
                  <a:pt x="801" y="1855"/>
                </a:cubicBezTo>
                <a:cubicBezTo>
                  <a:pt x="866" y="1884"/>
                  <a:pt x="926" y="1910"/>
                  <a:pt x="996" y="1923"/>
                </a:cubicBezTo>
                <a:cubicBezTo>
                  <a:pt x="1084" y="1959"/>
                  <a:pt x="1178" y="1981"/>
                  <a:pt x="1269" y="2011"/>
                </a:cubicBezTo>
                <a:cubicBezTo>
                  <a:pt x="1279" y="2005"/>
                  <a:pt x="1292" y="2002"/>
                  <a:pt x="1299" y="1992"/>
                </a:cubicBezTo>
                <a:cubicBezTo>
                  <a:pt x="1306" y="1981"/>
                  <a:pt x="1302" y="1965"/>
                  <a:pt x="1308" y="1953"/>
                </a:cubicBezTo>
                <a:cubicBezTo>
                  <a:pt x="1336" y="1895"/>
                  <a:pt x="1336" y="1901"/>
                  <a:pt x="1377" y="1875"/>
                </a:cubicBezTo>
                <a:cubicBezTo>
                  <a:pt x="1401" y="1837"/>
                  <a:pt x="1410" y="1796"/>
                  <a:pt x="1435" y="1758"/>
                </a:cubicBezTo>
                <a:cubicBezTo>
                  <a:pt x="1522" y="1411"/>
                  <a:pt x="1478" y="2137"/>
                  <a:pt x="1445" y="957"/>
                </a:cubicBezTo>
                <a:cubicBezTo>
                  <a:pt x="1452" y="840"/>
                  <a:pt x="1457" y="723"/>
                  <a:pt x="1465" y="606"/>
                </a:cubicBezTo>
                <a:cubicBezTo>
                  <a:pt x="1473" y="482"/>
                  <a:pt x="1494" y="235"/>
                  <a:pt x="1494" y="235"/>
                </a:cubicBezTo>
                <a:cubicBezTo>
                  <a:pt x="1487" y="193"/>
                  <a:pt x="1491" y="147"/>
                  <a:pt x="1474" y="108"/>
                </a:cubicBezTo>
                <a:cubicBezTo>
                  <a:pt x="1469" y="96"/>
                  <a:pt x="1447" y="103"/>
                  <a:pt x="1435" y="98"/>
                </a:cubicBezTo>
                <a:cubicBezTo>
                  <a:pt x="1410" y="87"/>
                  <a:pt x="1377" y="76"/>
                  <a:pt x="1377" y="49"/>
                </a:cubicBezTo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4920" y="4060800"/>
            <a:ext cx="4116600" cy="2379600"/>
          </a:xfrm>
          <a:custGeom>
            <a:avLst/>
            <a:gdLst/>
            <a:ahLst/>
            <a:rect l="l" t="t" r="r" b="b"/>
            <a:pathLst>
              <a:path w="2593" h="1499">
                <a:moveTo>
                  <a:pt x="2398" y="0"/>
                </a:moveTo>
                <a:cubicBezTo>
                  <a:pt x="2243" y="43"/>
                  <a:pt x="2403" y="0"/>
                  <a:pt x="2281" y="29"/>
                </a:cubicBezTo>
                <a:cubicBezTo>
                  <a:pt x="2242" y="38"/>
                  <a:pt x="2164" y="58"/>
                  <a:pt x="2164" y="58"/>
                </a:cubicBezTo>
                <a:cubicBezTo>
                  <a:pt x="2110" y="86"/>
                  <a:pt x="2052" y="100"/>
                  <a:pt x="1998" y="127"/>
                </a:cubicBezTo>
                <a:cubicBezTo>
                  <a:pt x="1959" y="147"/>
                  <a:pt x="1923" y="172"/>
                  <a:pt x="1881" y="185"/>
                </a:cubicBezTo>
                <a:cubicBezTo>
                  <a:pt x="1814" y="231"/>
                  <a:pt x="1894" y="181"/>
                  <a:pt x="1813" y="215"/>
                </a:cubicBezTo>
                <a:cubicBezTo>
                  <a:pt x="1777" y="230"/>
                  <a:pt x="1754" y="244"/>
                  <a:pt x="1715" y="254"/>
                </a:cubicBezTo>
                <a:cubicBezTo>
                  <a:pt x="1630" y="310"/>
                  <a:pt x="1500" y="304"/>
                  <a:pt x="1403" y="312"/>
                </a:cubicBezTo>
                <a:cubicBezTo>
                  <a:pt x="1167" y="366"/>
                  <a:pt x="891" y="349"/>
                  <a:pt x="651" y="361"/>
                </a:cubicBezTo>
                <a:cubicBezTo>
                  <a:pt x="587" y="369"/>
                  <a:pt x="537" y="387"/>
                  <a:pt x="475" y="400"/>
                </a:cubicBezTo>
                <a:cubicBezTo>
                  <a:pt x="426" y="429"/>
                  <a:pt x="393" y="448"/>
                  <a:pt x="338" y="459"/>
                </a:cubicBezTo>
                <a:cubicBezTo>
                  <a:pt x="295" y="502"/>
                  <a:pt x="244" y="518"/>
                  <a:pt x="192" y="547"/>
                </a:cubicBezTo>
                <a:cubicBezTo>
                  <a:pt x="135" y="579"/>
                  <a:pt x="100" y="632"/>
                  <a:pt x="36" y="654"/>
                </a:cubicBezTo>
                <a:cubicBezTo>
                  <a:pt x="0" y="706"/>
                  <a:pt x="12" y="675"/>
                  <a:pt x="26" y="771"/>
                </a:cubicBezTo>
                <a:cubicBezTo>
                  <a:pt x="39" y="861"/>
                  <a:pt x="79" y="960"/>
                  <a:pt x="114" y="1044"/>
                </a:cubicBezTo>
                <a:cubicBezTo>
                  <a:pt x="126" y="1143"/>
                  <a:pt x="136" y="1284"/>
                  <a:pt x="212" y="1357"/>
                </a:cubicBezTo>
                <a:cubicBezTo>
                  <a:pt x="215" y="1367"/>
                  <a:pt x="214" y="1379"/>
                  <a:pt x="221" y="1386"/>
                </a:cubicBezTo>
                <a:cubicBezTo>
                  <a:pt x="228" y="1393"/>
                  <a:pt x="242" y="1390"/>
                  <a:pt x="251" y="1396"/>
                </a:cubicBezTo>
                <a:cubicBezTo>
                  <a:pt x="322" y="1443"/>
                  <a:pt x="235" y="1413"/>
                  <a:pt x="319" y="1435"/>
                </a:cubicBezTo>
                <a:cubicBezTo>
                  <a:pt x="397" y="1486"/>
                  <a:pt x="322" y="1444"/>
                  <a:pt x="514" y="1464"/>
                </a:cubicBezTo>
                <a:cubicBezTo>
                  <a:pt x="576" y="1471"/>
                  <a:pt x="638" y="1485"/>
                  <a:pt x="700" y="1494"/>
                </a:cubicBezTo>
                <a:cubicBezTo>
                  <a:pt x="921" y="1491"/>
                  <a:pt x="1143" y="1499"/>
                  <a:pt x="1364" y="1484"/>
                </a:cubicBezTo>
                <a:cubicBezTo>
                  <a:pt x="1387" y="1482"/>
                  <a:pt x="1422" y="1445"/>
                  <a:pt x="1422" y="1445"/>
                </a:cubicBezTo>
                <a:cubicBezTo>
                  <a:pt x="1515" y="1306"/>
                  <a:pt x="1794" y="1410"/>
                  <a:pt x="1891" y="1415"/>
                </a:cubicBezTo>
                <a:cubicBezTo>
                  <a:pt x="1998" y="1421"/>
                  <a:pt x="2106" y="1428"/>
                  <a:pt x="2213" y="1435"/>
                </a:cubicBezTo>
                <a:cubicBezTo>
                  <a:pt x="2593" y="1379"/>
                  <a:pt x="2367" y="1264"/>
                  <a:pt x="2379" y="654"/>
                </a:cubicBezTo>
                <a:cubicBezTo>
                  <a:pt x="2383" y="434"/>
                  <a:pt x="2411" y="220"/>
                  <a:pt x="2398" y="0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60640" y="5392800"/>
            <a:ext cx="1565280" cy="636480"/>
          </a:xfrm>
          <a:custGeom>
            <a:avLst/>
            <a:gdLst/>
            <a:ahLst/>
            <a:rect l="l" t="t" r="r" b="b"/>
            <a:pathLst>
              <a:path w="986" h="401">
                <a:moveTo>
                  <a:pt x="0" y="0"/>
                </a:moveTo>
                <a:cubicBezTo>
                  <a:pt x="24" y="71"/>
                  <a:pt x="44" y="132"/>
                  <a:pt x="98" y="186"/>
                </a:cubicBezTo>
                <a:cubicBezTo>
                  <a:pt x="121" y="254"/>
                  <a:pt x="99" y="237"/>
                  <a:pt x="147" y="254"/>
                </a:cubicBezTo>
                <a:cubicBezTo>
                  <a:pt x="178" y="303"/>
                  <a:pt x="237" y="311"/>
                  <a:pt x="293" y="323"/>
                </a:cubicBezTo>
                <a:cubicBezTo>
                  <a:pt x="368" y="360"/>
                  <a:pt x="453" y="363"/>
                  <a:pt x="528" y="401"/>
                </a:cubicBezTo>
                <a:cubicBezTo>
                  <a:pt x="594" y="387"/>
                  <a:pt x="632" y="386"/>
                  <a:pt x="684" y="352"/>
                </a:cubicBezTo>
                <a:cubicBezTo>
                  <a:pt x="705" y="290"/>
                  <a:pt x="675" y="353"/>
                  <a:pt x="752" y="303"/>
                </a:cubicBezTo>
                <a:cubicBezTo>
                  <a:pt x="816" y="261"/>
                  <a:pt x="909" y="235"/>
                  <a:pt x="986" y="2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1052640"/>
            <a:ext cx="504720" cy="129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941720"/>
            <a:ext cx="1297080" cy="57492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1484280"/>
            <a:ext cx="50508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2060640"/>
            <a:ext cx="216000" cy="72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1628640"/>
            <a:ext cx="216000" cy="72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076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4076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4076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84720" y="5378400"/>
            <a:ext cx="1326960" cy="708120"/>
          </a:xfrm>
          <a:custGeom>
            <a:avLst/>
            <a:gdLst/>
            <a:ahLst/>
            <a:rect l="l" t="t" r="r" b="b"/>
            <a:pathLst>
              <a:path w="836" h="446">
                <a:moveTo>
                  <a:pt x="836" y="0"/>
                </a:moveTo>
                <a:cubicBezTo>
                  <a:pt x="788" y="15"/>
                  <a:pt x="778" y="39"/>
                  <a:pt x="738" y="68"/>
                </a:cubicBezTo>
                <a:cubicBezTo>
                  <a:pt x="716" y="84"/>
                  <a:pt x="666" y="100"/>
                  <a:pt x="641" y="107"/>
                </a:cubicBezTo>
                <a:cubicBezTo>
                  <a:pt x="595" y="138"/>
                  <a:pt x="611" y="134"/>
                  <a:pt x="533" y="136"/>
                </a:cubicBezTo>
                <a:cubicBezTo>
                  <a:pt x="357" y="142"/>
                  <a:pt x="182" y="143"/>
                  <a:pt x="6" y="146"/>
                </a:cubicBezTo>
                <a:cubicBezTo>
                  <a:pt x="18" y="333"/>
                  <a:pt x="0" y="253"/>
                  <a:pt x="45" y="390"/>
                </a:cubicBezTo>
                <a:cubicBezTo>
                  <a:pt x="49" y="403"/>
                  <a:pt x="47" y="418"/>
                  <a:pt x="55" y="429"/>
                </a:cubicBezTo>
                <a:cubicBezTo>
                  <a:pt x="61" y="437"/>
                  <a:pt x="74" y="436"/>
                  <a:pt x="84" y="439"/>
                </a:cubicBezTo>
                <a:cubicBezTo>
                  <a:pt x="365" y="427"/>
                  <a:pt x="244" y="446"/>
                  <a:pt x="377" y="400"/>
                </a:cubicBezTo>
                <a:cubicBezTo>
                  <a:pt x="384" y="390"/>
                  <a:pt x="392" y="382"/>
                  <a:pt x="397" y="371"/>
                </a:cubicBezTo>
                <a:cubicBezTo>
                  <a:pt x="399" y="367"/>
                  <a:pt x="413" y="315"/>
                  <a:pt x="416" y="312"/>
                </a:cubicBezTo>
                <a:cubicBezTo>
                  <a:pt x="423" y="305"/>
                  <a:pt x="435" y="305"/>
                  <a:pt x="445" y="302"/>
                </a:cubicBezTo>
                <a:cubicBezTo>
                  <a:pt x="452" y="292"/>
                  <a:pt x="460" y="283"/>
                  <a:pt x="465" y="273"/>
                </a:cubicBezTo>
                <a:cubicBezTo>
                  <a:pt x="470" y="264"/>
                  <a:pt x="467" y="250"/>
                  <a:pt x="475" y="244"/>
                </a:cubicBezTo>
                <a:cubicBezTo>
                  <a:pt x="521" y="211"/>
                  <a:pt x="592" y="220"/>
                  <a:pt x="641" y="195"/>
                </a:cubicBezTo>
                <a:cubicBezTo>
                  <a:pt x="683" y="174"/>
                  <a:pt x="718" y="142"/>
                  <a:pt x="758" y="117"/>
                </a:cubicBezTo>
                <a:cubicBezTo>
                  <a:pt x="764" y="94"/>
                  <a:pt x="777" y="63"/>
                  <a:pt x="777" y="39"/>
                </a:cubicBezTo>
                <a:lnTo>
                  <a:pt x="748" y="8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4005360"/>
            <a:ext cx="21564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4076640"/>
            <a:ext cx="21564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84720" y="5378400"/>
            <a:ext cx="1326960" cy="708120"/>
          </a:xfrm>
          <a:custGeom>
            <a:avLst/>
            <a:gdLst/>
            <a:ahLst/>
            <a:rect l="l" t="t" r="r" b="b"/>
            <a:pathLst>
              <a:path w="836" h="446">
                <a:moveTo>
                  <a:pt x="836" y="0"/>
                </a:moveTo>
                <a:cubicBezTo>
                  <a:pt x="788" y="15"/>
                  <a:pt x="778" y="39"/>
                  <a:pt x="738" y="68"/>
                </a:cubicBezTo>
                <a:cubicBezTo>
                  <a:pt x="716" y="84"/>
                  <a:pt x="666" y="100"/>
                  <a:pt x="641" y="107"/>
                </a:cubicBezTo>
                <a:cubicBezTo>
                  <a:pt x="595" y="138"/>
                  <a:pt x="611" y="134"/>
                  <a:pt x="533" y="136"/>
                </a:cubicBezTo>
                <a:cubicBezTo>
                  <a:pt x="357" y="142"/>
                  <a:pt x="182" y="143"/>
                  <a:pt x="6" y="146"/>
                </a:cubicBezTo>
                <a:cubicBezTo>
                  <a:pt x="18" y="333"/>
                  <a:pt x="0" y="253"/>
                  <a:pt x="45" y="390"/>
                </a:cubicBezTo>
                <a:cubicBezTo>
                  <a:pt x="49" y="403"/>
                  <a:pt x="47" y="418"/>
                  <a:pt x="55" y="429"/>
                </a:cubicBezTo>
                <a:cubicBezTo>
                  <a:pt x="61" y="437"/>
                  <a:pt x="74" y="436"/>
                  <a:pt x="84" y="439"/>
                </a:cubicBezTo>
                <a:cubicBezTo>
                  <a:pt x="365" y="427"/>
                  <a:pt x="244" y="446"/>
                  <a:pt x="377" y="400"/>
                </a:cubicBezTo>
                <a:cubicBezTo>
                  <a:pt x="384" y="390"/>
                  <a:pt x="392" y="382"/>
                  <a:pt x="397" y="371"/>
                </a:cubicBezTo>
                <a:cubicBezTo>
                  <a:pt x="399" y="367"/>
                  <a:pt x="413" y="315"/>
                  <a:pt x="416" y="312"/>
                </a:cubicBezTo>
                <a:cubicBezTo>
                  <a:pt x="423" y="305"/>
                  <a:pt x="435" y="305"/>
                  <a:pt x="445" y="302"/>
                </a:cubicBezTo>
                <a:cubicBezTo>
                  <a:pt x="452" y="292"/>
                  <a:pt x="460" y="283"/>
                  <a:pt x="465" y="273"/>
                </a:cubicBezTo>
                <a:cubicBezTo>
                  <a:pt x="470" y="264"/>
                  <a:pt x="467" y="250"/>
                  <a:pt x="475" y="244"/>
                </a:cubicBezTo>
                <a:cubicBezTo>
                  <a:pt x="521" y="211"/>
                  <a:pt x="592" y="220"/>
                  <a:pt x="641" y="195"/>
                </a:cubicBezTo>
                <a:cubicBezTo>
                  <a:pt x="683" y="174"/>
                  <a:pt x="718" y="142"/>
                  <a:pt x="758" y="117"/>
                </a:cubicBezTo>
                <a:cubicBezTo>
                  <a:pt x="764" y="94"/>
                  <a:pt x="777" y="63"/>
                  <a:pt x="777" y="39"/>
                </a:cubicBezTo>
                <a:lnTo>
                  <a:pt x="748" y="8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63840" y="5610240"/>
            <a:ext cx="696960" cy="869760"/>
          </a:xfrm>
          <a:custGeom>
            <a:avLst/>
            <a:gdLst/>
            <a:ahLst/>
            <a:rect l="l" t="t" r="r" b="b"/>
            <a:pathLst>
              <a:path w="439" h="548">
                <a:moveTo>
                  <a:pt x="439" y="0"/>
                </a:moveTo>
                <a:cubicBezTo>
                  <a:pt x="421" y="53"/>
                  <a:pt x="401" y="101"/>
                  <a:pt x="370" y="147"/>
                </a:cubicBezTo>
                <a:cubicBezTo>
                  <a:pt x="360" y="189"/>
                  <a:pt x="347" y="224"/>
                  <a:pt x="331" y="264"/>
                </a:cubicBezTo>
                <a:cubicBezTo>
                  <a:pt x="321" y="331"/>
                  <a:pt x="296" y="434"/>
                  <a:pt x="224" y="459"/>
                </a:cubicBezTo>
                <a:cubicBezTo>
                  <a:pt x="198" y="498"/>
                  <a:pt x="211" y="513"/>
                  <a:pt x="165" y="527"/>
                </a:cubicBezTo>
                <a:cubicBezTo>
                  <a:pt x="155" y="534"/>
                  <a:pt x="148" y="548"/>
                  <a:pt x="136" y="547"/>
                </a:cubicBezTo>
                <a:cubicBezTo>
                  <a:pt x="102" y="545"/>
                  <a:pt x="39" y="518"/>
                  <a:pt x="39" y="518"/>
                </a:cubicBezTo>
                <a:cubicBezTo>
                  <a:pt x="28" y="486"/>
                  <a:pt x="10" y="462"/>
                  <a:pt x="0" y="430"/>
                </a:cubicBezTo>
                <a:cubicBezTo>
                  <a:pt x="4" y="415"/>
                  <a:pt x="30" y="331"/>
                  <a:pt x="39" y="322"/>
                </a:cubicBezTo>
                <a:cubicBezTo>
                  <a:pt x="46" y="315"/>
                  <a:pt x="58" y="316"/>
                  <a:pt x="68" y="313"/>
                </a:cubicBezTo>
                <a:cubicBezTo>
                  <a:pt x="113" y="245"/>
                  <a:pt x="85" y="262"/>
                  <a:pt x="136" y="244"/>
                </a:cubicBezTo>
                <a:cubicBezTo>
                  <a:pt x="154" y="218"/>
                  <a:pt x="157" y="182"/>
                  <a:pt x="175" y="156"/>
                </a:cubicBezTo>
                <a:cubicBezTo>
                  <a:pt x="201" y="118"/>
                  <a:pt x="224" y="67"/>
                  <a:pt x="224" y="20"/>
                </a:cubicBezTo>
              </a:path>
            </a:pathLst>
          </a:custGeom>
          <a:solidFill>
            <a:srgbClr val="e93d5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09840" y="2774880"/>
            <a:ext cx="3960720" cy="3664080"/>
          </a:xfrm>
          <a:custGeom>
            <a:avLst/>
            <a:gdLst/>
            <a:ahLst/>
            <a:rect l="l" t="t" r="r" b="b"/>
            <a:pathLst>
              <a:path w="2495" h="2308">
                <a:moveTo>
                  <a:pt x="1255" y="156"/>
                </a:moveTo>
                <a:cubicBezTo>
                  <a:pt x="1260" y="140"/>
                  <a:pt x="1268" y="107"/>
                  <a:pt x="1285" y="97"/>
                </a:cubicBezTo>
                <a:cubicBezTo>
                  <a:pt x="1313" y="81"/>
                  <a:pt x="1474" y="51"/>
                  <a:pt x="1490" y="48"/>
                </a:cubicBezTo>
                <a:cubicBezTo>
                  <a:pt x="1558" y="21"/>
                  <a:pt x="1704" y="0"/>
                  <a:pt x="1704" y="0"/>
                </a:cubicBezTo>
                <a:cubicBezTo>
                  <a:pt x="1776" y="8"/>
                  <a:pt x="1876" y="23"/>
                  <a:pt x="1939" y="68"/>
                </a:cubicBezTo>
                <a:cubicBezTo>
                  <a:pt x="1950" y="76"/>
                  <a:pt x="1956" y="90"/>
                  <a:pt x="1968" y="97"/>
                </a:cubicBezTo>
                <a:cubicBezTo>
                  <a:pt x="1986" y="107"/>
                  <a:pt x="2027" y="117"/>
                  <a:pt x="2027" y="117"/>
                </a:cubicBezTo>
                <a:cubicBezTo>
                  <a:pt x="2033" y="136"/>
                  <a:pt x="2029" y="164"/>
                  <a:pt x="2046" y="175"/>
                </a:cubicBezTo>
                <a:cubicBezTo>
                  <a:pt x="2066" y="188"/>
                  <a:pt x="2105" y="214"/>
                  <a:pt x="2105" y="214"/>
                </a:cubicBezTo>
                <a:cubicBezTo>
                  <a:pt x="2123" y="260"/>
                  <a:pt x="2123" y="285"/>
                  <a:pt x="2163" y="312"/>
                </a:cubicBezTo>
                <a:cubicBezTo>
                  <a:pt x="2190" y="391"/>
                  <a:pt x="2151" y="287"/>
                  <a:pt x="2193" y="371"/>
                </a:cubicBezTo>
                <a:cubicBezTo>
                  <a:pt x="2197" y="380"/>
                  <a:pt x="2195" y="393"/>
                  <a:pt x="2202" y="400"/>
                </a:cubicBezTo>
                <a:cubicBezTo>
                  <a:pt x="2209" y="407"/>
                  <a:pt x="2222" y="407"/>
                  <a:pt x="2232" y="410"/>
                </a:cubicBezTo>
                <a:cubicBezTo>
                  <a:pt x="2249" y="464"/>
                  <a:pt x="2279" y="517"/>
                  <a:pt x="2320" y="556"/>
                </a:cubicBezTo>
                <a:cubicBezTo>
                  <a:pt x="2354" y="625"/>
                  <a:pt x="2384" y="692"/>
                  <a:pt x="2417" y="761"/>
                </a:cubicBezTo>
                <a:cubicBezTo>
                  <a:pt x="2447" y="940"/>
                  <a:pt x="2459" y="1120"/>
                  <a:pt x="2495" y="1298"/>
                </a:cubicBezTo>
                <a:cubicBezTo>
                  <a:pt x="2492" y="1412"/>
                  <a:pt x="2493" y="1526"/>
                  <a:pt x="2485" y="1640"/>
                </a:cubicBezTo>
                <a:cubicBezTo>
                  <a:pt x="2483" y="1667"/>
                  <a:pt x="2470" y="1692"/>
                  <a:pt x="2466" y="1718"/>
                </a:cubicBezTo>
                <a:cubicBezTo>
                  <a:pt x="2452" y="1801"/>
                  <a:pt x="2455" y="1899"/>
                  <a:pt x="2407" y="1972"/>
                </a:cubicBezTo>
                <a:cubicBezTo>
                  <a:pt x="2383" y="2048"/>
                  <a:pt x="2419" y="1960"/>
                  <a:pt x="2368" y="2011"/>
                </a:cubicBezTo>
                <a:cubicBezTo>
                  <a:pt x="2361" y="2018"/>
                  <a:pt x="2365" y="2032"/>
                  <a:pt x="2359" y="2040"/>
                </a:cubicBezTo>
                <a:cubicBezTo>
                  <a:pt x="2352" y="2049"/>
                  <a:pt x="2339" y="2053"/>
                  <a:pt x="2329" y="2059"/>
                </a:cubicBezTo>
                <a:cubicBezTo>
                  <a:pt x="2259" y="2156"/>
                  <a:pt x="2338" y="2064"/>
                  <a:pt x="2271" y="2108"/>
                </a:cubicBezTo>
                <a:cubicBezTo>
                  <a:pt x="2164" y="2179"/>
                  <a:pt x="2305" y="2100"/>
                  <a:pt x="2222" y="2167"/>
                </a:cubicBezTo>
                <a:cubicBezTo>
                  <a:pt x="2200" y="2185"/>
                  <a:pt x="2159" y="2193"/>
                  <a:pt x="2134" y="2206"/>
                </a:cubicBezTo>
                <a:cubicBezTo>
                  <a:pt x="1931" y="2308"/>
                  <a:pt x="1739" y="2274"/>
                  <a:pt x="1499" y="2284"/>
                </a:cubicBezTo>
                <a:cubicBezTo>
                  <a:pt x="1392" y="2277"/>
                  <a:pt x="1284" y="2273"/>
                  <a:pt x="1177" y="2264"/>
                </a:cubicBezTo>
                <a:cubicBezTo>
                  <a:pt x="1110" y="2259"/>
                  <a:pt x="1048" y="2210"/>
                  <a:pt x="982" y="2196"/>
                </a:cubicBezTo>
                <a:cubicBezTo>
                  <a:pt x="960" y="2185"/>
                  <a:pt x="935" y="2181"/>
                  <a:pt x="914" y="2167"/>
                </a:cubicBezTo>
                <a:cubicBezTo>
                  <a:pt x="841" y="2118"/>
                  <a:pt x="924" y="2152"/>
                  <a:pt x="855" y="2128"/>
                </a:cubicBezTo>
                <a:cubicBezTo>
                  <a:pt x="805" y="2051"/>
                  <a:pt x="704" y="2050"/>
                  <a:pt x="621" y="2040"/>
                </a:cubicBezTo>
                <a:cubicBezTo>
                  <a:pt x="585" y="2036"/>
                  <a:pt x="549" y="2035"/>
                  <a:pt x="513" y="2030"/>
                </a:cubicBezTo>
                <a:cubicBezTo>
                  <a:pt x="477" y="2025"/>
                  <a:pt x="442" y="2017"/>
                  <a:pt x="406" y="2011"/>
                </a:cubicBezTo>
                <a:cubicBezTo>
                  <a:pt x="380" y="2007"/>
                  <a:pt x="354" y="2006"/>
                  <a:pt x="328" y="2001"/>
                </a:cubicBezTo>
                <a:cubicBezTo>
                  <a:pt x="289" y="1993"/>
                  <a:pt x="211" y="1972"/>
                  <a:pt x="211" y="1972"/>
                </a:cubicBezTo>
                <a:cubicBezTo>
                  <a:pt x="198" y="1875"/>
                  <a:pt x="178" y="1784"/>
                  <a:pt x="162" y="1688"/>
                </a:cubicBezTo>
                <a:cubicBezTo>
                  <a:pt x="169" y="1139"/>
                  <a:pt x="0" y="1011"/>
                  <a:pt x="250" y="761"/>
                </a:cubicBezTo>
                <a:cubicBezTo>
                  <a:pt x="254" y="753"/>
                  <a:pt x="277" y="700"/>
                  <a:pt x="289" y="693"/>
                </a:cubicBezTo>
                <a:cubicBezTo>
                  <a:pt x="306" y="682"/>
                  <a:pt x="347" y="673"/>
                  <a:pt x="347" y="673"/>
                </a:cubicBezTo>
                <a:cubicBezTo>
                  <a:pt x="399" y="634"/>
                  <a:pt x="451" y="606"/>
                  <a:pt x="513" y="585"/>
                </a:cubicBezTo>
                <a:cubicBezTo>
                  <a:pt x="516" y="575"/>
                  <a:pt x="516" y="563"/>
                  <a:pt x="523" y="556"/>
                </a:cubicBezTo>
                <a:cubicBezTo>
                  <a:pt x="530" y="549"/>
                  <a:pt x="543" y="551"/>
                  <a:pt x="552" y="546"/>
                </a:cubicBezTo>
                <a:cubicBezTo>
                  <a:pt x="628" y="509"/>
                  <a:pt x="539" y="542"/>
                  <a:pt x="611" y="517"/>
                </a:cubicBezTo>
                <a:cubicBezTo>
                  <a:pt x="643" y="470"/>
                  <a:pt x="695" y="461"/>
                  <a:pt x="748" y="449"/>
                </a:cubicBezTo>
                <a:cubicBezTo>
                  <a:pt x="766" y="437"/>
                  <a:pt x="789" y="433"/>
                  <a:pt x="806" y="419"/>
                </a:cubicBezTo>
                <a:cubicBezTo>
                  <a:pt x="815" y="412"/>
                  <a:pt x="818" y="399"/>
                  <a:pt x="826" y="390"/>
                </a:cubicBezTo>
                <a:cubicBezTo>
                  <a:pt x="844" y="369"/>
                  <a:pt x="868" y="354"/>
                  <a:pt x="884" y="331"/>
                </a:cubicBezTo>
                <a:cubicBezTo>
                  <a:pt x="903" y="303"/>
                  <a:pt x="916" y="255"/>
                  <a:pt x="943" y="234"/>
                </a:cubicBezTo>
                <a:cubicBezTo>
                  <a:pt x="1004" y="185"/>
                  <a:pt x="1099" y="212"/>
                  <a:pt x="1177" y="205"/>
                </a:cubicBezTo>
                <a:cubicBezTo>
                  <a:pt x="1187" y="202"/>
                  <a:pt x="1200" y="203"/>
                  <a:pt x="1207" y="195"/>
                </a:cubicBezTo>
                <a:cubicBezTo>
                  <a:pt x="1227" y="175"/>
                  <a:pt x="1203" y="101"/>
                  <a:pt x="1255" y="156"/>
                </a:cubicBezTo>
                <a:close/>
              </a:path>
            </a:pathLst>
          </a:custGeom>
          <a:solidFill>
            <a:srgbClr val="f75b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57336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3500280"/>
            <a:ext cx="50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933720"/>
            <a:ext cx="21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3933720"/>
            <a:ext cx="216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869000"/>
            <a:ext cx="1150920" cy="360360"/>
          </a:xfrm>
          <a:prstGeom prst="ellipse">
            <a:avLst/>
          </a:prstGeom>
          <a:solidFill>
            <a:srgbClr val="82de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84720" y="5378400"/>
            <a:ext cx="1326960" cy="708120"/>
          </a:xfrm>
          <a:custGeom>
            <a:avLst/>
            <a:gdLst/>
            <a:ahLst/>
            <a:rect l="l" t="t" r="r" b="b"/>
            <a:pathLst>
              <a:path w="836" h="446">
                <a:moveTo>
                  <a:pt x="836" y="0"/>
                </a:moveTo>
                <a:cubicBezTo>
                  <a:pt x="788" y="15"/>
                  <a:pt x="778" y="39"/>
                  <a:pt x="738" y="68"/>
                </a:cubicBezTo>
                <a:cubicBezTo>
                  <a:pt x="716" y="84"/>
                  <a:pt x="666" y="100"/>
                  <a:pt x="641" y="107"/>
                </a:cubicBezTo>
                <a:cubicBezTo>
                  <a:pt x="595" y="138"/>
                  <a:pt x="611" y="134"/>
                  <a:pt x="533" y="136"/>
                </a:cubicBezTo>
                <a:cubicBezTo>
                  <a:pt x="357" y="142"/>
                  <a:pt x="182" y="143"/>
                  <a:pt x="6" y="146"/>
                </a:cubicBezTo>
                <a:cubicBezTo>
                  <a:pt x="18" y="333"/>
                  <a:pt x="0" y="253"/>
                  <a:pt x="45" y="390"/>
                </a:cubicBezTo>
                <a:cubicBezTo>
                  <a:pt x="49" y="403"/>
                  <a:pt x="47" y="418"/>
                  <a:pt x="55" y="429"/>
                </a:cubicBezTo>
                <a:cubicBezTo>
                  <a:pt x="61" y="437"/>
                  <a:pt x="74" y="436"/>
                  <a:pt x="84" y="439"/>
                </a:cubicBezTo>
                <a:cubicBezTo>
                  <a:pt x="365" y="427"/>
                  <a:pt x="244" y="446"/>
                  <a:pt x="377" y="400"/>
                </a:cubicBezTo>
                <a:cubicBezTo>
                  <a:pt x="384" y="390"/>
                  <a:pt x="392" y="382"/>
                  <a:pt x="397" y="371"/>
                </a:cubicBezTo>
                <a:cubicBezTo>
                  <a:pt x="399" y="367"/>
                  <a:pt x="413" y="315"/>
                  <a:pt x="416" y="312"/>
                </a:cubicBezTo>
                <a:cubicBezTo>
                  <a:pt x="423" y="305"/>
                  <a:pt x="435" y="305"/>
                  <a:pt x="445" y="302"/>
                </a:cubicBezTo>
                <a:cubicBezTo>
                  <a:pt x="452" y="292"/>
                  <a:pt x="460" y="283"/>
                  <a:pt x="465" y="273"/>
                </a:cubicBezTo>
                <a:cubicBezTo>
                  <a:pt x="470" y="264"/>
                  <a:pt x="467" y="250"/>
                  <a:pt x="475" y="244"/>
                </a:cubicBezTo>
                <a:cubicBezTo>
                  <a:pt x="521" y="211"/>
                  <a:pt x="592" y="220"/>
                  <a:pt x="641" y="195"/>
                </a:cubicBezTo>
                <a:cubicBezTo>
                  <a:pt x="683" y="174"/>
                  <a:pt x="718" y="142"/>
                  <a:pt x="758" y="117"/>
                </a:cubicBezTo>
                <a:cubicBezTo>
                  <a:pt x="764" y="94"/>
                  <a:pt x="777" y="63"/>
                  <a:pt x="777" y="39"/>
                </a:cubicBezTo>
                <a:lnTo>
                  <a:pt x="748" y="8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63840" y="5610240"/>
            <a:ext cx="696960" cy="869760"/>
          </a:xfrm>
          <a:custGeom>
            <a:avLst/>
            <a:gdLst/>
            <a:ahLst/>
            <a:rect l="l" t="t" r="r" b="b"/>
            <a:pathLst>
              <a:path w="439" h="548">
                <a:moveTo>
                  <a:pt x="439" y="0"/>
                </a:moveTo>
                <a:cubicBezTo>
                  <a:pt x="421" y="53"/>
                  <a:pt x="401" y="101"/>
                  <a:pt x="370" y="147"/>
                </a:cubicBezTo>
                <a:cubicBezTo>
                  <a:pt x="360" y="189"/>
                  <a:pt x="347" y="224"/>
                  <a:pt x="331" y="264"/>
                </a:cubicBezTo>
                <a:cubicBezTo>
                  <a:pt x="321" y="331"/>
                  <a:pt x="296" y="434"/>
                  <a:pt x="224" y="459"/>
                </a:cubicBezTo>
                <a:cubicBezTo>
                  <a:pt x="198" y="498"/>
                  <a:pt x="211" y="513"/>
                  <a:pt x="165" y="527"/>
                </a:cubicBezTo>
                <a:cubicBezTo>
                  <a:pt x="155" y="534"/>
                  <a:pt x="148" y="548"/>
                  <a:pt x="136" y="547"/>
                </a:cubicBezTo>
                <a:cubicBezTo>
                  <a:pt x="102" y="545"/>
                  <a:pt x="39" y="518"/>
                  <a:pt x="39" y="518"/>
                </a:cubicBezTo>
                <a:cubicBezTo>
                  <a:pt x="28" y="486"/>
                  <a:pt x="10" y="462"/>
                  <a:pt x="0" y="430"/>
                </a:cubicBezTo>
                <a:cubicBezTo>
                  <a:pt x="4" y="415"/>
                  <a:pt x="30" y="331"/>
                  <a:pt x="39" y="322"/>
                </a:cubicBezTo>
                <a:cubicBezTo>
                  <a:pt x="46" y="315"/>
                  <a:pt x="58" y="316"/>
                  <a:pt x="68" y="313"/>
                </a:cubicBezTo>
                <a:cubicBezTo>
                  <a:pt x="113" y="245"/>
                  <a:pt x="85" y="262"/>
                  <a:pt x="136" y="244"/>
                </a:cubicBezTo>
                <a:cubicBezTo>
                  <a:pt x="154" y="218"/>
                  <a:pt x="157" y="182"/>
                  <a:pt x="175" y="156"/>
                </a:cubicBezTo>
                <a:cubicBezTo>
                  <a:pt x="201" y="118"/>
                  <a:pt x="224" y="67"/>
                  <a:pt x="224" y="20"/>
                </a:cubicBezTo>
              </a:path>
            </a:pathLst>
          </a:custGeom>
          <a:solidFill>
            <a:srgbClr val="e93d5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005360"/>
            <a:ext cx="505080" cy="287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5:23:05Z</dcterms:created>
  <dc:creator>WandereR</dc:creator>
  <dc:description/>
  <dc:language>en-US</dc:language>
  <cp:lastModifiedBy>WandereR</cp:lastModifiedBy>
  <dcterms:modified xsi:type="dcterms:W3CDTF">2009-04-29T16:29:22Z</dcterms:modified>
  <cp:revision>2</cp:revision>
  <dc:subject/>
  <dc:title>Слайд 1</dc:title>
</cp:coreProperties>
</file>