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402-7C14-494C-AFD3-490F4B23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1A2-8636-4665-9CD8-CAEC4450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CEA-3BBC-4152-BD66-3F98F105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FAE-BB47-4AD8-8B60-99DDA934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7313-8045-490E-8E08-1E00DA38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711D-9DB5-4940-9A02-D85AAA13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3619-1096-47E2-8019-DE18E2A7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FD69-85D2-4394-929C-9228518F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A59C-65CE-4CBA-A206-E29CD483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768F-DBAC-4486-8967-7783793B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F05C-82EB-4CDA-81F7-F6CC4E94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B17-F578-4C7E-ACD0-FBD8D17E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CA48-1269-4053-BAE9-3BD5ADA1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8D1D-F46D-4C77-94A0-04C8B1D5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AFE6-2926-4D78-858B-96A1B34E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BC71-6FC8-4F9A-92E6-CE472D66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14A8-B4E5-4310-81B8-5F214F19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A53-A80D-4FFA-860D-1C2A3B0F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3E1-D22F-4C75-99BC-7ECDD5D9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66E-C84D-4CBD-BC99-48B7C4CE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131-C381-4032-A5DD-883747BB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9B0-A21E-4B1A-BB05-3D5B609C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8E4-7855-463A-BC86-772F1185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A94-8EF9-4AD4-B042-478DE18F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5226-81AB-4AA0-82E7-07AF18F45A0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1799-8A7C-43A2-8F8A-FF64B0877A9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eeline2beauty.typepad.com/.a/6a00e554e921c48834010536f6f9c5970c-800wi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Компьютерные вирусы и антивирусные програм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4005360"/>
            <a:ext cx="3129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еница 10 класса «Г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аубах Елизав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691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борьбы с вирусами разрабатываются антивирусные программы.  Эти программы могут выявлять (диагностировать), лечить (уничтожать) вирусы и делать прививку “здоровым” программ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372360" y="549360"/>
            <a:ext cx="2361960" cy="2427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207040" y="3941640"/>
            <a:ext cx="354168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антивирусных програм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1484280"/>
            <a:ext cx="4751640" cy="57636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нтивирусные програм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421000"/>
            <a:ext cx="2376360" cy="122400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текто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канеры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2349360"/>
            <a:ext cx="2087640" cy="115272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2565360"/>
            <a:ext cx="2808360" cy="129708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ы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тора (или фаг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зинфекторы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4221000"/>
            <a:ext cx="2448000" cy="144000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ы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льт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орож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ниторы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4005360"/>
            <a:ext cx="2663640" cy="122400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ы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изатор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56360" y="263700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визор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050920" y="213372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2060640"/>
            <a:ext cx="865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124000" y="2060640"/>
            <a:ext cx="122400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2060640"/>
            <a:ext cx="863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ы – детекторы рассчитаны на обнаружение конкретных вирусов и основаны на сравнении характерной   последовательности байтов содержащихся в теле вируса, с байтами проверяемых программ. Программы – детекторы нужно регулярно обновлять, так как они быстро устаревают и не могут выявлять новые виды виру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граммы – доктора не только находят файлы, зараженные вирусами, но и лечат их, удаляя из файла тело программы – вируса. Программы – доктора, которые позволяет лечить большое число вирусов, называют полифага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России получили широкое распространение программы – детекторы, одновременно выполняющие и функции программ – докторов. Наиболее известные представители этого класса –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VP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tiviral Toolkit Pro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автор – Е. Касперский)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idstest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автор – Д. Лозинский) 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ctor Web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авторы – И. Данилов, В. Лутовин, Д. Белоу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859280" y="3500280"/>
            <a:ext cx="2073240" cy="2859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236000" y="2924280"/>
            <a:ext cx="1574640" cy="2189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500720" y="333360"/>
            <a:ext cx="25462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визоры – это программы, которые анализируют текущее состояние файлов и системных областей диска и сравнивают его с информацией, сохраненной ранее в одном из файлов ревизора. При этом проверяется состоя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T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ектора,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T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таблицы, а также длина файлов, их время создания, атрибуты, контрольные сумм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тивирусы – фильтры – это резидентные программы (сторожа), которые оповещают пользователя обо всех попытках какой – либо программы выполнить подозрительные действия. Фильтры контролируют следующие операци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новление программных файлов и системной области дис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ирование дис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ее эффективные антивирусы – вакцинаторы (иммунизаторы). Они записывают в вакцинируемую программу признаки конкретного вируса так, что вирус считает ее уже зараженной, и поэтому не производит повторное инфицирование. Этот вид антивирусных программ морально устаре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ный виру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это программа, способная создавать свои копии, внедрять их в различные объекты или ресурсы компьютерных систем, сетей и производить определенные действия без ведома пользовател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33940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грамма, внутри которой находится вирус, называется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зараженной программой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Картинка 3 из 272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836640"/>
            <a:ext cx="4500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вир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е обит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ни делятся на сетевые, файловые, загрузочные макро- вирус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особу зараж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на резидентные и нерезидентные вирус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епени опас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на неопасные, опасные и очень опасные вирус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обенностям алгорит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на вирусы-компаньоны, паразитические вирусы, репликаторы (черви), невидимки (стелс), мутанты (призраки, полиморфные вирусы, полиморфики), макро-вирусы, троянские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ост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на монолитные и распределенные вирус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981000"/>
          <a:ext cx="8497440" cy="5370480"/>
        </p:xfrm>
        <a:graphic>
          <a:graphicData uri="http://schemas.openxmlformats.org/drawingml/2006/table">
            <a:tbl>
              <a:tblPr/>
              <a:tblGrid>
                <a:gridCol w="2121120"/>
                <a:gridCol w="6376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Виды виру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Среда об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Файл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Исполняемые файлы (</a:t>
                      </a:r>
                      <a:r>
                        <a:rPr b="0" lang="en-US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.exe, .com, .bat)</a:t>
                      </a: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; файловые двойники (компаньон-вирусы); связи между файлами (линк-вирус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Загрузо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Загрузочный </a:t>
                      </a:r>
                      <a:r>
                        <a:rPr b="0" lang="en-US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(Boot) </a:t>
                      </a: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сектор диска; сектор системного загрузчика; указатель на активный </a:t>
                      </a:r>
                      <a:r>
                        <a:rPr b="0" lang="en-US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boot-</a:t>
                      </a: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секто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Сете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Сетевые протоколы; сетевые команды; электронная поч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Макро-виру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Документы </a:t>
                      </a:r>
                      <a:r>
                        <a:rPr b="0" lang="en-US" sz="2400" spc="-1" strike="noStrike">
                          <a:solidFill>
                            <a:srgbClr val="a0d060"/>
                          </a:solidFill>
                          <a:latin typeface="Verdana"/>
                        </a:rPr>
                        <a:t>Word (.doc), Exel (.xls), Off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айловые вирус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заражают выполняемые файлы (это наиболее распространенный тип вирусов), либо создают файлы-двойники (компаньон-вирусы), либо используют особенности организации файловой системы (link-вирусы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грузочные вирус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заражают загрузочные сектора дисков (boot-сектор), либо главную загрузочную запись (Master Boot Record), либо меняют указатель на активный boot-сектор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кро-вирус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разновидность файловых вирусов встраивающиеся в документы и электронные таблицы популярных редактор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тевые вирус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спользуют для своего распространения протоколы или команды компьютерных сетей и электронной почты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12T09:13:10Z</dcterms:modified>
  <cp:revision>1</cp:revision>
  <dc:subject/>
  <dc:title>PowerPoint Presentation</dc:title>
</cp:coreProperties>
</file>