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E568F-1426-435A-8AED-BA55B7F7A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3BEA1-C82B-4965-B9CE-51FC01BBC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CF4A6-594F-48C2-9547-2AFE60C56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F3DF6-AC9B-4798-84A5-F3DDE07A9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FFD2A-93C1-4E3A-AB29-D0BBD0C9F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D7FC5-B53C-4B5F-AB63-673AFA468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5436F-8EFC-416A-9B96-549FF1229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8D142-AB34-4D53-BCE6-4D81CE1A9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B8B2C-F510-4EF7-BE5B-0FF8DC506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620DB-437C-4E44-A484-FA401FE86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24E17-9997-4D68-B45B-11A1C3842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9162B-D765-4183-9AF7-20A4F89C1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9DAFF-6309-4D6D-B27E-B025F57B51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82760" y="620280"/>
            <a:ext cx="8178480" cy="201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33"/>
                </a:solidFill>
                <a:latin typeface="Verdana"/>
                <a:ea typeface="Arial"/>
              </a:rPr>
              <a:t>Ударные и безударные </a:t>
            </a:r>
            <a:br>
              <a:rPr sz="4400"/>
            </a:br>
            <a:r>
              <a:rPr b="1" i="1" lang="en-US" sz="4400" spc="-1" strike="noStrike">
                <a:solidFill>
                  <a:srgbClr val="990033"/>
                </a:solidFill>
                <a:latin typeface="Verdana"/>
                <a:ea typeface="Arial"/>
              </a:rPr>
              <a:t>гласные</a:t>
            </a:r>
            <a:r>
              <a:rPr b="0" i="1" lang="en-US" sz="44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Скругленный прямоугольник 7"/>
          <p:cNvSpPr/>
          <p:nvPr/>
        </p:nvSpPr>
        <p:spPr>
          <a:xfrm>
            <a:off x="2813040" y="4365720"/>
            <a:ext cx="3516480" cy="1079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f81bd">
                  <a:alpha val="51372"/>
                </a:srgbClr>
              </a:gs>
              <a:gs pos="100000">
                <a:srgbClr val="ff9933">
                  <a:alpha val="65098"/>
                </a:srgbClr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"/>
                <a:ea typeface="Arial"/>
              </a:rPr>
              <a:t>Начать тес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08200" y="2847960"/>
            <a:ext cx="57261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33"/>
                </a:solidFill>
                <a:latin typeface="Arial"/>
              </a:rPr>
              <a:t>Тест по русскому язык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33"/>
                </a:solidFill>
                <a:latin typeface="Arial"/>
              </a:rPr>
              <a:t>1-2 клас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843280" y="5661000"/>
            <a:ext cx="34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50021"/>
                </a:solidFill>
                <a:latin typeface="Arial"/>
              </a:rPr>
              <a:t>Автор ВохмянинаС.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457200" y="4759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Arial"/>
                <a:ea typeface="Arial"/>
              </a:rPr>
              <a:t>8. В каком столбике слова требуют проверки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/>
          <p:nvPr/>
        </p:nvSpPr>
        <p:spPr>
          <a:xfrm>
            <a:off x="611280" y="2492280"/>
            <a:ext cx="2016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8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80"/>
                </a:solidFill>
                <a:latin typeface="Arial"/>
              </a:rPr>
              <a:t>дожд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80"/>
                </a:solidFill>
                <a:latin typeface="Arial"/>
              </a:rPr>
              <a:t>хле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80"/>
                </a:solidFill>
                <a:latin typeface="Arial"/>
              </a:rPr>
              <a:t>пил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80"/>
                </a:solidFill>
                <a:latin typeface="Arial"/>
              </a:rPr>
              <a:t>гряд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80"/>
                </a:solidFill>
                <a:latin typeface="Arial"/>
              </a:rPr>
              <a:t>пол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987640" y="2492280"/>
            <a:ext cx="2160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8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80"/>
                </a:solidFill>
                <a:latin typeface="Arial"/>
              </a:rPr>
              <a:t>дожд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80"/>
                </a:solidFill>
                <a:latin typeface="Arial"/>
              </a:rPr>
              <a:t>хлеб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80"/>
                </a:solidFill>
                <a:latin typeface="Arial"/>
              </a:rPr>
              <a:t>пи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80"/>
                </a:solidFill>
                <a:latin typeface="Arial"/>
              </a:rPr>
              <a:t>гря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80"/>
                </a:solidFill>
                <a:latin typeface="Arial"/>
              </a:rPr>
              <a:t>пол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Скругленный прямоугольник 4"/>
          <p:cNvSpPr/>
          <p:nvPr/>
        </p:nvSpPr>
        <p:spPr>
          <a:xfrm>
            <a:off x="5796000" y="5157720"/>
            <a:ext cx="2000160" cy="1143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f81bd">
                  <a:alpha val="51372"/>
                </a:srgbClr>
              </a:gs>
              <a:gs pos="100000">
                <a:srgbClr val="ff9933">
                  <a:alpha val="79215"/>
                </a:srgbClr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Arial"/>
                <a:ea typeface="Arial"/>
              </a:rPr>
              <a:t>нет такого столб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Скругленный прямоугольник 4"/>
          <p:cNvSpPr/>
          <p:nvPr/>
        </p:nvSpPr>
        <p:spPr>
          <a:xfrm>
            <a:off x="5724360" y="2133720"/>
            <a:ext cx="2000520" cy="1143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f81bd">
                  <a:alpha val="51372"/>
                </a:srgbClr>
              </a:gs>
              <a:gs pos="100000">
                <a:srgbClr val="ff9933">
                  <a:alpha val="79215"/>
                </a:srgbClr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Arial"/>
                <a:ea typeface="Arial"/>
              </a:rPr>
              <a:t>1 столб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Скругленный прямоугольник 3"/>
          <p:cNvSpPr/>
          <p:nvPr/>
        </p:nvSpPr>
        <p:spPr>
          <a:xfrm>
            <a:off x="5796000" y="3645000"/>
            <a:ext cx="2000160" cy="1143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f81bd">
                  <a:alpha val="50196"/>
                </a:srgbClr>
              </a:gs>
              <a:gs pos="100000">
                <a:srgbClr val="ff9933">
                  <a:alpha val="78039"/>
                </a:srgbClr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Arial"/>
                <a:ea typeface="Arial"/>
              </a:rPr>
              <a:t>2 столб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569880" y="475920"/>
            <a:ext cx="810576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Arial"/>
                <a:ea typeface="Arial"/>
              </a:rPr>
              <a:t>9. В какой паре слов, проверочное слово подобрано верно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Скругленный прямоугольник 3"/>
          <p:cNvSpPr/>
          <p:nvPr/>
        </p:nvSpPr>
        <p:spPr>
          <a:xfrm>
            <a:off x="4932360" y="2852640"/>
            <a:ext cx="3816360" cy="8575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f81bd">
                  <a:alpha val="50196"/>
                </a:srgbClr>
              </a:gs>
              <a:gs pos="100000">
                <a:srgbClr val="ff9933">
                  <a:alpha val="79215"/>
                </a:srgbClr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Arial"/>
                <a:ea typeface="Arial"/>
              </a:rPr>
              <a:t>зелёный - зелен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Скругленный прямоугольник 4"/>
          <p:cNvSpPr/>
          <p:nvPr/>
        </p:nvSpPr>
        <p:spPr>
          <a:xfrm>
            <a:off x="4932360" y="5445000"/>
            <a:ext cx="3656160" cy="854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f81bd">
                  <a:alpha val="51372"/>
                </a:srgbClr>
              </a:gs>
              <a:gs pos="100000">
                <a:srgbClr val="ff9933">
                  <a:alpha val="79215"/>
                </a:srgbClr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Arial"/>
                <a:ea typeface="Arial"/>
              </a:rPr>
              <a:t>весна - весен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Скругленный прямоугольник 5"/>
          <p:cNvSpPr/>
          <p:nvPr/>
        </p:nvSpPr>
        <p:spPr>
          <a:xfrm>
            <a:off x="4932360" y="4221000"/>
            <a:ext cx="3745080" cy="854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f81bd">
                  <a:alpha val="51372"/>
                </a:srgbClr>
              </a:gs>
              <a:gs pos="100000">
                <a:srgbClr val="ff9933">
                  <a:alpha val="79215"/>
                </a:srgbClr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Arial"/>
                <a:ea typeface="Arial"/>
              </a:rPr>
              <a:t>лесной - ле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1116000" y="1916280"/>
            <a:ext cx="2573280" cy="4651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456840" y="549360"/>
            <a:ext cx="821844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Arial"/>
                <a:ea typeface="Arial"/>
              </a:rPr>
              <a:t>10. Буквы каких звуков не следует проверять ударением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Скругленный прямоугольник 3"/>
          <p:cNvSpPr/>
          <p:nvPr/>
        </p:nvSpPr>
        <p:spPr>
          <a:xfrm>
            <a:off x="6156360" y="4581360"/>
            <a:ext cx="2232000" cy="1656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f81bd">
                  <a:alpha val="50196"/>
                </a:srgbClr>
              </a:gs>
              <a:gs pos="100000">
                <a:srgbClr val="ff9933">
                  <a:alpha val="80392"/>
                </a:srgbClr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Arial"/>
                <a:ea typeface="Arial"/>
              </a:rPr>
              <a:t>буквы согласных зву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Скругленный прямоугольник 4"/>
          <p:cNvSpPr/>
          <p:nvPr/>
        </p:nvSpPr>
        <p:spPr>
          <a:xfrm>
            <a:off x="611280" y="4653000"/>
            <a:ext cx="2232000" cy="1647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f81bd">
                  <a:alpha val="50196"/>
                </a:srgbClr>
              </a:gs>
              <a:gs pos="100000">
                <a:srgbClr val="ff9933">
                  <a:alpha val="80392"/>
                </a:srgbClr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Arial"/>
                <a:ea typeface="Arial"/>
              </a:rPr>
              <a:t>буквы гласных зву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3346560" y="2073240"/>
            <a:ext cx="2450880" cy="2709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457200" y="54900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Arial"/>
                <a:ea typeface="Arial"/>
              </a:rPr>
              <a:t>11. В каких словах безударные гласные можно проверить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Скругленный прямоугольник 3"/>
          <p:cNvSpPr/>
          <p:nvPr/>
        </p:nvSpPr>
        <p:spPr>
          <a:xfrm>
            <a:off x="6156360" y="2852640"/>
            <a:ext cx="2376360" cy="3451320"/>
          </a:xfrm>
          <a:custGeom>
            <a:avLst/>
            <a:gdLst>
              <a:gd name="textAreaLeft" fmla="*/ 164520 w 2376360"/>
              <a:gd name="textAreaRight" fmla="*/ 2211840 w 2376360"/>
              <a:gd name="textAreaTop" fmla="*/ 164520 h 3451320"/>
              <a:gd name="textAreaBottom" fmla="*/ 3286800 h 3451320"/>
            </a:gdLst>
            <a:ahLst/>
            <a:rect l="textAreaLeft" t="textAreaTop" r="textAreaRight" b="textAreaBottom"/>
            <a:pathLst>
              <a:path w="21600" h="31369">
                <a:moveTo>
                  <a:pt x="5109" y="0"/>
                </a:moveTo>
                <a:arcTo wR="5109" hR="5109" stAng="16200000" swAng="-5400000"/>
                <a:lnTo>
                  <a:pt x="0" y="26260"/>
                </a:lnTo>
                <a:arcTo wR="5109" hR="5109" stAng="10800000" swAng="-5400000"/>
                <a:lnTo>
                  <a:pt x="16491" y="31369"/>
                </a:lnTo>
                <a:arcTo wR="5109" hR="5109" stAng="5400000" swAng="-5400000"/>
                <a:lnTo>
                  <a:pt x="21600" y="5109"/>
                </a:lnTo>
                <a:arcTo wR="5109" hR="5109" stAng="0" swAng="-5400000"/>
                <a:close/>
              </a:path>
            </a:pathLst>
          </a:custGeom>
          <a:gradFill rotWithShape="0">
            <a:gsLst>
              <a:gs pos="0">
                <a:srgbClr val="4f81bd">
                  <a:alpha val="51372"/>
                </a:srgbClr>
              </a:gs>
              <a:gs pos="100000">
                <a:srgbClr val="ff9933">
                  <a:alpha val="65098"/>
                </a:srgbClr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Arial"/>
                <a:ea typeface="Arial"/>
              </a:rPr>
              <a:t>домаш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Arial"/>
                <a:ea typeface="Arial"/>
              </a:rPr>
              <a:t>рогат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Arial"/>
                <a:ea typeface="Arial"/>
              </a:rPr>
              <a:t>змеи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Arial"/>
                <a:ea typeface="Arial"/>
              </a:rPr>
              <a:t>пчели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Arial"/>
                <a:ea typeface="Arial"/>
              </a:rPr>
              <a:t>грозов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Скругленный прямоугольник 4"/>
          <p:cNvSpPr/>
          <p:nvPr/>
        </p:nvSpPr>
        <p:spPr>
          <a:xfrm>
            <a:off x="3351240" y="2852640"/>
            <a:ext cx="2440080" cy="3451320"/>
          </a:xfrm>
          <a:custGeom>
            <a:avLst/>
            <a:gdLst>
              <a:gd name="textAreaLeft" fmla="*/ 164160 w 2440080"/>
              <a:gd name="textAreaRight" fmla="*/ 2275920 w 2440080"/>
              <a:gd name="textAreaTop" fmla="*/ 164160 h 3451320"/>
              <a:gd name="textAreaBottom" fmla="*/ 3287160 h 3451320"/>
            </a:gdLst>
            <a:ahLst/>
            <a:rect l="textAreaLeft" t="textAreaTop" r="textAreaRight" b="textAreaBottom"/>
            <a:pathLst>
              <a:path w="21600" h="30550">
                <a:moveTo>
                  <a:pt x="4971" y="0"/>
                </a:moveTo>
                <a:arcTo wR="4971" hR="4971" stAng="16200000" swAng="-5400000"/>
                <a:lnTo>
                  <a:pt x="0" y="25579"/>
                </a:lnTo>
                <a:arcTo wR="4971" hR="4971" stAng="10800000" swAng="-5400000"/>
                <a:lnTo>
                  <a:pt x="16629" y="30550"/>
                </a:lnTo>
                <a:arcTo wR="4971" hR="4971" stAng="5400000" swAng="-5400000"/>
                <a:lnTo>
                  <a:pt x="21600" y="4971"/>
                </a:lnTo>
                <a:arcTo wR="4971" hR="4971" stAng="0" swAng="-5400000"/>
                <a:close/>
              </a:path>
            </a:pathLst>
          </a:custGeom>
          <a:gradFill rotWithShape="0">
            <a:gsLst>
              <a:gs pos="0">
                <a:srgbClr val="ff9933">
                  <a:alpha val="65098"/>
                </a:srgbClr>
              </a:gs>
              <a:gs pos="100000">
                <a:srgbClr val="4f81bd">
                  <a:alpha val="51372"/>
                </a:srgbClr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Arial"/>
                <a:ea typeface="Arial"/>
              </a:rPr>
              <a:t>рабоч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Arial"/>
                <a:ea typeface="Arial"/>
              </a:rPr>
              <a:t>дежур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Arial"/>
                <a:ea typeface="Arial"/>
              </a:rPr>
              <a:t>мороз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Arial"/>
                <a:ea typeface="Arial"/>
              </a:rPr>
              <a:t>молоч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Arial"/>
                <a:ea typeface="Arial"/>
              </a:rPr>
              <a:t>лес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Скругленный прямоугольник 5"/>
          <p:cNvSpPr/>
          <p:nvPr/>
        </p:nvSpPr>
        <p:spPr>
          <a:xfrm>
            <a:off x="684360" y="2852640"/>
            <a:ext cx="2305080" cy="3451320"/>
          </a:xfrm>
          <a:custGeom>
            <a:avLst/>
            <a:gdLst>
              <a:gd name="textAreaLeft" fmla="*/ 185400 w 2305080"/>
              <a:gd name="textAreaRight" fmla="*/ 2119680 w 2305080"/>
              <a:gd name="textAreaTop" fmla="*/ 185400 h 3451320"/>
              <a:gd name="textAreaBottom" fmla="*/ 3265920 h 3451320"/>
            </a:gdLst>
            <a:ahLst/>
            <a:rect l="textAreaLeft" t="textAreaTop" r="textAreaRight" b="textAreaBottom"/>
            <a:pathLst>
              <a:path w="21600" h="32339">
                <a:moveTo>
                  <a:pt x="5931" y="0"/>
                </a:moveTo>
                <a:arcTo wR="5931" hR="5931" stAng="16200000" swAng="-5400000"/>
                <a:lnTo>
                  <a:pt x="0" y="26408"/>
                </a:lnTo>
                <a:arcTo wR="5931" hR="5931" stAng="10800000" swAng="-5400000"/>
                <a:lnTo>
                  <a:pt x="15669" y="32339"/>
                </a:lnTo>
                <a:arcTo wR="5931" hR="5931" stAng="5400000" swAng="-5400000"/>
                <a:lnTo>
                  <a:pt x="21600" y="5931"/>
                </a:lnTo>
                <a:arcTo wR="5931" hR="5931" stAng="0" swAng="-5400000"/>
                <a:close/>
              </a:path>
            </a:pathLst>
          </a:custGeom>
          <a:gradFill rotWithShape="0">
            <a:gsLst>
              <a:gs pos="0">
                <a:srgbClr val="4f81bd">
                  <a:alpha val="51372"/>
                </a:srgbClr>
              </a:gs>
              <a:gs pos="100000">
                <a:srgbClr val="ff9933">
                  <a:alpha val="65098"/>
                </a:srgbClr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Arial"/>
                <a:ea typeface="Arial"/>
              </a:rPr>
              <a:t>хорош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Arial"/>
                <a:ea typeface="Arial"/>
              </a:rPr>
              <a:t>каранда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Arial"/>
                <a:ea typeface="Arial"/>
              </a:rPr>
              <a:t>посуд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Arial"/>
                <a:ea typeface="Arial"/>
              </a:rPr>
              <a:t>русск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Arial"/>
                <a:ea typeface="Arial"/>
              </a:rPr>
              <a:t>ягод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Arial"/>
                <a:ea typeface="Arial"/>
              </a:rPr>
              <a:t>Результат тес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Содержимое 2"/>
          <p:cNvSpPr/>
          <p:nvPr/>
        </p:nvSpPr>
        <p:spPr>
          <a:xfrm>
            <a:off x="324000" y="3068640"/>
            <a:ext cx="331308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Arial"/>
                <a:ea typeface="Arial"/>
              </a:rPr>
              <a:t>Верно: 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Arial"/>
                <a:ea typeface="Arial"/>
              </a:rPr>
              <a:t>Ошибки: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Arial"/>
                <a:ea typeface="Arial"/>
              </a:rPr>
              <a:t>Отметка: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Скругленный прямоугольник 4"/>
          <p:cNvSpPr/>
          <p:nvPr/>
        </p:nvSpPr>
        <p:spPr>
          <a:xfrm>
            <a:off x="6300720" y="5445000"/>
            <a:ext cx="2463840" cy="952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>
                  <a:alpha val="65098"/>
                </a:srgbClr>
              </a:gs>
              <a:gs pos="50000">
                <a:srgbClr val="4f81bd">
                  <a:alpha val="53333"/>
                </a:srgbClr>
              </a:gs>
              <a:gs pos="100000">
                <a:srgbClr val="ff9933">
                  <a:alpha val="65098"/>
                </a:srgbClr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  <a:ea typeface="Arial"/>
              </a:rPr>
              <a:t>Время: 1 мин. 16 се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Скругленный прямоугольник 5" hidden="1"/>
          <p:cNvSpPr/>
          <p:nvPr/>
        </p:nvSpPr>
        <p:spPr>
          <a:xfrm>
            <a:off x="6500880" y="4643280"/>
            <a:ext cx="2286000" cy="714600"/>
          </a:xfrm>
          <a:prstGeom prst="roundRect">
            <a:avLst>
              <a:gd name="adj" fmla="val 16667"/>
            </a:avLst>
          </a:prstGeom>
          <a:solidFill>
            <a:srgbClr val="a5002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исправ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Текст 2" descr=""/>
          <p:cNvPicPr/>
          <p:nvPr/>
        </p:nvPicPr>
        <p:blipFill>
          <a:blip r:embed="rId2"/>
          <a:stretch/>
        </p:blipFill>
        <p:spPr>
          <a:xfrm>
            <a:off x="3492360" y="1700280"/>
            <a:ext cx="5040360" cy="31687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68360" y="5445000"/>
            <a:ext cx="3598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з пособия Л.П. Николаевой, И.В. Ивановой «Тесты по русскому языку. 1 класс», М.,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606600" y="476280"/>
            <a:ext cx="7930800" cy="60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Arial"/>
                <a:ea typeface="Arial"/>
              </a:rPr>
              <a:t>1. В слове может быть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Скругленный прямоугольник 3"/>
          <p:cNvSpPr/>
          <p:nvPr/>
        </p:nvSpPr>
        <p:spPr>
          <a:xfrm>
            <a:off x="4211640" y="4076640"/>
            <a:ext cx="4248000" cy="7826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f81bd">
                  <a:alpha val="50196"/>
                </a:srgbClr>
              </a:gs>
              <a:gs pos="100000">
                <a:srgbClr val="ff9933">
                  <a:alpha val="65098"/>
                </a:srgbClr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Arial"/>
                <a:ea typeface="Arial"/>
              </a:rPr>
              <a:t>один ударный гласный зву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Скругленный прямоугольник 4"/>
          <p:cNvSpPr/>
          <p:nvPr/>
        </p:nvSpPr>
        <p:spPr>
          <a:xfrm>
            <a:off x="4140360" y="2708280"/>
            <a:ext cx="4321080" cy="8557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f81bd">
                  <a:alpha val="50196"/>
                </a:srgbClr>
              </a:gs>
              <a:gs pos="100000">
                <a:srgbClr val="ff9933">
                  <a:alpha val="65098"/>
                </a:srgbClr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Arial"/>
                <a:ea typeface="Arial"/>
              </a:rPr>
              <a:t>два  ударных гласных зву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Скругленный прямоугольник 5"/>
          <p:cNvSpPr/>
          <p:nvPr/>
        </p:nvSpPr>
        <p:spPr>
          <a:xfrm>
            <a:off x="4140360" y="5300640"/>
            <a:ext cx="4321080" cy="7840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f81bd">
                  <a:alpha val="51372"/>
                </a:srgbClr>
              </a:gs>
              <a:gs pos="100000">
                <a:srgbClr val="ff9933">
                  <a:alpha val="65098"/>
                </a:srgbClr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Arial"/>
                <a:ea typeface="Arial"/>
              </a:rPr>
              <a:t>все гласные звуки удар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900000" y="2781360"/>
            <a:ext cx="2414880" cy="257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606600" y="333360"/>
            <a:ext cx="793080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Arial"/>
                <a:ea typeface="Arial"/>
              </a:rPr>
              <a:t>2. Чтобы проверить безударный гласный звук, надо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Скругленный прямоугольник 3"/>
          <p:cNvSpPr/>
          <p:nvPr/>
        </p:nvSpPr>
        <p:spPr>
          <a:xfrm>
            <a:off x="1042920" y="5445000"/>
            <a:ext cx="4248360" cy="7113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f81bd">
                  <a:alpha val="50196"/>
                </a:srgbClr>
              </a:gs>
              <a:gs pos="100000">
                <a:srgbClr val="ff9933">
                  <a:alpha val="78039"/>
                </a:srgbClr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Arial"/>
                <a:ea typeface="Arial"/>
              </a:rPr>
              <a:t>поставить его под удар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Скругленный прямоугольник 4"/>
          <p:cNvSpPr/>
          <p:nvPr/>
        </p:nvSpPr>
        <p:spPr>
          <a:xfrm>
            <a:off x="971640" y="3933720"/>
            <a:ext cx="4321080" cy="7113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f81bd">
                  <a:alpha val="50196"/>
                </a:srgbClr>
              </a:gs>
              <a:gs pos="100000">
                <a:srgbClr val="ff9933">
                  <a:alpha val="79215"/>
                </a:srgbClr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Arial"/>
                <a:ea typeface="Arial"/>
              </a:rPr>
              <a:t>заменить на друг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Скругленный прямоугольник 5"/>
          <p:cNvSpPr/>
          <p:nvPr/>
        </p:nvSpPr>
        <p:spPr>
          <a:xfrm>
            <a:off x="971640" y="2492280"/>
            <a:ext cx="4321080" cy="711360"/>
          </a:xfrm>
          <a:prstGeom prst="roundRect">
            <a:avLst>
              <a:gd name="adj" fmla="val 47778"/>
            </a:avLst>
          </a:prstGeom>
          <a:gradFill rotWithShape="0">
            <a:gsLst>
              <a:gs pos="0">
                <a:srgbClr val="4f81bd">
                  <a:alpha val="50196"/>
                </a:srgbClr>
              </a:gs>
              <a:gs pos="100000">
                <a:srgbClr val="ff9933">
                  <a:alpha val="79215"/>
                </a:srgbClr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Arial"/>
                <a:ea typeface="Arial"/>
              </a:rPr>
              <a:t>проверить его согласны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6516720" y="2708280"/>
            <a:ext cx="1747800" cy="237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569520" y="333000"/>
            <a:ext cx="8250120" cy="13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Arial"/>
                <a:ea typeface="Arial"/>
              </a:rPr>
              <a:t>3. Какие гласные звуки в безударных слогах всегда требуют проверки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Скругленный прямоугольник 3"/>
          <p:cNvSpPr/>
          <p:nvPr/>
        </p:nvSpPr>
        <p:spPr>
          <a:xfrm>
            <a:off x="2411280" y="2708280"/>
            <a:ext cx="4321440" cy="7207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f81bd">
                  <a:alpha val="51372"/>
                </a:srgbClr>
              </a:gs>
              <a:gs pos="100000">
                <a:srgbClr val="ff9933">
                  <a:alpha val="78039"/>
                </a:srgbClr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Arial"/>
                <a:ea typeface="Arial"/>
              </a:rPr>
              <a:t>а, о, и, е, 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Скругленный прямоугольник 4"/>
          <p:cNvSpPr/>
          <p:nvPr/>
        </p:nvSpPr>
        <p:spPr>
          <a:xfrm>
            <a:off x="2419200" y="3645000"/>
            <a:ext cx="4305600" cy="711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f81bd">
                  <a:alpha val="50196"/>
                </a:srgbClr>
              </a:gs>
              <a:gs pos="100000">
                <a:srgbClr val="ff9933">
                  <a:alpha val="79215"/>
                </a:srgbClr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Arial"/>
                <a:ea typeface="Arial"/>
              </a:rPr>
              <a:t>у, ю, ы, э, 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Скругленный прямоугольник 5"/>
          <p:cNvSpPr/>
          <p:nvPr/>
        </p:nvSpPr>
        <p:spPr>
          <a:xfrm>
            <a:off x="2419200" y="4653000"/>
            <a:ext cx="4305600" cy="709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f81bd">
                  <a:alpha val="50196"/>
                </a:srgbClr>
              </a:gs>
              <a:gs pos="100000">
                <a:srgbClr val="ff9933">
                  <a:alpha val="78039"/>
                </a:srgbClr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Arial"/>
                <a:ea typeface="Arial"/>
              </a:rPr>
              <a:t>у, а, е, ы 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465120" y="475920"/>
            <a:ext cx="821376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Arial"/>
                <a:ea typeface="Arial"/>
              </a:rPr>
              <a:t>4. В каком столбике слова не требуют проверки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/>
          <p:nvPr/>
        </p:nvSpPr>
        <p:spPr>
          <a:xfrm>
            <a:off x="539640" y="2349360"/>
            <a:ext cx="2232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8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80"/>
                </a:solidFill>
                <a:latin typeface="Arial"/>
              </a:rPr>
              <a:t>земл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80"/>
                </a:solidFill>
                <a:latin typeface="Arial"/>
              </a:rPr>
              <a:t>звёзд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80"/>
                </a:solidFill>
                <a:latin typeface="Arial"/>
              </a:rPr>
              <a:t>свинь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80"/>
                </a:solidFill>
                <a:latin typeface="Arial"/>
              </a:rPr>
              <a:t>мя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80"/>
                </a:solidFill>
                <a:latin typeface="Arial"/>
              </a:rPr>
              <a:t>журавл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492360" y="2421000"/>
            <a:ext cx="2159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8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80"/>
                </a:solidFill>
                <a:latin typeface="Arial"/>
              </a:rPr>
              <a:t>земл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80"/>
                </a:solidFill>
                <a:latin typeface="Arial"/>
              </a:rPr>
              <a:t>звез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80"/>
                </a:solidFill>
                <a:latin typeface="Arial"/>
              </a:rPr>
              <a:t>свинь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80"/>
                </a:solidFill>
                <a:latin typeface="Arial"/>
              </a:rPr>
              <a:t>мяч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80"/>
                </a:solidFill>
                <a:latin typeface="Arial"/>
              </a:rPr>
              <a:t>журавл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Скругленный прямоугольник 4"/>
          <p:cNvSpPr/>
          <p:nvPr/>
        </p:nvSpPr>
        <p:spPr>
          <a:xfrm>
            <a:off x="6659640" y="5013360"/>
            <a:ext cx="2000160" cy="1143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f81bd">
                  <a:alpha val="50196"/>
                </a:srgbClr>
              </a:gs>
              <a:gs pos="100000">
                <a:srgbClr val="ff9933">
                  <a:alpha val="79215"/>
                </a:srgbClr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Arial"/>
                <a:ea typeface="Arial"/>
              </a:rPr>
              <a:t>нет такого столб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Скругленный прямоугольник 4"/>
          <p:cNvSpPr/>
          <p:nvPr/>
        </p:nvSpPr>
        <p:spPr>
          <a:xfrm>
            <a:off x="6588000" y="3645000"/>
            <a:ext cx="2000520" cy="1143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f81bd">
                  <a:alpha val="51372"/>
                </a:srgbClr>
              </a:gs>
              <a:gs pos="100000">
                <a:srgbClr val="ff9933">
                  <a:alpha val="78039"/>
                </a:srgbClr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Arial"/>
                <a:ea typeface="Arial"/>
              </a:rPr>
              <a:t>2 столб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Скругленный прямоугольник 3"/>
          <p:cNvSpPr/>
          <p:nvPr/>
        </p:nvSpPr>
        <p:spPr>
          <a:xfrm>
            <a:off x="6588000" y="2286000"/>
            <a:ext cx="2000520" cy="1143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f81bd">
                  <a:alpha val="50196"/>
                </a:srgbClr>
              </a:gs>
              <a:gs pos="100000">
                <a:srgbClr val="ff9933">
                  <a:alpha val="79215"/>
                </a:srgbClr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Arial"/>
                <a:ea typeface="Arial"/>
              </a:rPr>
              <a:t>1 столб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457200" y="54900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Arial"/>
                <a:ea typeface="Arial"/>
              </a:rPr>
              <a:t>5. В какой паре слов, проверочное слово подобрано неправильно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Скругленный прямоугольник 3"/>
          <p:cNvSpPr/>
          <p:nvPr/>
        </p:nvSpPr>
        <p:spPr>
          <a:xfrm>
            <a:off x="2664000" y="2571840"/>
            <a:ext cx="3816000" cy="8571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f81bd">
                  <a:alpha val="50196"/>
                </a:srgbClr>
              </a:gs>
              <a:gs pos="100000">
                <a:srgbClr val="ff9933">
                  <a:alpha val="78039"/>
                </a:srgbClr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Arial"/>
                <a:ea typeface="Arial"/>
              </a:rPr>
              <a:t>ходил - ходи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Скругленный прямоугольник 4"/>
          <p:cNvSpPr/>
          <p:nvPr/>
        </p:nvSpPr>
        <p:spPr>
          <a:xfrm>
            <a:off x="5076720" y="4292640"/>
            <a:ext cx="3656160" cy="927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f81bd">
                  <a:alpha val="51372"/>
                </a:srgbClr>
              </a:gs>
              <a:gs pos="100000">
                <a:srgbClr val="ff9933">
                  <a:alpha val="79215"/>
                </a:srgbClr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Arial"/>
                <a:ea typeface="Arial"/>
              </a:rPr>
              <a:t>хлеба - хлеб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Скругленный прямоугольник 5"/>
          <p:cNvSpPr/>
          <p:nvPr/>
        </p:nvSpPr>
        <p:spPr>
          <a:xfrm>
            <a:off x="395280" y="4292640"/>
            <a:ext cx="3745080" cy="927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f81bd">
                  <a:alpha val="52156"/>
                </a:srgbClr>
              </a:gs>
              <a:gs pos="100000">
                <a:srgbClr val="ff9933">
                  <a:alpha val="80392"/>
                </a:srgbClr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Arial"/>
                <a:ea typeface="Arial"/>
              </a:rPr>
              <a:t>мясной - мяс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569880" y="475920"/>
            <a:ext cx="80028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Arial"/>
                <a:ea typeface="Arial"/>
              </a:rPr>
              <a:t>6. Буквы каких звуков проверяются ударением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Скругленный прямоугольник 3"/>
          <p:cNvSpPr/>
          <p:nvPr/>
        </p:nvSpPr>
        <p:spPr>
          <a:xfrm>
            <a:off x="3346560" y="5300640"/>
            <a:ext cx="2449440" cy="1287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f81bd">
                  <a:alpha val="51372"/>
                </a:srgbClr>
              </a:gs>
              <a:gs pos="100000">
                <a:srgbClr val="ff9933">
                  <a:alpha val="79215"/>
                </a:srgbClr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Arial"/>
              </a:rPr>
              <a:t>буквы гласных зву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Скругленный прямоугольник 4"/>
          <p:cNvSpPr/>
          <p:nvPr/>
        </p:nvSpPr>
        <p:spPr>
          <a:xfrm>
            <a:off x="468360" y="4076640"/>
            <a:ext cx="2449440" cy="1297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f81bd">
                  <a:alpha val="51372"/>
                </a:srgbClr>
              </a:gs>
              <a:gs pos="100000">
                <a:srgbClr val="ff9933">
                  <a:alpha val="79215"/>
                </a:srgbClr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Arial"/>
                <a:ea typeface="Arial"/>
              </a:rPr>
              <a:t>буквы согласных зву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Скругленный прямоугольник 5"/>
          <p:cNvSpPr/>
          <p:nvPr/>
        </p:nvSpPr>
        <p:spPr>
          <a:xfrm>
            <a:off x="6156360" y="3933720"/>
            <a:ext cx="2736720" cy="1657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f81bd">
                  <a:alpha val="51372"/>
                </a:srgbClr>
              </a:gs>
              <a:gs pos="100000">
                <a:srgbClr val="ff9933">
                  <a:alpha val="78039"/>
                </a:srgbClr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Arial"/>
                <a:ea typeface="Arial"/>
              </a:rPr>
              <a:t>буквы глухих согласных зву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754360" y="1773360"/>
            <a:ext cx="3633840" cy="205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569880" y="476280"/>
            <a:ext cx="800280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Arial"/>
                <a:ea typeface="Arial"/>
              </a:rPr>
              <a:t>7. В каких словах безударные гласные нельзя проверить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Скругленный прямоугольник 3"/>
          <p:cNvSpPr/>
          <p:nvPr/>
        </p:nvSpPr>
        <p:spPr>
          <a:xfrm>
            <a:off x="3571920" y="2852640"/>
            <a:ext cx="2000160" cy="3451320"/>
          </a:xfrm>
          <a:custGeom>
            <a:avLst/>
            <a:gdLst>
              <a:gd name="textAreaLeft" fmla="*/ 138240 w 2000160"/>
              <a:gd name="textAreaRight" fmla="*/ 1861920 w 2000160"/>
              <a:gd name="textAreaTop" fmla="*/ 138240 h 3451320"/>
              <a:gd name="textAreaBottom" fmla="*/ 3313080 h 3451320"/>
            </a:gdLst>
            <a:ahLst/>
            <a:rect l="textAreaLeft" t="textAreaTop" r="textAreaRight" b="textAreaBottom"/>
            <a:pathLst>
              <a:path w="21600" h="37268">
                <a:moveTo>
                  <a:pt x="5109" y="0"/>
                </a:moveTo>
                <a:arcTo wR="5109" hR="5109" stAng="16200000" swAng="-5400000"/>
                <a:lnTo>
                  <a:pt x="0" y="32159"/>
                </a:lnTo>
                <a:arcTo wR="5109" hR="5109" stAng="10800000" swAng="-5400000"/>
                <a:lnTo>
                  <a:pt x="16491" y="37268"/>
                </a:lnTo>
                <a:arcTo wR="5109" hR="5109" stAng="5400000" swAng="-5400000"/>
                <a:lnTo>
                  <a:pt x="21600" y="5109"/>
                </a:lnTo>
                <a:arcTo wR="5109" hR="5109" stAng="0" swAng="-5400000"/>
                <a:close/>
              </a:path>
            </a:pathLst>
          </a:custGeom>
          <a:gradFill rotWithShape="0">
            <a:gsLst>
              <a:gs pos="0">
                <a:srgbClr val="ff9966">
                  <a:alpha val="51372"/>
                </a:srgbClr>
              </a:gs>
              <a:gs pos="50000">
                <a:srgbClr val="4f81bd">
                  <a:alpha val="51372"/>
                </a:srgbClr>
              </a:gs>
              <a:gs pos="100000">
                <a:srgbClr val="ff9966">
                  <a:alpha val="51372"/>
                </a:srgbClr>
              </a:gs>
            </a:gsLst>
            <a:lin ang="135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Arial"/>
                <a:ea typeface="Arial"/>
              </a:rPr>
              <a:t>пальт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Arial"/>
                <a:ea typeface="Arial"/>
              </a:rPr>
              <a:t>соба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Arial"/>
                <a:ea typeface="Arial"/>
              </a:rPr>
              <a:t>коро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Arial"/>
                <a:ea typeface="Arial"/>
              </a:rPr>
              <a:t>сапо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Arial"/>
                <a:ea typeface="Arial"/>
              </a:rPr>
              <a:t>тетрад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Скругленный прямоугольник 4"/>
          <p:cNvSpPr/>
          <p:nvPr/>
        </p:nvSpPr>
        <p:spPr>
          <a:xfrm>
            <a:off x="6300720" y="2852640"/>
            <a:ext cx="2000160" cy="3451320"/>
          </a:xfrm>
          <a:custGeom>
            <a:avLst/>
            <a:gdLst>
              <a:gd name="textAreaLeft" fmla="*/ 134640 w 2000160"/>
              <a:gd name="textAreaRight" fmla="*/ 1865520 w 2000160"/>
              <a:gd name="textAreaTop" fmla="*/ 134640 h 3451320"/>
              <a:gd name="textAreaBottom" fmla="*/ 3316680 h 3451320"/>
            </a:gdLst>
            <a:ahLst/>
            <a:rect l="textAreaLeft" t="textAreaTop" r="textAreaRight" b="textAreaBottom"/>
            <a:pathLst>
              <a:path w="21600" h="37268">
                <a:moveTo>
                  <a:pt x="4971" y="0"/>
                </a:moveTo>
                <a:arcTo wR="4971" hR="4971" stAng="16200000" swAng="-5400000"/>
                <a:lnTo>
                  <a:pt x="0" y="32297"/>
                </a:lnTo>
                <a:arcTo wR="4971" hR="4971" stAng="10800000" swAng="-5400000"/>
                <a:lnTo>
                  <a:pt x="16629" y="37268"/>
                </a:lnTo>
                <a:arcTo wR="4971" hR="4971" stAng="5400000" swAng="-5400000"/>
                <a:lnTo>
                  <a:pt x="21600" y="4971"/>
                </a:lnTo>
                <a:arcTo wR="4971" hR="4971" stAng="0" swAng="-5400000"/>
                <a:close/>
              </a:path>
            </a:pathLst>
          </a:custGeom>
          <a:gradFill rotWithShape="0">
            <a:gsLst>
              <a:gs pos="0">
                <a:srgbClr val="4f81bd">
                  <a:alpha val="51372"/>
                </a:srgbClr>
              </a:gs>
              <a:gs pos="100000">
                <a:srgbClr val="ff9966">
                  <a:alpha val="51372"/>
                </a:srgbClr>
              </a:gs>
            </a:gsLst>
            <a:lin ang="81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Arial"/>
                <a:ea typeface="Arial"/>
              </a:rPr>
              <a:t>мясн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Arial"/>
                <a:ea typeface="Arial"/>
              </a:rPr>
              <a:t>род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Arial"/>
                <a:ea typeface="Arial"/>
              </a:rPr>
              <a:t>зелё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Arial"/>
                <a:ea typeface="Arial"/>
              </a:rPr>
              <a:t>молод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Arial"/>
                <a:ea typeface="Arial"/>
              </a:rPr>
              <a:t>лес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Скругленный прямоугольник 5"/>
          <p:cNvSpPr/>
          <p:nvPr/>
        </p:nvSpPr>
        <p:spPr>
          <a:xfrm>
            <a:off x="826920" y="2852640"/>
            <a:ext cx="2000520" cy="3451320"/>
          </a:xfrm>
          <a:custGeom>
            <a:avLst/>
            <a:gdLst>
              <a:gd name="textAreaLeft" fmla="*/ 160920 w 2000520"/>
              <a:gd name="textAreaRight" fmla="*/ 1839600 w 2000520"/>
              <a:gd name="textAreaTop" fmla="*/ 160920 h 3451320"/>
              <a:gd name="textAreaBottom" fmla="*/ 3290400 h 3451320"/>
            </a:gdLst>
            <a:ahLst/>
            <a:rect l="textAreaLeft" t="textAreaTop" r="textAreaRight" b="textAreaBottom"/>
            <a:pathLst>
              <a:path w="21600" h="37262">
                <a:moveTo>
                  <a:pt x="5931" y="0"/>
                </a:moveTo>
                <a:arcTo wR="5931" hR="5931" stAng="16200000" swAng="-5400000"/>
                <a:lnTo>
                  <a:pt x="0" y="31331"/>
                </a:lnTo>
                <a:arcTo wR="5931" hR="5931" stAng="10800000" swAng="-5400000"/>
                <a:lnTo>
                  <a:pt x="15669" y="37262"/>
                </a:lnTo>
                <a:arcTo wR="5931" hR="5931" stAng="5400000" swAng="-5400000"/>
                <a:lnTo>
                  <a:pt x="21600" y="5931"/>
                </a:lnTo>
                <a:arcTo wR="5931" hR="5931" stAng="0" swAng="-5400000"/>
                <a:close/>
              </a:path>
            </a:pathLst>
          </a:custGeom>
          <a:gradFill rotWithShape="0">
            <a:gsLst>
              <a:gs pos="0">
                <a:srgbClr val="ff9966">
                  <a:alpha val="50196"/>
                </a:srgbClr>
              </a:gs>
              <a:gs pos="100000">
                <a:srgbClr val="4f81bd">
                  <a:alpha val="50196"/>
                </a:srgbClr>
              </a:gs>
            </a:gsLst>
            <a:lin ang="135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Arial"/>
                <a:ea typeface="Arial"/>
              </a:rPr>
              <a:t>мор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Arial"/>
                <a:ea typeface="Arial"/>
              </a:rPr>
              <a:t>до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Arial"/>
                <a:ea typeface="Arial"/>
              </a:rPr>
              <a:t>вес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Arial"/>
                <a:ea typeface="Arial"/>
              </a:rPr>
              <a:t>ли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Arial"/>
                <a:ea typeface="Arial"/>
              </a:rPr>
              <a:t>лошад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6T13:09:51Z</dcterms:created>
  <dc:creator>ind</dc:creator>
  <dc:description/>
  <dc:language>en-US</dc:language>
  <cp:lastModifiedBy>Учитель</cp:lastModifiedBy>
  <dcterms:modified xsi:type="dcterms:W3CDTF">2013-11-11T06:27:26Z</dcterms:modified>
  <cp:revision>728</cp:revision>
  <dc:subject/>
  <dc:title>Слайд 1</dc:title>
</cp:coreProperties>
</file>