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4F9-C6B8-4D11-A808-A960B896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A66-BC1A-48F7-AE1B-319F725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76B-29D7-48C7-9029-311ACD02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877-AFF7-4047-8D6B-A943806F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3E5-927D-4D51-A14F-EA1BC0B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45E-14D1-4025-A913-0E2537E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F2-A57E-49B0-9444-28CEAADC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BBD-597B-4057-AD53-4ED332C9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E44-7EB8-49C2-84F2-2FF6871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40B-F747-41EE-AB09-F115695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D7B-6308-4098-AA0A-232629F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BB3-6D00-40C2-8B94-7A09FDE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895-0EAD-4B33-A8A7-96E9A5436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620280"/>
            <a:ext cx="81784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Ударные и безударные </a:t>
            </a:r>
            <a:br>
              <a:rPr sz="4400"/>
            </a:b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гласные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2813040" y="4365720"/>
            <a:ext cx="35164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08200" y="2847960"/>
            <a:ext cx="572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Тест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-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566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Автор ВохмянинаС.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8. В каком столбике слов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492280"/>
            <a:ext cx="20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492280"/>
            <a:ext cx="21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/>
          <p:cNvSpPr/>
          <p:nvPr/>
        </p:nvSpPr>
        <p:spPr>
          <a:xfrm>
            <a:off x="5796000" y="515772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5724360" y="213372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796000" y="364500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69880" y="475920"/>
            <a:ext cx="81057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9. В какой паре слов, проверочное слово подобрано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932360" y="2852640"/>
            <a:ext cx="3816360" cy="85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й - зе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932360" y="5445000"/>
            <a:ext cx="365616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 - вес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932360" y="4221000"/>
            <a:ext cx="374508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ой -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257328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0. Буквы каких звуков не следует проверять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6156360" y="4581360"/>
            <a:ext cx="2232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611280" y="4653000"/>
            <a:ext cx="2232000" cy="16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46560" y="2073240"/>
            <a:ext cx="24508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1. В каких словах безударные гласные можно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6156360" y="285264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351240" y="285264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ff9933">
                  <a:alpha val="65098"/>
                </a:srgbClr>
              </a:gs>
              <a:gs pos="100000">
                <a:srgbClr val="4f81bd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аб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еж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84360" y="285264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одержимое 2"/>
          <p:cNvSpPr/>
          <p:nvPr/>
        </p:nvSpPr>
        <p:spPr>
          <a:xfrm>
            <a:off x="324000" y="306864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Верно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6300720" y="5445000"/>
            <a:ext cx="2463840" cy="95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65098"/>
                </a:srgbClr>
              </a:gs>
              <a:gs pos="50000">
                <a:srgbClr val="4f81bd">
                  <a:alpha val="53333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ремя: 1 мин. 16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5040360" cy="316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5445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пособия Л.П. Николаевой, И.В. Ивановой «Тесты по русскому языку. 1 класс», М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6600" y="476280"/>
            <a:ext cx="793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. В слове может бы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211640" y="4076640"/>
            <a:ext cx="4248000" cy="78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один ударный гласный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140360" y="2708280"/>
            <a:ext cx="4321080" cy="855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два  ударных гласных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140360" y="5300640"/>
            <a:ext cx="4321080" cy="784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се гласные звуки 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6600" y="333360"/>
            <a:ext cx="793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2. Чтобы проверить безударный гласный звук, над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1042920" y="5445000"/>
            <a:ext cx="42483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71640" y="3933720"/>
            <a:ext cx="432108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971640" y="2492280"/>
            <a:ext cx="4321080" cy="71136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7478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9520" y="333000"/>
            <a:ext cx="82501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3. Какие гласные звуки в безударных слогах всегд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2411280" y="2708280"/>
            <a:ext cx="432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а, о, и, е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419200" y="3645000"/>
            <a:ext cx="4305600" cy="711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ю, ы, э, 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419200" y="4653000"/>
            <a:ext cx="43056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а, е, ы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5120" y="475920"/>
            <a:ext cx="8213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4. В каком столбике слова не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34936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42100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/>
          <p:cNvSpPr/>
          <p:nvPr/>
        </p:nvSpPr>
        <p:spPr>
          <a:xfrm>
            <a:off x="6588000" y="3645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6588000" y="2286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5. В какой паре слов, проверочное слово подобрано неправиль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664000" y="2571840"/>
            <a:ext cx="381600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дил - хо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5076720" y="4292640"/>
            <a:ext cx="365616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леба - хл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95280" y="4292640"/>
            <a:ext cx="374508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215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 - мя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69880" y="475920"/>
            <a:ext cx="8002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6. Буквы каких звуков проверяются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3"/>
          <p:cNvSpPr/>
          <p:nvPr/>
        </p:nvSpPr>
        <p:spPr>
          <a:xfrm>
            <a:off x="3346560" y="5300640"/>
            <a:ext cx="2449440" cy="12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468360" y="4076640"/>
            <a:ext cx="24494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6156360" y="3933720"/>
            <a:ext cx="273672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54360" y="1773360"/>
            <a:ext cx="363384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69880" y="476280"/>
            <a:ext cx="800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7. В каких словах безударные гласные нельзя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3571920" y="2852640"/>
            <a:ext cx="2000160" cy="3451320"/>
          </a:xfrm>
          <a:custGeom>
            <a:avLst/>
            <a:gdLst>
              <a:gd name="textAreaLeft" fmla="*/ 138240 w 2000160"/>
              <a:gd name="textAreaRight" fmla="*/ 1861920 w 2000160"/>
              <a:gd name="textAreaTop" fmla="*/ 138240 h 3451320"/>
              <a:gd name="textAreaBottom" fmla="*/ 3313080 h 3451320"/>
            </a:gdLst>
            <a:ahLst/>
            <a:rect l="textAreaLeft" t="textAreaTop" r="textAreaRight" b="textAreaBottom"/>
            <a:pathLst>
              <a:path w="21600" h="37268">
                <a:moveTo>
                  <a:pt x="5109" y="0"/>
                </a:moveTo>
                <a:arcTo wR="5109" hR="5109" stAng="16200000" swAng="-5400000"/>
                <a:lnTo>
                  <a:pt x="0" y="32159"/>
                </a:lnTo>
                <a:arcTo wR="5109" hR="5109" stAng="10800000" swAng="-5400000"/>
                <a:lnTo>
                  <a:pt x="16491" y="3726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1372"/>
                </a:srgbClr>
              </a:gs>
              <a:gs pos="5000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аль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ап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300720" y="2852640"/>
            <a:ext cx="2000160" cy="3451320"/>
          </a:xfrm>
          <a:custGeom>
            <a:avLst/>
            <a:gdLst>
              <a:gd name="textAreaLeft" fmla="*/ 134640 w 2000160"/>
              <a:gd name="textAreaRight" fmla="*/ 1865520 w 2000160"/>
              <a:gd name="textAreaTop" fmla="*/ 134640 h 3451320"/>
              <a:gd name="textAreaBottom" fmla="*/ 3316680 h 3451320"/>
            </a:gdLst>
            <a:ahLst/>
            <a:rect l="textAreaLeft" t="textAreaTop" r="textAreaRight" b="textAreaBottom"/>
            <a:pathLst>
              <a:path w="21600" h="37268">
                <a:moveTo>
                  <a:pt x="4971" y="0"/>
                </a:moveTo>
                <a:arcTo wR="4971" hR="4971" stAng="16200000" swAng="-5400000"/>
                <a:lnTo>
                  <a:pt x="0" y="32297"/>
                </a:lnTo>
                <a:arcTo wR="4971" hR="4971" stAng="10800000" swAng="-5400000"/>
                <a:lnTo>
                  <a:pt x="16629" y="37268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826920" y="2852640"/>
            <a:ext cx="2000520" cy="3451320"/>
          </a:xfrm>
          <a:custGeom>
            <a:avLst/>
            <a:gdLst>
              <a:gd name="textAreaLeft" fmla="*/ 160920 w 2000520"/>
              <a:gd name="textAreaRight" fmla="*/ 1839600 w 2000520"/>
              <a:gd name="textAreaTop" fmla="*/ 160920 h 3451320"/>
              <a:gd name="textAreaBottom" fmla="*/ 3290400 h 3451320"/>
            </a:gdLst>
            <a:ahLst/>
            <a:rect l="textAreaLeft" t="textAreaTop" r="textAreaRight" b="textAreaBottom"/>
            <a:pathLst>
              <a:path w="21600" h="37262">
                <a:moveTo>
                  <a:pt x="5931" y="0"/>
                </a:moveTo>
                <a:arcTo wR="5931" hR="5931" stAng="16200000" swAng="-5400000"/>
                <a:lnTo>
                  <a:pt x="0" y="31331"/>
                </a:lnTo>
                <a:arcTo wR="5931" hR="5931" stAng="10800000" swAng="-5400000"/>
                <a:lnTo>
                  <a:pt x="15669" y="37262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0196"/>
                </a:srgbClr>
              </a:gs>
              <a:gs pos="100000">
                <a:srgbClr val="4f81bd">
                  <a:alpha val="50196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3-11-11T06:27:26Z</dcterms:modified>
  <cp:revision>728</cp:revision>
  <dc:subject/>
  <dc:title>Слайд 1</dc:title>
</cp:coreProperties>
</file>