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8.gif" ContentType="image/gif"/>
  <Override PartName="/ppt/media/image8.png" ContentType="image/png"/>
  <Override PartName="/ppt/media/image38.png" ContentType="image/png"/>
  <Override PartName="/ppt/media/image39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44.jpeg" ContentType="image/jpeg"/>
  <Override PartName="/ppt/media/image40.jpeg" ContentType="image/jpeg"/>
  <Override PartName="/ppt/media/image45.jpeg" ContentType="image/jpeg"/>
  <Override PartName="/ppt/media/image48.jpeg" ContentType="image/jpeg"/>
  <Override PartName="/ppt/media/image50.gif" ContentType="image/gif"/>
  <Override PartName="/ppt/media/image57.jpeg" ContentType="image/jpeg"/>
  <Override PartName="/ppt/media/image11.png" ContentType="image/png"/>
  <Override PartName="/ppt/media/image46.png" ContentType="image/png"/>
  <Override PartName="/ppt/media/image53.gif" ContentType="image/gif"/>
  <Override PartName="/ppt/media/image58.jpeg" ContentType="image/jpeg"/>
  <Override PartName="/ppt/media/image51.jpeg" ContentType="image/jpeg"/>
  <Override PartName="/ppt/media/image55.jpeg" ContentType="image/jpeg"/>
  <Override PartName="/ppt/media/image43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2.gif" ContentType="image/gif"/>
  <Override PartName="/ppt/media/image42.jpeg" ContentType="image/jpeg"/>
  <Override PartName="/ppt/media/image31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B61-9915-43E1-AE85-5B01201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2BB-5E74-45A2-9649-4710BE6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26F-B84B-4EEB-92A3-937BF69A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918-5EDB-4921-8DB8-5AA510D5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A71-9F12-4369-9D4E-4AAC534E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689-60C1-4AA5-8E55-2FD123A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661-936E-4EB9-B261-8204093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665-E066-43DF-BFD9-58C135F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722-226D-4E62-93B7-3B9F75E9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067-9834-4CEF-84DA-07F6925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99D-9EE6-4C94-88CC-6D0EE2E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FFF-FD47-4E6E-9BF5-3FFEAE48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319-C054-446F-9429-1BE21B649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_Velikij_Prazdnichnyj_Zvon_Provodnoj_(Pogrebalnyj)_Zvon_Krasnyj_Zvo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garanin_novodev.mp3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2" descr=""/>
          <p:cNvPicPr/>
          <p:nvPr/>
        </p:nvPicPr>
        <p:blipFill>
          <a:blip r:embed="rId4"/>
          <a:stretch/>
        </p:blipFill>
        <p:spPr>
          <a:xfrm>
            <a:off x="281160" y="1743120"/>
            <a:ext cx="8296200" cy="212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3714840" y="4214880"/>
            <a:ext cx="1857240" cy="2152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71680" y="4643280"/>
            <a:ext cx="2143080" cy="1605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6357960" y="4500720"/>
            <a:ext cx="2286000" cy="1722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3643200" y="285840"/>
            <a:ext cx="1641600" cy="1641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9" name="14_Velikij_Prazdnichnyj_Zvon_Provodnoj_(Pogrebalnyj)_Zvon_Krasnyj_Zvon.mp3" descr=""/>
          <p:cNvPicPr/>
          <p:nvPr/>
        </p:nvPicPr>
        <p:blipFill>
          <a:blip r:embed="rId9"/>
          <a:stretch/>
        </p:blipFill>
        <p:spPr>
          <a:xfrm>
            <a:off x="42876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437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555877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558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767567_normal.jpg"/>
          <p:cNvPicPr/>
          <p:nvPr/>
        </p:nvPicPr>
        <p:blipFill>
          <a:blip r:embed="rId2"/>
          <a:stretch/>
        </p:blipFill>
        <p:spPr>
          <a:xfrm>
            <a:off x="0" y="0"/>
            <a:ext cx="2714760" cy="4071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DSC05487.JPG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8" descr="detail_september2.jpg"/>
          <p:cNvPicPr/>
          <p:nvPr/>
        </p:nvPicPr>
        <p:blipFill>
          <a:blip r:embed="rId4"/>
          <a:stretch/>
        </p:blipFill>
        <p:spPr>
          <a:xfrm>
            <a:off x="2786040" y="3571920"/>
            <a:ext cx="3867120" cy="30909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2714760" y="0"/>
            <a:ext cx="378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Колокола сопровождают жизнь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Радостно и звонко звонят они на крещение и ве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Грустным звоном отправляют в последний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06_Vstrechnyj_zvon.mp3" descr=""/>
          <p:cNvPicPr/>
          <p:nvPr/>
        </p:nvPicPr>
        <p:blipFill>
          <a:blip r:embed="rId5"/>
          <a:stretch/>
        </p:blipFill>
        <p:spPr>
          <a:xfrm>
            <a:off x="7000920" y="3929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57200" y="4714920"/>
            <a:ext cx="3828960" cy="1411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9936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643120" y="357120"/>
            <a:ext cx="4167360" cy="33577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40" y="2428920"/>
            <a:ext cx="1612800" cy="1285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9" name="Picture 2" descr="H:\колокола-2\колокол5.jpg"/>
          <p:cNvPicPr/>
          <p:nvPr/>
        </p:nvPicPr>
        <p:blipFill>
          <a:blip r:embed="rId4"/>
          <a:stretch/>
        </p:blipFill>
        <p:spPr>
          <a:xfrm>
            <a:off x="4357800" y="4000680"/>
            <a:ext cx="3767040" cy="25002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0" name="Picture 10" descr="C:\Documents and Settings\Комп\Рабочий стол\анимации\колоккол5.gif"/>
          <p:cNvPicPr/>
          <p:nvPr/>
        </p:nvPicPr>
        <p:blipFill>
          <a:blip r:embed="rId5"/>
          <a:stretch/>
        </p:blipFill>
        <p:spPr>
          <a:xfrm>
            <a:off x="500040" y="4929120"/>
            <a:ext cx="928800" cy="1217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kolok2011z2.jpg"/>
          <p:cNvPicPr/>
          <p:nvPr/>
        </p:nvPicPr>
        <p:blipFill>
          <a:blip r:embed="rId2"/>
          <a:stretch/>
        </p:blipFill>
        <p:spPr>
          <a:xfrm>
            <a:off x="1214280" y="1000080"/>
            <a:ext cx="250524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kolok2011z3.jpg"/>
          <p:cNvPicPr/>
          <p:nvPr/>
        </p:nvPicPr>
        <p:blipFill>
          <a:blip r:embed="rId3"/>
          <a:stretch/>
        </p:blipFill>
        <p:spPr>
          <a:xfrm>
            <a:off x="5357880" y="1143000"/>
            <a:ext cx="25048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Комп\Рабочий стол\анимации\ангелы.gif"/>
          <p:cNvPicPr/>
          <p:nvPr/>
        </p:nvPicPr>
        <p:blipFill>
          <a:blip r:embed="rId2"/>
          <a:stretch/>
        </p:blipFill>
        <p:spPr>
          <a:xfrm>
            <a:off x="3500280" y="571680"/>
            <a:ext cx="1928880" cy="1071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214280" y="171468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 за 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6929280" y="4643280"/>
            <a:ext cx="1333800" cy="1067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8" name="Picture 2" descr="H:\колокола-2\колокольчики17.JPG"/>
          <p:cNvPicPr/>
          <p:nvPr/>
        </p:nvPicPr>
        <p:blipFill>
          <a:blip r:embed="rId4"/>
          <a:stretch/>
        </p:blipFill>
        <p:spPr>
          <a:xfrm>
            <a:off x="571680" y="3929040"/>
            <a:ext cx="2833560" cy="23605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9" name="Picture 10" descr="H:\колокола-2\колокольчики38.JPG"/>
          <p:cNvPicPr/>
          <p:nvPr/>
        </p:nvPicPr>
        <p:blipFill>
          <a:blip r:embed="rId5"/>
          <a:stretch/>
        </p:blipFill>
        <p:spPr>
          <a:xfrm>
            <a:off x="7215120" y="1928880"/>
            <a:ext cx="1357560" cy="2035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30" name="Picture 7" descr="H:\колокола-2\колокольчики35.JPG"/>
          <p:cNvPicPr/>
          <p:nvPr/>
        </p:nvPicPr>
        <p:blipFill>
          <a:blip r:embed="rId6"/>
          <a:stretch/>
        </p:blipFill>
        <p:spPr>
          <a:xfrm>
            <a:off x="214200" y="1714680"/>
            <a:ext cx="2419560" cy="1814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31" name="Picture 3" descr="H:\колокола-2\колокольчики15.jpg"/>
          <p:cNvPicPr/>
          <p:nvPr/>
        </p:nvPicPr>
        <p:blipFill>
          <a:blip r:embed="rId7"/>
          <a:stretch/>
        </p:blipFill>
        <p:spPr>
          <a:xfrm>
            <a:off x="4572000" y="5000760"/>
            <a:ext cx="1428840" cy="1361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643120" y="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14200" y="357120"/>
            <a:ext cx="2773440" cy="18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 rot="900000">
            <a:off x="6026040" y="314280"/>
            <a:ext cx="2803680" cy="280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6429240" y="342900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68685131_6Z7V0353.jpg"/>
          <p:cNvPicPr/>
          <p:nvPr/>
        </p:nvPicPr>
        <p:blipFill>
          <a:blip r:embed="rId6"/>
          <a:stretch/>
        </p:blipFill>
        <p:spPr>
          <a:xfrm>
            <a:off x="2000160" y="2786040"/>
            <a:ext cx="4786560" cy="407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 rot="20880000">
            <a:off x="309600" y="2271240"/>
            <a:ext cx="2268360" cy="3211560"/>
          </a:xfrm>
          <a:prstGeom prst="rect">
            <a:avLst/>
          </a:prstGeom>
          <a:ln w="0">
            <a:noFill/>
          </a:ln>
        </p:spPr>
      </p:pic>
      <p:pic>
        <p:nvPicPr>
          <p:cNvPr id="58" name="bells.mp3" descr=""/>
          <p:cNvPicPr/>
          <p:nvPr/>
        </p:nvPicPr>
        <p:blipFill>
          <a:blip r:embed="rId8"/>
          <a:stretch/>
        </p:blipFill>
        <p:spPr>
          <a:xfrm>
            <a:off x="35712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2742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1806840" cy="2428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357960" y="1857240"/>
            <a:ext cx="1285920" cy="1711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3500280" y="1000080"/>
            <a:ext cx="2143440" cy="2800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5500800" y="4071960"/>
            <a:ext cx="3295440" cy="2471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64" name="TextBox 6"/>
          <p:cNvSpPr/>
          <p:nvPr/>
        </p:nvSpPr>
        <p:spPr>
          <a:xfrm>
            <a:off x="2071800" y="3571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арский серебряный кол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http://spor.ucoz.ru/_pu/0/s25047.jpg"/>
          <p:cNvPicPr/>
          <p:nvPr/>
        </p:nvPicPr>
        <p:blipFill>
          <a:blip r:embed="rId6"/>
          <a:stretch/>
        </p:blipFill>
        <p:spPr>
          <a:xfrm>
            <a:off x="500040" y="2000160"/>
            <a:ext cx="1995480" cy="2876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6" name="Picture 9" descr="C:\Documents and Settings\Комп\Рабочий стол\анимации\библия.gif"/>
          <p:cNvPicPr/>
          <p:nvPr/>
        </p:nvPicPr>
        <p:blipFill>
          <a:blip r:embed="rId7"/>
          <a:stretch/>
        </p:blipFill>
        <p:spPr>
          <a:xfrm>
            <a:off x="428760" y="50720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34960" y="1857240"/>
            <a:ext cx="3394080" cy="45244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940000">
            <a:off x="5369040" y="1537920"/>
            <a:ext cx="2143080" cy="25700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6215040" y="5000760"/>
            <a:ext cx="2538360" cy="1571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3000240" y="1000080"/>
            <a:ext cx="71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00080" y="428760"/>
            <a:ext cx="76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олокольня  «Иван великий» - 84 м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000240" y="1285920"/>
            <a:ext cx="2462400" cy="1928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714240" y="4500720"/>
            <a:ext cx="2500560" cy="186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2143080" cy="27669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4000680" y="3643200"/>
            <a:ext cx="1785600" cy="267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6286680" y="1571760"/>
            <a:ext cx="1857240" cy="1333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2214720" y="500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стовские  звон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C:\Documents and Settings\Комп\Рабочий стол\анимации\колокол.gif"/>
          <p:cNvPicPr/>
          <p:nvPr/>
        </p:nvPicPr>
        <p:blipFill>
          <a:blip r:embed="rId7"/>
          <a:stretch/>
        </p:blipFill>
        <p:spPr>
          <a:xfrm>
            <a:off x="714240" y="2643120"/>
            <a:ext cx="1357560" cy="1357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1" name="Ростовские звоны 1963 г. - Акимовский звон.mp3" descr=""/>
          <p:cNvPicPr/>
          <p:nvPr/>
        </p:nvPicPr>
        <p:blipFill>
          <a:blip r:embed="rId8"/>
          <a:stretch/>
        </p:blipFill>
        <p:spPr>
          <a:xfrm>
            <a:off x="35712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6227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786720" y="4429080"/>
            <a:ext cx="2071440" cy="1695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28760" y="4572000"/>
            <a:ext cx="2571480" cy="1749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5" name="Picture 2" descr="H:\колокола-2\колокола7.jpg"/>
          <p:cNvPicPr/>
          <p:nvPr/>
        </p:nvPicPr>
        <p:blipFill>
          <a:blip r:embed="rId4"/>
          <a:stretch/>
        </p:blipFill>
        <p:spPr>
          <a:xfrm>
            <a:off x="2500200" y="642960"/>
            <a:ext cx="4381560" cy="3286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6" name="Picture 7" descr="C:\Documents and Settings\Комп\Рабочий стол\анимации\колокл.gif"/>
          <p:cNvPicPr/>
          <p:nvPr/>
        </p:nvPicPr>
        <p:blipFill>
          <a:blip r:embed="rId5"/>
          <a:stretch/>
        </p:blipFill>
        <p:spPr>
          <a:xfrm>
            <a:off x="714240" y="2071800"/>
            <a:ext cx="112572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5000760"/>
            <a:ext cx="91440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каждого колокола свой неповторимый голос, от самого низкого, до самого высо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RIA-384542-Original.jpgc.jpg"/>
          <p:cNvPicPr/>
          <p:nvPr/>
        </p:nvPicPr>
        <p:blipFill>
          <a:blip r:embed="rId2"/>
          <a:stretch/>
        </p:blipFill>
        <p:spPr>
          <a:xfrm>
            <a:off x="1071720" y="0"/>
            <a:ext cx="66672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bell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2742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643120" y="4287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 rot="20580000">
            <a:off x="533160" y="2911320"/>
            <a:ext cx="2286000" cy="300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5468760" y="3500280"/>
            <a:ext cx="3675240" cy="24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928960" y="4071960"/>
            <a:ext cx="2500200" cy="2359080"/>
          </a:xfrm>
          <a:prstGeom prst="rect">
            <a:avLst/>
          </a:prstGeom>
          <a:ln w="0">
            <a:noFill/>
          </a:ln>
        </p:spPr>
      </p:pic>
      <p:pic>
        <p:nvPicPr>
          <p:cNvPr id="99" name="03_zvon_na_vstrechu_mitropolit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1776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 rot="20760000">
            <a:off x="194760" y="3978000"/>
            <a:ext cx="325620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3143160" y="285840"/>
            <a:ext cx="3567240" cy="50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 rot="20520000">
            <a:off x="5448240" y="3903840"/>
            <a:ext cx="3429000" cy="226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6786720" y="928800"/>
            <a:ext cx="2219040" cy="19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6"/>
          <a:stretch/>
        </p:blipFill>
        <p:spPr>
          <a:xfrm>
            <a:off x="0" y="571680"/>
            <a:ext cx="3500280" cy="2512800"/>
          </a:xfrm>
          <a:prstGeom prst="rect">
            <a:avLst/>
          </a:prstGeom>
          <a:ln w="0">
            <a:noFill/>
          </a:ln>
        </p:spPr>
      </p:pic>
      <p:pic>
        <p:nvPicPr>
          <p:cNvPr id="107" name="10_rozhdestvenskij_zvon.mp3" descr=""/>
          <p:cNvPicPr/>
          <p:nvPr/>
        </p:nvPicPr>
        <p:blipFill>
          <a:blip r:embed="rId7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753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У СОШ № 9</dc:creator>
  <dc:description/>
  <dc:language>en-US</dc:language>
  <cp:lastModifiedBy>МОУ СОШ № 9</cp:lastModifiedBy>
  <dcterms:modified xsi:type="dcterms:W3CDTF">2012-11-30T06:24:05Z</dcterms:modified>
  <cp:revision>147</cp:revision>
  <dc:subject/>
  <dc:title>Слайд 1</dc:title>
</cp:coreProperties>
</file>