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4AB26-8DA9-4B97-A5EE-CB62BDDBE80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1E117-1FD9-48E6-A3C0-8B8145D308F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9CD-2B81-4A34-A1FA-B96E466D5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8681-1DB8-4F46-9A62-0571944B6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302E-1ED3-4618-B211-04A6CF764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FBCE-F2FC-4AFD-A7EC-156A37E53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D256-379C-44F4-BC47-255D70EFC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AE34-5CD6-4D3F-89B8-03F769A27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D675-0A92-4A0A-9CB9-FA01B778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F187-1B0B-4ED0-9A00-2AEDCF29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C80-546C-47FE-8667-7483FC81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0C1C-C76C-4645-8BC3-BBF05E49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A301-90A9-4371-8C00-1A7FCAEC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99CB-6EF8-442C-B179-AF5BF3D0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8AB4-3D5B-4048-B1C6-B32B86DFCEFD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?id=27716462&amp;tov=3"/>
          <p:cNvPicPr/>
          <p:nvPr/>
        </p:nvPicPr>
        <p:blipFill>
          <a:blip r:embed="rId1"/>
          <a:stretch/>
        </p:blipFill>
        <p:spPr>
          <a:xfrm>
            <a:off x="1428840" y="357120"/>
            <a:ext cx="6480000" cy="568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785600"/>
            <a:ext cx="4464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Е л ь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ё л к а</a:t>
            </a:r>
            <a:br>
              <a:rPr sz="4000"/>
            </a:b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ё л о ч к а 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Рамка 5"/>
          <p:cNvSpPr/>
          <p:nvPr/>
        </p:nvSpPr>
        <p:spPr>
          <a:xfrm>
            <a:off x="5072040" y="1643040"/>
            <a:ext cx="428760" cy="428760"/>
          </a:xfrm>
          <a:prstGeom prst="pie">
            <a:avLst/>
          </a:prstGeom>
          <a:solidFill>
            <a:srgbClr val="009999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857760" y="2000160"/>
            <a:ext cx="1214280" cy="1429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52" name="Арка 7"/>
          <p:cNvSpPr/>
          <p:nvPr/>
        </p:nvSpPr>
        <p:spPr>
          <a:xfrm>
            <a:off x="4000680" y="1428840"/>
            <a:ext cx="1000080" cy="285840"/>
          </a:xfrm>
          <a:prstGeom prst="pie">
            <a:avLst/>
          </a:prstGeom>
          <a:solidFill>
            <a:srgbClr val="009999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Рамка 8"/>
          <p:cNvSpPr/>
          <p:nvPr/>
        </p:nvSpPr>
        <p:spPr>
          <a:xfrm>
            <a:off x="4929120" y="2786040"/>
            <a:ext cx="500040" cy="500040"/>
          </a:xfrm>
          <a:prstGeom prst="pie">
            <a:avLst/>
          </a:prstGeom>
          <a:solidFill>
            <a:srgbClr val="009999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Рамка 9"/>
          <p:cNvSpPr/>
          <p:nvPr/>
        </p:nvSpPr>
        <p:spPr>
          <a:xfrm>
            <a:off x="5357880" y="4000680"/>
            <a:ext cx="500040" cy="571320"/>
          </a:xfrm>
          <a:prstGeom prst="pie">
            <a:avLst/>
          </a:prstGeom>
          <a:solidFill>
            <a:srgbClr val="009999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3143160" y="4357800"/>
            <a:ext cx="2214720" cy="2142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56" name="Арка 14"/>
          <p:cNvSpPr/>
          <p:nvPr/>
        </p:nvSpPr>
        <p:spPr>
          <a:xfrm>
            <a:off x="3714840" y="2643120"/>
            <a:ext cx="785880" cy="357120"/>
          </a:xfrm>
          <a:prstGeom prst="pie">
            <a:avLst/>
          </a:prstGeom>
          <a:solidFill>
            <a:srgbClr val="009999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Арка 15"/>
          <p:cNvSpPr/>
          <p:nvPr/>
        </p:nvSpPr>
        <p:spPr>
          <a:xfrm>
            <a:off x="3214800" y="3857760"/>
            <a:ext cx="857160" cy="428400"/>
          </a:xfrm>
          <a:prstGeom prst="pie">
            <a:avLst/>
          </a:prstGeom>
          <a:solidFill>
            <a:srgbClr val="009999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3643200" y="3143160"/>
            <a:ext cx="1285920" cy="150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ая соединительная линия 17"/>
          <p:cNvSpPr/>
          <p:nvPr/>
        </p:nvSpPr>
        <p:spPr>
          <a:xfrm flipV="1">
            <a:off x="4500720" y="2642760"/>
            <a:ext cx="258480" cy="142920"/>
          </a:xfrm>
          <a:prstGeom prst="line">
            <a:avLst/>
          </a:prstGeom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Прямая соединительная линия 20"/>
          <p:cNvSpPr/>
          <p:nvPr/>
        </p:nvSpPr>
        <p:spPr>
          <a:xfrm flipH="1" flipV="1">
            <a:off x="4714560" y="2642760"/>
            <a:ext cx="214200" cy="14292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Прямая соединительная линия 32"/>
          <p:cNvSpPr/>
          <p:nvPr/>
        </p:nvSpPr>
        <p:spPr>
          <a:xfrm flipV="1">
            <a:off x="4143240" y="3786120"/>
            <a:ext cx="571680" cy="28584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Прямая соединительная линия 34"/>
          <p:cNvSpPr/>
          <p:nvPr/>
        </p:nvSpPr>
        <p:spPr>
          <a:xfrm>
            <a:off x="4643280" y="3786120"/>
            <a:ext cx="571680" cy="28584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i?id=82095066&amp;tov=8"/>
          <p:cNvPicPr/>
          <p:nvPr/>
        </p:nvPicPr>
        <p:blipFill>
          <a:blip r:embed="rId1"/>
          <a:stretch/>
        </p:blipFill>
        <p:spPr>
          <a:xfrm>
            <a:off x="1714680" y="357120"/>
            <a:ext cx="5951520" cy="58104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4788000" y="3238560"/>
            <a:ext cx="129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фон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492360" y="3712320"/>
            <a:ext cx="6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03640" y="45021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хлоп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143160" y="1931400"/>
            <a:ext cx="85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уш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ectangle 9"/>
          <p:cNvSpPr/>
          <p:nvPr/>
        </p:nvSpPr>
        <p:spPr>
          <a:xfrm flipH="1">
            <a:off x="4931640" y="29304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1846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3929040" y="85716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сне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5364000" y="2145960"/>
            <a:ext cx="99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инк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5643720" y="443052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i?id=82095066&amp;tov=8"/>
          <p:cNvPicPr/>
          <p:nvPr/>
        </p:nvPicPr>
        <p:blipFill>
          <a:blip r:embed="rId1"/>
          <a:stretch/>
        </p:blipFill>
        <p:spPr>
          <a:xfrm>
            <a:off x="1763640" y="333360"/>
            <a:ext cx="5688000" cy="6120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4427640" y="39283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фонар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2771640" y="47649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хлопуш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484360" y="2204280"/>
            <a:ext cx="19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снежи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16426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Ф о н а р и к      х л о п у ш к а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 н е ж и н к а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Рамка 4"/>
          <p:cNvSpPr/>
          <p:nvPr/>
        </p:nvSpPr>
        <p:spPr>
          <a:xfrm>
            <a:off x="4071960" y="2286000"/>
            <a:ext cx="500040" cy="64296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Рамка 5"/>
          <p:cNvSpPr/>
          <p:nvPr/>
        </p:nvSpPr>
        <p:spPr>
          <a:xfrm>
            <a:off x="8215200" y="2143080"/>
            <a:ext cx="571680" cy="57168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Рамка 6"/>
          <p:cNvSpPr/>
          <p:nvPr/>
        </p:nvSpPr>
        <p:spPr>
          <a:xfrm>
            <a:off x="6072120" y="3429000"/>
            <a:ext cx="642960" cy="71424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Арка 7"/>
          <p:cNvSpPr/>
          <p:nvPr/>
        </p:nvSpPr>
        <p:spPr>
          <a:xfrm>
            <a:off x="2786040" y="3286080"/>
            <a:ext cx="1928880" cy="42876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Арка 8"/>
          <p:cNvSpPr/>
          <p:nvPr/>
        </p:nvSpPr>
        <p:spPr>
          <a:xfrm>
            <a:off x="714240" y="1928880"/>
            <a:ext cx="2357640" cy="42840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Арка 9"/>
          <p:cNvSpPr/>
          <p:nvPr/>
        </p:nvSpPr>
        <p:spPr>
          <a:xfrm>
            <a:off x="4857840" y="1928880"/>
            <a:ext cx="1928880" cy="42840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500200" y="3929040"/>
            <a:ext cx="3571920" cy="2142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85" name="Прямая соединительная линия 12"/>
          <p:cNvSpPr/>
          <p:nvPr/>
        </p:nvSpPr>
        <p:spPr>
          <a:xfrm>
            <a:off x="5357880" y="3143160"/>
            <a:ext cx="642960" cy="2858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500040" y="2714760"/>
            <a:ext cx="3571920" cy="21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4572000" y="2714760"/>
            <a:ext cx="3749760" cy="2142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ая соединительная линия 21"/>
          <p:cNvSpPr/>
          <p:nvPr/>
        </p:nvSpPr>
        <p:spPr>
          <a:xfrm flipV="1">
            <a:off x="4786200" y="3143160"/>
            <a:ext cx="571680" cy="28584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ая соединительная линия 23"/>
          <p:cNvSpPr/>
          <p:nvPr/>
        </p:nvSpPr>
        <p:spPr>
          <a:xfrm flipH="1" flipV="1">
            <a:off x="3571560" y="1857240"/>
            <a:ext cx="428760" cy="28584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24"/>
          <p:cNvSpPr/>
          <p:nvPr/>
        </p:nvSpPr>
        <p:spPr>
          <a:xfrm flipH="1">
            <a:off x="3214800" y="1857240"/>
            <a:ext cx="357120" cy="28584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ая соединительная линия 32"/>
          <p:cNvSpPr/>
          <p:nvPr/>
        </p:nvSpPr>
        <p:spPr>
          <a:xfrm flipH="1" flipV="1">
            <a:off x="7572240" y="1785960"/>
            <a:ext cx="642960" cy="35712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Прямая соединительная линия 33"/>
          <p:cNvSpPr/>
          <p:nvPr/>
        </p:nvSpPr>
        <p:spPr>
          <a:xfrm flipH="1">
            <a:off x="6928920" y="1785960"/>
            <a:ext cx="714600" cy="35712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i?id=82095066&amp;tov=8"/>
          <p:cNvPicPr/>
          <p:nvPr/>
        </p:nvPicPr>
        <p:blipFill>
          <a:blip r:embed="rId1"/>
          <a:stretch/>
        </p:blipFill>
        <p:spPr>
          <a:xfrm>
            <a:off x="1763640" y="333360"/>
            <a:ext cx="5688000" cy="6120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4427640" y="39283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фонар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771640" y="47649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хлопуш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484360" y="2204280"/>
            <a:ext cx="19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снежи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i?id=82095066&amp;tov=8"/>
          <p:cNvPicPr/>
          <p:nvPr/>
        </p:nvPicPr>
        <p:blipFill>
          <a:blip r:embed="rId1"/>
          <a:stretch/>
        </p:blipFill>
        <p:spPr>
          <a:xfrm>
            <a:off x="2714760" y="642960"/>
            <a:ext cx="3286080" cy="4502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6000840" y="642960"/>
            <a:ext cx="3143160" cy="450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3"/>
          <a:stretch/>
        </p:blipFill>
        <p:spPr>
          <a:xfrm>
            <a:off x="0" y="642960"/>
            <a:ext cx="2714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BOOK008"/>
          <p:cNvPicPr/>
          <p:nvPr/>
        </p:nvPicPr>
        <p:blipFill>
          <a:blip r:embed="rId1"/>
          <a:stretch/>
        </p:blipFill>
        <p:spPr>
          <a:xfrm>
            <a:off x="2286000" y="785880"/>
            <a:ext cx="4143240" cy="42861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2928960" y="185724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ahoma"/>
              </a:rPr>
              <a:t>Что такое суффикс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2786040" y="285768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ahoma"/>
              </a:rPr>
              <a:t>Где стоит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Прямоугольник 8"/>
          <p:cNvSpPr/>
          <p:nvPr/>
        </p:nvSpPr>
        <p:spPr>
          <a:xfrm>
            <a:off x="2643120" y="3286080"/>
            <a:ext cx="178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111111"/>
                </a:solidFill>
                <a:latin typeface="Tahoma"/>
              </a:rPr>
              <a:t>Для че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111111"/>
                </a:solidFill>
                <a:latin typeface="Tahoma"/>
              </a:rPr>
              <a:t>служит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4214880" y="1928880"/>
            <a:ext cx="185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11111"/>
                </a:solidFill>
                <a:latin typeface="Tahoma"/>
              </a:rPr>
              <a:t>Суффиксы с уменьшительно –ласкательным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11111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111111"/>
                </a:solidFill>
                <a:latin typeface="Tahoma"/>
              </a:rPr>
              <a:t>значением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4000680" y="30718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ahoma"/>
              </a:rPr>
              <a:t>- еньк -    - ушк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ahoma"/>
              </a:rPr>
              <a:t>- оньк -     - юшк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286160" y="378612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111111"/>
                </a:solidFill>
                <a:latin typeface="Tahoma"/>
              </a:rPr>
              <a:t>Суффиксы роста</a:t>
            </a:r>
            <a:r>
              <a:rPr b="0" i="1" lang="ru-RU" sz="18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4572000" y="414324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ahoma"/>
              </a:rPr>
              <a:t>- ищ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ahoma"/>
              </a:rPr>
              <a:t>- ещ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6143760" y="785880"/>
            <a:ext cx="3000240" cy="4286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3"/>
          <a:stretch/>
        </p:blipFill>
        <p:spPr>
          <a:xfrm>
            <a:off x="0" y="785880"/>
            <a:ext cx="2571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25:19Z</dcterms:created>
  <dc:creator>Admin</dc:creator>
  <dc:description/>
  <dc:language>en-US</dc:language>
  <cp:lastModifiedBy>Admin</cp:lastModifiedBy>
  <dcterms:modified xsi:type="dcterms:W3CDTF">2009-12-23T03:48:04Z</dcterms:modified>
  <cp:revision>34</cp:revision>
  <dc:subject/>
  <dc:title>    Е л ь  ё л к а   ё л о ч к а     </dc:title>
</cp:coreProperties>
</file>