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B35-6CC3-4E46-8DEA-19438DBE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CE7-6C88-4465-8E30-CB54ABE2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13B-F251-4183-8C57-ED5E3FA2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AB1-67F8-443C-950E-18CD6AFD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BE6A-66E3-46CE-ADDB-6D9AFDCD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51EE-43C3-49FA-991E-800C48B1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B58E-7F3F-487E-AC36-5E80E616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1EDB-2A51-41C3-ABC4-E362A36E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8030-5F40-4ECE-99FC-42270F3F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4977-90E9-411C-8D3E-D1038FD0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C726-EF8E-45A3-97DB-CF68FBE0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C00-5546-4254-BBCE-1E81D003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CB41-E478-41B3-B621-1E504913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71A3-68F7-4352-B07A-3C720F9D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D42B-15B8-4938-9DB2-F43CCCF1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BD4B-EA0D-471F-A771-5729F0BC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1550-03B8-4C76-8549-39ABBCFC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10838-FD52-4DE2-A0DE-814E2C43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6437B-2A7F-4C26-A13B-E18FA9B7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83612-E2B5-4F22-B91A-D8285B0F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7DFB3-1AC8-4379-A6BE-CF83816C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6048B-A6BD-4A54-9125-9022853C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A52-2AA9-4493-8D4C-D048E441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9E28F-69BF-4C79-95C3-BA5B5ED6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B62DF-8EB6-47E2-B696-5F91C225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5AF59-B7BD-4C99-9A6F-BE853289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4A644-850C-4853-B4B1-33EDC1DB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13B8E-5DF8-4899-899A-6AB031B2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C7451-F813-4E6F-9034-27A86423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5367E-68EB-4BA7-A24E-AF280FA7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59FCF-3FED-44F5-8484-03277A17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BCA73-B70F-47FB-B1E5-1BDAA18B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BED59-D3F8-4675-9E0C-3EE0E086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6D9-F7F3-4E74-9AD3-6908FE23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044FD-B95C-4513-B20D-4C857992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11465-DBB9-462C-897A-8083B509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56F3D-8D18-46E1-900D-FC9B8EBF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8F701-C921-404F-A451-7C566C58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533E0-7AFE-4570-85C3-741F4F7C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CFFBA-1BF9-4C77-9037-A9EF7843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652BF-5489-4E54-8DAC-640B44D8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79A28-7EA0-4377-81F5-75426D97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F9A0D-6A03-4E09-A640-1FDFC2B8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FBB6F-BF12-412A-9AD0-B3BC53C0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1CF-6E41-4EB8-A9B3-E9B0ADCF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CBDF5-CCDC-4D3A-8D8C-BB41ED82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1C7E3-63D0-4572-8EDA-308761E3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2B0D7-64C0-4CB3-BDF9-E9BC8AAF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4438B-82D8-4A2B-8D58-87D7C2D8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B92AB-E881-48DD-8962-392951C6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ECAF1-CF2F-40D8-86DB-55DF405C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FC07E-3B32-42D7-802C-9B823956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2EEF6-4ED7-4734-ABE2-E1D17C82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3BF57C-310E-4AE2-B47E-87197DE8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114485-3D3D-4F90-95A7-339F1366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FE1-CB5E-4023-8295-732ADBF8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24E68-55FB-4003-AE3D-2E374CE1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A37758-9108-47A8-A043-036183DF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B55C5-0C5B-449B-B0F7-B588A27C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0EC52-A9F7-486E-BD22-A4182F4C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738B4-4C33-43DD-9D26-27205B3E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4356D-08D0-4D2F-980A-1C787ED7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82A872-A398-47C2-829D-2FC93D84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439B5A-4585-4BD0-B8D6-F86A0053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6BE039-715F-4BFC-A463-C9273A2E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2C3B7-93CC-4E81-A7A2-C44AAE53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0A9-72F4-48E8-8421-685CADCB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F730D-A737-425A-8E70-6BB39A32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B16AD-2963-4F49-B382-544379F7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1963E2-7FFA-45CA-9AF3-3DB97B1A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D526C4-0C36-4061-A1A1-AD1C2804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D8622-1F96-427A-9977-4F67FA41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83CBD-5DE3-46A9-8316-2203286E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3D7749-A5E3-4161-BA32-B2D02EC0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EC4C74-2CDD-4B84-AB14-62088370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CE73AF-D5C7-4C79-9C8A-67442B67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98404-7A0F-4A0B-8C35-D5CB4897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0C2B-19F2-40BC-ACD4-4374E0BC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4A9256-5BF0-4467-B1F3-5BEA2C4A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01281D-E584-4327-B49C-A87DCFA3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748E2-AB50-4A5D-887A-58A836D2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965B2-1FF0-43D2-84D1-679E45AE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143A5E-C316-467C-9872-B9732D35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424-966E-41EB-924C-BC851233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7230-545B-4F27-8316-97BD2DECE0D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84BF-9E57-466C-B367-A63038FA715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78CB-7DCA-40C3-8EB6-6EEDA8A0D60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E97C-A174-4D80-BF28-37C6B630DA1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30D1-573A-4DD2-8ADD-17958636729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B197-0158-4074-BF00-60B107F1DE2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AE28-1B71-4F89-AF87-1D2F6C256CC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2"/>
          <p:cNvSpPr txBox="1"/>
          <p:nvPr/>
        </p:nvSpPr>
        <p:spPr>
          <a:xfrm>
            <a:off x="1403280" y="836640"/>
            <a:ext cx="6516720" cy="388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ffff">
                    <a:alpha val="80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числительные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ffff">
                  <a:alpha val="80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ffff">
                    <a:alpha val="80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блицы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ffff">
                  <a:alpha val="80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348000" y="5734080"/>
            <a:ext cx="24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. Л. Бо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503280" y="62064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31640" y="1305000"/>
          <a:ext cx="8533080" cy="414180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6760"/>
                <a:gridCol w="1706400"/>
                <a:gridCol w="1706760"/>
              </a:tblGrid>
              <a:tr h="428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м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метр,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5+5+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3+4+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+3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+4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7+5+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503280" y="62064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31640" y="1305000"/>
          <a:ext cx="8533080" cy="414180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6760"/>
                <a:gridCol w="1706400"/>
                <a:gridCol w="1706760"/>
              </a:tblGrid>
              <a:tr h="428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м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метр,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503280" y="62064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31640" y="1305000"/>
          <a:ext cx="8533080" cy="450684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6760"/>
                <a:gridCol w="1706400"/>
                <a:gridCol w="170676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м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метр,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7+12+1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+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503280" y="62064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31640" y="1305000"/>
          <a:ext cx="8533080" cy="338436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6760"/>
                <a:gridCol w="1706400"/>
                <a:gridCol w="1706760"/>
              </a:tblGrid>
              <a:tr h="425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м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метр,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Rectangle 57"/>
          <p:cNvSpPr/>
          <p:nvPr/>
        </p:nvSpPr>
        <p:spPr>
          <a:xfrm>
            <a:off x="539640" y="4761000"/>
            <a:ext cx="82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провода нужно для обозначения границ каждой из этих клумб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атит ли 50 м провода, чтобы  обозначить на земле границы  всех клумб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358920" y="259920"/>
            <a:ext cx="69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елые человечки. Путеше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каникул веселые человечки отправились путешествовать на разных видах транспо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148dac6afd648910cc0b11e3053731a7"/>
          <p:cNvPicPr/>
          <p:nvPr/>
        </p:nvPicPr>
        <p:blipFill>
          <a:blip r:embed="rId1"/>
          <a:stretch/>
        </p:blipFill>
        <p:spPr>
          <a:xfrm>
            <a:off x="3384720" y="1665360"/>
            <a:ext cx="5580000" cy="4073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IUcWay_photos0-800x600"/>
          <p:cNvPicPr/>
          <p:nvPr/>
        </p:nvPicPr>
        <p:blipFill>
          <a:blip r:embed="rId2"/>
          <a:stretch/>
        </p:blipFill>
        <p:spPr>
          <a:xfrm>
            <a:off x="0" y="1233360"/>
            <a:ext cx="344808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4"/>
          <p:cNvSpPr/>
          <p:nvPr/>
        </p:nvSpPr>
        <p:spPr>
          <a:xfrm>
            <a:off x="358920" y="264600"/>
            <a:ext cx="78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елые человечки. Пир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елые человечки решили сходить в поход. Пончик испек для всех пирожки с мясом, яблоками, капустой и повидлом и разложил их по пакетам, кулькам и короб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IUcWay_photos0-800x600"/>
          <p:cNvPicPr/>
          <p:nvPr/>
        </p:nvPicPr>
        <p:blipFill>
          <a:blip r:embed="rId1"/>
          <a:stretch/>
        </p:blipFill>
        <p:spPr>
          <a:xfrm>
            <a:off x="117360" y="2004840"/>
            <a:ext cx="3448080" cy="3897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" descr="74e0b73d49820ce716cc613c0b97ed0a"/>
          <p:cNvPicPr/>
          <p:nvPr/>
        </p:nvPicPr>
        <p:blipFill>
          <a:blip r:embed="rId2"/>
          <a:stretch/>
        </p:blipFill>
        <p:spPr>
          <a:xfrm>
            <a:off x="3659040" y="1749600"/>
            <a:ext cx="48196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4"/>
          <p:cNvSpPr/>
          <p:nvPr/>
        </p:nvSpPr>
        <p:spPr>
          <a:xfrm>
            <a:off x="358920" y="263880"/>
            <a:ext cx="76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елые человечки. Горюч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звестно, автомобиль, изобретенный Винтиком и Шпунтиком, работает не на бензине, а на газировке разных сортов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" descr="IUcWay_photos0-800x600"/>
          <p:cNvPicPr/>
          <p:nvPr/>
        </p:nvPicPr>
        <p:blipFill>
          <a:blip r:embed="rId1"/>
          <a:stretch/>
        </p:blipFill>
        <p:spPr>
          <a:xfrm>
            <a:off x="592200" y="1457280"/>
            <a:ext cx="3448080" cy="3897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" descr="a05cac22cc7093ae39a6e8d8b25cf2b0"/>
          <p:cNvPicPr/>
          <p:nvPr/>
        </p:nvPicPr>
        <p:blipFill>
          <a:blip r:embed="rId2"/>
          <a:stretch/>
        </p:blipFill>
        <p:spPr>
          <a:xfrm>
            <a:off x="4060800" y="1530360"/>
            <a:ext cx="4610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Century Schoolbook"/>
              </a:rPr>
              <a:t>ДОМАШНЕЕ ЗАД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9" name="Picture 3" descr="j0232133"/>
          <p:cNvPicPr/>
          <p:nvPr/>
        </p:nvPicPr>
        <p:blipFill>
          <a:blip r:embed="rId1"/>
          <a:stretch/>
        </p:blipFill>
        <p:spPr>
          <a:xfrm>
            <a:off x="6543720" y="4121280"/>
            <a:ext cx="2068560" cy="21222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4"/>
          <p:cNvSpPr/>
          <p:nvPr/>
        </p:nvSpPr>
        <p:spPr>
          <a:xfrm>
            <a:off x="1116000" y="1844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7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р. 75 – 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4"/>
          <p:cNvSpPr/>
          <p:nvPr/>
        </p:nvSpPr>
        <p:spPr>
          <a:xfrm>
            <a:off x="0" y="1413000"/>
            <a:ext cx="88200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ученика на столе карточки (зеленая, желтая, красная). Уходя из класса, нужно оставить на столе учителя одну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а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удовлетворен уроком, урок был полезен для меня, я много, с пользой работал на уроке получил заслуженную оценку, я понимал все, о чем говорилось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Желта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был интересен, я принимал в нем активное участие, урок был в определенной степени полезен для меня, я отвечал с места, я сумел выполнить ряд заданий, мне было на уроке достаточно комфор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льзы от урока я получил мало, я не очень понимал, о чем идет речь, мне это не очень нужно, домашнее задание я не буду выполнять, к ответам на уроке я не был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755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598d9"/>
                </a:solidFill>
                <a:latin typeface="Monotype Corsiva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58920" y="1600200"/>
            <a:ext cx="846108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форматика и ИКТ : учебник для 6 класса/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Л. Босова. – М.: БИНОМ. Лаборатория знаний,  2009. - 208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98d9"/>
                </a:solidFill>
                <a:latin typeface="Times New Roman"/>
                <a:ea typeface="Times New Roman"/>
              </a:rPr>
              <a:t>http://images.yandex.ru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картин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863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287280" y="1484280"/>
            <a:ext cx="84978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 представления  учащихся  о  табличных  информационных модел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 представление  о  вычислительных  таблиц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 умения выполнения простейших вычислений в таблиц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WordArt 2"/>
          <p:cNvGrpSpPr/>
          <p:nvPr/>
        </p:nvGrpSpPr>
        <p:grpSpPr>
          <a:xfrm>
            <a:off x="1504800" y="974880"/>
            <a:ext cx="6096240" cy="1304640"/>
            <a:chOff x="1504800" y="974880"/>
            <a:chExt cx="6096240" cy="1304640"/>
          </a:xfrm>
        </p:grpSpPr>
        <p:pic>
          <p:nvPicPr>
            <p:cNvPr id="396" name="WordArt 2" descr=""/>
            <p:cNvPicPr/>
            <p:nvPr/>
          </p:nvPicPr>
          <p:blipFill>
            <a:blip r:embed="rId1"/>
            <a:stretch/>
          </p:blipFill>
          <p:spPr>
            <a:xfrm>
              <a:off x="1504800" y="974880"/>
              <a:ext cx="609624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11280" y="981000"/>
              <a:ext cx="60850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пасибо за урок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3" descr="i-19"/>
          <p:cNvPicPr/>
          <p:nvPr/>
        </p:nvPicPr>
        <p:blipFill>
          <a:blip r:embed="rId2"/>
          <a:stretch/>
        </p:blipFill>
        <p:spPr>
          <a:xfrm>
            <a:off x="1800360" y="184464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Основные по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755640" y="1736640"/>
            <a:ext cx="6948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чная  информационная  мод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льная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 приготовленной таблиц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0" y="0"/>
            <a:ext cx="82090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Вычислительные табл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468360" y="1484280"/>
            <a:ext cx="8244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льными будем называть такие таблицы, в которых значения некоторых свойств вычисляются с использованием значений других свойств из этой же таблиц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льная таблица может содержать итоговую строку (графу). Итоговая строка (графа) имеет заголовок «Итого» или «Всег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чейках итоговой строки (графы) размещают суммы чисел из соответствующих граф (строк). Важно, чтобы эти суммы имели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"/>
          <p:cNvSpPr/>
          <p:nvPr/>
        </p:nvSpPr>
        <p:spPr>
          <a:xfrm>
            <a:off x="755640" y="0"/>
            <a:ext cx="77724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372960" y="1530360"/>
          <a:ext cx="8229600" cy="4008600"/>
        </p:xfrm>
        <a:graphic>
          <a:graphicData uri="http://schemas.openxmlformats.org/drawingml/2006/table">
            <a:tbl>
              <a:tblPr/>
              <a:tblGrid>
                <a:gridCol w="3610080"/>
                <a:gridCol w="1405080"/>
                <a:gridCol w="1655640"/>
                <a:gridCol w="1558800"/>
              </a:tblGrid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,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дь, 12 л., кле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дь, 12 л., линейка, кос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бом для рисования, 8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даши цветные «Зарница», 6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уч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даш прос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ная бумага, 8 ц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Text Box 82"/>
          <p:cNvSpPr/>
          <p:nvPr/>
        </p:nvSpPr>
        <p:spPr>
          <a:xfrm>
            <a:off x="395280" y="5805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таблица относится к типу ОС. Значения в графе «стоимость» вычислены по формуле: цен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4"/>
          <p:cNvSpPr/>
          <p:nvPr/>
        </p:nvSpPr>
        <p:spPr>
          <a:xfrm>
            <a:off x="755640" y="189000"/>
            <a:ext cx="77724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324000" y="1484280"/>
            <a:ext cx="846108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числительными будем называть такие таблицы, в которых значения некоторых свойств вычисляются с использованием значений других свойств из этой же таб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числительная таблица может содержать итоговую строку (графу). Итоговая строка (графа) имеет заголовок «Итого» или «Всег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ячейках итоговой строки (графы) размещают суммы чисел из соответствующих граф (строк). Важно, чтобы эти суммы имели смы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4"/>
          <p:cNvSpPr/>
          <p:nvPr/>
        </p:nvSpPr>
        <p:spPr>
          <a:xfrm>
            <a:off x="755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Практическая работа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287280" y="1305000"/>
            <a:ext cx="867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1. Клум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таблицы решим следующую задач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школьном  дворе  разбивают  5  клумб  треугольной  формы.  Первая  клумба представляет  собой  равнобедренный  треугольник  со  сторонами  5,  5  и  7  метров.  Вторая клумба  имеет форму прямоугольного треугольника, еѐ стороны 3, 4 и 5 метров. Стороны третьей  клумбы  равны  4,  3  и  3  метра.  Четвертная  клумба  представляет  собой равносторонний  треугольник,  длина  стороны  которого  равна  4  метрам.  Стороны  пятой клумбы равны 7, 5 и 7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ровода нужно для обозначения границ каждой из этих клумб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атит ли 50 м провода, чтобы  обозначить на земле границы  всех клумб?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5"/>
          <p:cNvSpPr/>
          <p:nvPr/>
        </p:nvSpPr>
        <p:spPr>
          <a:xfrm>
            <a:off x="503280" y="620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ставьте таблиц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628560" y="1311120"/>
          <a:ext cx="8229600" cy="32068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14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м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метр,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5"/>
          <p:cNvSpPr/>
          <p:nvPr/>
        </p:nvSpPr>
        <p:spPr>
          <a:xfrm>
            <a:off x="503280" y="62064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несем в таблицу данные из условия задач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31640" y="1305000"/>
          <a:ext cx="8533080" cy="418140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6760"/>
                <a:gridCol w="1706400"/>
                <a:gridCol w="1706760"/>
              </a:tblGrid>
              <a:tr h="41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м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метр,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стр1+стр2+стр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8:39:41Z</dcterms:created>
  <dc:creator>122</dc:creator>
  <dc:description/>
  <dc:language>en-US</dc:language>
  <cp:lastModifiedBy>Admin</cp:lastModifiedBy>
  <dcterms:modified xsi:type="dcterms:W3CDTF">2012-01-30T15:29:54Z</dcterms:modified>
  <cp:revision>16</cp:revision>
  <dc:subject/>
  <dc:title>Слайд 1</dc:title>
</cp:coreProperties>
</file>