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E94-FEF0-4B2D-BCAF-033A53C2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231-005A-43A2-8E1A-DFB36EA7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39E-28C5-4917-A32C-E391B09B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05E-554A-428D-A2BC-E8FF9FB6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4070-AEFC-415E-82C6-B190FAF4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FA8F-9B97-43C6-A0FB-318F69A2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4F79-E745-4D84-ACFB-3999820A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52E2-C3DF-4D0A-8D91-AD224E2B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5035-3ED9-4D7F-80A2-10E8F123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1CAA-2C75-466E-B6F7-0C9CA372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5D7C-BA5D-40BE-B57B-15A62D3E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816-EAA7-43A5-971A-EA224477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69BA-E02E-4D0E-9B0F-C98B0BC5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C540-40FF-4B31-ADAF-FE4C4E2F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3F1E-64DF-426D-A268-78881A16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C381-EC1A-4510-8B12-C8ED4B80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C2AB-9E82-446D-BD18-57132A2E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9CAB0-9AA8-4F47-9CB8-09FA4FDC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A4141-4898-41A7-BACF-CD1601D3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B50F7-0605-4306-9077-EA810CBB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3BE7F-7FA9-42A2-92F2-4DAA98D5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C42F6-C02F-43E5-91E1-82CB25F8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8AF-86F7-4BE8-95F3-25BB999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01587-DE0D-47C7-88DE-900AEF84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868C4-4E9B-4F73-9FBC-C04DCCBD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C2193-2A02-46C3-895A-87E40CA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3381F-A346-4D78-93F6-BB45C999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03B5C-F2C8-452D-8B06-08FAB35E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FC4DB-D827-49A3-A8E2-3EA446C9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86FC1-3AE9-418F-97FC-AEE2D9F7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A89B-386A-46B0-9B59-1A4D7A5E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797A-6C7D-4162-880F-A17ACCC4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17B95-C344-4C93-8E1A-2E47EE6C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92E-36ED-4919-AE8B-8A1B18CA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17E1-36BF-4E66-A562-8D786038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2708-AA57-43A8-9374-23D554FD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C8E1-202F-4DBD-9728-101C0309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B2754-0780-4625-9E86-C864D1C8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472E-C5D2-41D9-9148-B3AA06AD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E7EE5-949E-4676-9564-B63C7EB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FED1-A147-4091-80BD-D5E58331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7B4A-6B33-46A2-9244-30283675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59F5-63F4-4428-8B55-33EB61F0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26A98-2689-4BD1-B070-16504E14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E0A-A56B-411E-83D2-DC218E3F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E7D7D-EFF4-4065-A2D3-5C610836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1273B-C972-471D-B0BD-BC91EAE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7D877-FCFE-40CD-A676-5C371B62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DAA51-D1A8-4B3B-91CB-B7E4FFF3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08C7E-7701-42BA-930B-2FCBB597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CE64C-47FF-4088-8BB3-C1F60767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B6833-2CC0-49A9-8E01-4F11E0D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B6AD0-AD70-462E-8F66-71BD5027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0BC6C-F711-4256-883C-FABE77A2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A8312-619D-4D01-8A76-F328EC2C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388-C953-473F-8BBA-D7F92A99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2EAD94-6587-4125-9C19-1150E02B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B43AE-E8E8-43DC-B85E-7ADD1BDE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C7098-7C4A-4A10-BF72-28EB3EF6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A2357-34B2-47F3-8DF9-A5E129D4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E11CA-CBF0-4A53-9394-2E79C4A9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A7A2EB-EBAA-4EC8-9678-CFBD6E17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A4E4DF-416A-479D-AA99-1C45189F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0B70D-86EA-41CF-ACA8-BBF31F2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766D3-EE7C-43A5-B724-97B9FB4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D0309-C0DE-4E83-9699-8925CBCE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C34-CDA3-41A5-8484-268FD3F2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85D63-3F24-470D-A4CD-7B0017BB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EE122-C623-437A-8883-FFC33F6B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5B581-7608-465C-A486-BC92CE64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1D323-2A09-4D13-AB8F-BF4423C8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36074-755E-4A8B-B84E-9ECEA58C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3BAA3-103C-459A-A4EE-87470A93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328A5-E7E4-40CE-8CFE-A5299023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5047E-D7F5-456B-8D5C-845BE687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D3168-094E-4A71-BD4B-DAE42350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128AF-7B9E-47DF-A476-7218E212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110-91DB-404F-BD1A-99DDA107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AD975-EF28-46FA-8EAF-90D0308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0FC1F-2ADA-4228-BED5-505DD48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421DD-66F7-4531-BCA9-8B6A9360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953C5-73A0-49EA-83E6-8EFE94F5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32570-10C3-4E7D-A25C-5D9E6D24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BC1-1D20-4BF5-8351-7ED6D39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84D2-D06F-46F2-BCD6-F62D6D59194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5A0C-30E7-4043-B81E-093712BA551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F41E-D2DA-41D7-B4E0-AA86CD6E0F9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012F-DF2F-41F1-8279-5B697127F6F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80CD-0B5F-4BF0-82E3-6ACCB5A1A1E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6507-8436-4778-A5AF-63A10017853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40FB-8BF7-4177-948D-2F92F73A9C8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2"/>
          <p:cNvSpPr txBox="1"/>
          <p:nvPr/>
        </p:nvSpPr>
        <p:spPr>
          <a:xfrm>
            <a:off x="1403280" y="836640"/>
            <a:ext cx="6516720" cy="388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ff">
                    <a:alpha val="8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числительные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ffff">
                  <a:alpha val="8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ffff">
                    <a:alpha val="8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блицы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00ffff">
                  <a:alpha val="8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348000" y="5734080"/>
            <a:ext cx="248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. Л. Бо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31640" y="1305000"/>
          <a:ext cx="8533080" cy="41418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2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5+5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+4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+3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+4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+5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31640" y="1305000"/>
          <a:ext cx="8533080" cy="41418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2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31640" y="1305000"/>
          <a:ext cx="8533080" cy="450684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7+12+1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+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31640" y="1305000"/>
          <a:ext cx="8533080" cy="338436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25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Rectangle 57"/>
          <p:cNvSpPr/>
          <p:nvPr/>
        </p:nvSpPr>
        <p:spPr>
          <a:xfrm>
            <a:off x="539640" y="476100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провода нужно для обозначения границ каждой из этих клумб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атит ли 50 м провода, чтобы  обозначить на земле границы  всех клумб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4"/>
          <p:cNvSpPr/>
          <p:nvPr/>
        </p:nvSpPr>
        <p:spPr>
          <a:xfrm>
            <a:off x="358920" y="259920"/>
            <a:ext cx="69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елые человечки. Путеше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каникул веселые человечки отправились путешествовать на разных видах тран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148dac6afd648910cc0b11e3053731a7"/>
          <p:cNvPicPr/>
          <p:nvPr/>
        </p:nvPicPr>
        <p:blipFill>
          <a:blip r:embed="rId1"/>
          <a:stretch/>
        </p:blipFill>
        <p:spPr>
          <a:xfrm>
            <a:off x="3384720" y="1665360"/>
            <a:ext cx="5580000" cy="4073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IUcWay_photos0-800x600"/>
          <p:cNvPicPr/>
          <p:nvPr/>
        </p:nvPicPr>
        <p:blipFill>
          <a:blip r:embed="rId2"/>
          <a:stretch/>
        </p:blipFill>
        <p:spPr>
          <a:xfrm>
            <a:off x="0" y="1233360"/>
            <a:ext cx="344808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4"/>
          <p:cNvSpPr/>
          <p:nvPr/>
        </p:nvSpPr>
        <p:spPr>
          <a:xfrm>
            <a:off x="358920" y="264600"/>
            <a:ext cx="78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елые человечки. Пир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ые человечки решили сходить в поход. Пончик испек для всех пирожки с мясом, яблоками, капустой и повидлом и разложил их по пакетам, кулькам и короб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IUcWay_photos0-800x600"/>
          <p:cNvPicPr/>
          <p:nvPr/>
        </p:nvPicPr>
        <p:blipFill>
          <a:blip r:embed="rId1"/>
          <a:stretch/>
        </p:blipFill>
        <p:spPr>
          <a:xfrm>
            <a:off x="117360" y="2004840"/>
            <a:ext cx="3448080" cy="3897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" descr="74e0b73d49820ce716cc613c0b97ed0a"/>
          <p:cNvPicPr/>
          <p:nvPr/>
        </p:nvPicPr>
        <p:blipFill>
          <a:blip r:embed="rId2"/>
          <a:stretch/>
        </p:blipFill>
        <p:spPr>
          <a:xfrm>
            <a:off x="3659040" y="1749600"/>
            <a:ext cx="48196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4"/>
          <p:cNvSpPr/>
          <p:nvPr/>
        </p:nvSpPr>
        <p:spPr>
          <a:xfrm>
            <a:off x="358920" y="263880"/>
            <a:ext cx="76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елые человечки. Горюч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известно, автомобиль, изобретенный Винтиком и Шпунтиком, работает не на бензине, а на газировке разных сортов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" descr="IUcWay_photos0-800x600"/>
          <p:cNvPicPr/>
          <p:nvPr/>
        </p:nvPicPr>
        <p:blipFill>
          <a:blip r:embed="rId1"/>
          <a:stretch/>
        </p:blipFill>
        <p:spPr>
          <a:xfrm>
            <a:off x="592200" y="1457280"/>
            <a:ext cx="3448080" cy="3897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" descr="a05cac22cc7093ae39a6e8d8b25cf2b0"/>
          <p:cNvPicPr/>
          <p:nvPr/>
        </p:nvPicPr>
        <p:blipFill>
          <a:blip r:embed="rId2"/>
          <a:stretch/>
        </p:blipFill>
        <p:spPr>
          <a:xfrm>
            <a:off x="4060800" y="1530360"/>
            <a:ext cx="4610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Picture 3" descr="j0232133"/>
          <p:cNvPicPr/>
          <p:nvPr/>
        </p:nvPicPr>
        <p:blipFill>
          <a:blip r:embed="rId1"/>
          <a:stretch/>
        </p:blipFill>
        <p:spPr>
          <a:xfrm>
            <a:off x="6543720" y="4121280"/>
            <a:ext cx="2068560" cy="21222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7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. 75 – 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0" y="1413000"/>
            <a:ext cx="88200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755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598d9"/>
                </a:solidFill>
                <a:latin typeface="Monotype Corsiva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58920" y="1600200"/>
            <a:ext cx="846108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орматика и ИКТ : учебник для 6 класса/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 Л. Босова. – М.: БИНОМ. Лаборатория знаний,  2009. - 208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98d9"/>
                </a:solidFill>
                <a:latin typeface="Times New Roman"/>
                <a:ea typeface="Times New Roman"/>
              </a:rPr>
              <a:t>http://images.yandex.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картин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863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87280" y="1484280"/>
            <a:ext cx="84978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 представления  учащихся  о  табличных  информационных модел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 представление  о  вычислительных  таблиц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 умения выполнения простейших вычислений в таблиц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WordArt 2"/>
          <p:cNvGrpSpPr/>
          <p:nvPr/>
        </p:nvGrpSpPr>
        <p:grpSpPr>
          <a:xfrm>
            <a:off x="1504800" y="974880"/>
            <a:ext cx="6096240" cy="1304640"/>
            <a:chOff x="1504800" y="974880"/>
            <a:chExt cx="6096240" cy="1304640"/>
          </a:xfrm>
        </p:grpSpPr>
        <p:pic>
          <p:nvPicPr>
            <p:cNvPr id="396" name="WordArt 2" descr=""/>
            <p:cNvPicPr/>
            <p:nvPr/>
          </p:nvPicPr>
          <p:blipFill>
            <a:blip r:embed="rId1"/>
            <a:stretch/>
          </p:blipFill>
          <p:spPr>
            <a:xfrm>
              <a:off x="1504800" y="974880"/>
              <a:ext cx="609624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511280" y="981000"/>
              <a:ext cx="60850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пасибо за урок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3" descr="i-19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Основные по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755640" y="1736640"/>
            <a:ext cx="6948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чная  информационная  моде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льная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 приготовленной таблиц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0" y="0"/>
            <a:ext cx="82090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Вычислительные табл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468360" y="1484280"/>
            <a:ext cx="8244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льными будем называть такие таблицы, в которых значения некоторых свойств вычисляются с использованием значений других свойств из этой же таблиц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льная таблица может содержать итоговую строку (графу). Итоговая строка (графа) имеет заголовок «Итого» или «Всег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чейках итоговой строки (графы) размещают суммы чисел из соответствующих граф (строк). Важно, чтобы эти суммы имели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4"/>
          <p:cNvSpPr/>
          <p:nvPr/>
        </p:nvSpPr>
        <p:spPr>
          <a:xfrm>
            <a:off x="755640" y="0"/>
            <a:ext cx="7772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72960" y="1530360"/>
          <a:ext cx="8229600" cy="4008600"/>
        </p:xfrm>
        <a:graphic>
          <a:graphicData uri="http://schemas.openxmlformats.org/drawingml/2006/table">
            <a:tbl>
              <a:tblPr/>
              <a:tblGrid>
                <a:gridCol w="3610080"/>
                <a:gridCol w="1405080"/>
                <a:gridCol w="1655640"/>
                <a:gridCol w="1558800"/>
              </a:tblGrid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,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, 12 л., кле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дь, 12 л., линейка, кос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ом для рисования, 8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и цветные «Зарница», 6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уч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 прост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ная бумага, 8 ц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Text Box 82"/>
          <p:cNvSpPr/>
          <p:nvPr/>
        </p:nvSpPr>
        <p:spPr>
          <a:xfrm>
            <a:off x="395280" y="580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таблица относится к типу ОС. Значения в графе «стоимость» вычислены по формуле: цен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755640" y="189000"/>
            <a:ext cx="77724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Самое гл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24000" y="1484280"/>
            <a:ext cx="84610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числительными будем называть такие таблицы, в которых значения некоторых свойств вычисляются с использованием значений других свойств из этой же таб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числительная таблица может содержать итоговую строку (графу). Итоговая строка (графа) имеет заголовок «Итого» или «Всег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ячейках итоговой строки (графы) размещают суммы чисел из соответствующих граф (строк). Важно, чтобы эти суммы имели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755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Arial"/>
              </a:rPr>
              <a:t>Практическая работ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287280" y="1305000"/>
            <a:ext cx="867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1. Клум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таблицы решим следующую задач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школьном  дворе  разбивают  5  клумб  треугольной  формы.  Первая  клумба представляет  собой  равнобедренный  треугольник  со  сторонами  5,  5  и  7  метров.  Вторая клумба  имеет форму прямоугольного треугольника, еѐ стороны 3, 4 и 5 метров. Стороны третьей  клумбы  равны  4,  3  и  3  метра.  Четвертная  клумба  представляет  собой равносторонний  треугольник,  длина  стороны  которого  равна  4  метрам.  Стороны  пятой клумбы равны 7, 5 и 7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ровода нужно для обозначения границ каждой из этих клумб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тит ли 50 м провода, чтобы  обозначить на земле границы  всех клумб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5"/>
          <p:cNvSpPr/>
          <p:nvPr/>
        </p:nvSpPr>
        <p:spPr>
          <a:xfrm>
            <a:off x="503280" y="620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ьте таблиц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28560" y="1311120"/>
          <a:ext cx="8229600" cy="3206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14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"/>
          <p:cNvSpPr/>
          <p:nvPr/>
        </p:nvSpPr>
        <p:spPr>
          <a:xfrm>
            <a:off x="503280" y="62064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несем в таблицу данные из условия задач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31640" y="1305000"/>
          <a:ext cx="8533080" cy="4181400"/>
        </p:xfrm>
        <a:graphic>
          <a:graphicData uri="http://schemas.openxmlformats.org/drawingml/2006/table">
            <a:tbl>
              <a:tblPr/>
              <a:tblGrid>
                <a:gridCol w="1706760"/>
                <a:gridCol w="1706400"/>
                <a:gridCol w="1706760"/>
                <a:gridCol w="1706400"/>
                <a:gridCol w="1706760"/>
              </a:tblGrid>
              <a:tr h="41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м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рона 1,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метр, 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стр1+стр2+стр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8:39:41Z</dcterms:created>
  <dc:creator>122</dc:creator>
  <dc:description/>
  <dc:language>en-US</dc:language>
  <cp:lastModifiedBy>Admin</cp:lastModifiedBy>
  <dcterms:modified xsi:type="dcterms:W3CDTF">2012-01-30T15:29:54Z</dcterms:modified>
  <cp:revision>16</cp:revision>
  <dc:subject/>
  <dc:title>Слайд 1</dc:title>
</cp:coreProperties>
</file>