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9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587B-4502-4BCF-84C2-000A0B9B9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C81E-FECF-4D3B-A467-75AEA3EC5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C1D5-AE5D-4AA2-AE6F-87F0D780F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036D-8B8C-4763-9D79-0305431CF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D9D9A-245D-4477-A2CD-F0515981F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51688-F29C-40CA-92B8-5F27B245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ED08-9F69-40E0-87C1-06A3B1139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1B6B0-C1F2-44D8-AACC-0FDDE4A9D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0BAF3-8649-4F72-B087-89507802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9A9F8-E53E-4561-B031-C5AD96360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D5455-32D0-4FA8-AB9A-5887E2570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999B4-D5DD-426A-8A86-67C88A98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13279-8542-4EF9-9F3A-7CE52842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A4687-C59C-49EC-95F2-78772DFB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1859-9E64-4A3C-A95D-4B29B09DE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CF1D-0FA5-4BA7-A213-13EE7A90B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3A71-6219-4CA0-B9AA-6EF8D7A2D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A1A4-0ABF-4BEE-B8BB-E6373DAF1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8AD5-56B9-4C91-BAA5-5BEF2AA45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5BFFB-4EC3-4215-9B14-16C19F79E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62D6-9DBA-4334-90A3-58A81C1CB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6471-B304-447B-B6FD-4386A0CB1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D579-0436-4DD5-97C9-F03FA163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3914-DB32-4AD3-B1A1-5902B01F8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9797-FCFB-434D-87C8-3A31DBA7353D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EE17D-0596-40E6-AC77-78D6FA60E8BE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1" descr=""/>
          <p:cNvPicPr/>
          <p:nvPr/>
        </p:nvPicPr>
        <p:blipFill>
          <a:blip r:embed="rId1"/>
          <a:stretch/>
        </p:blipFill>
        <p:spPr>
          <a:xfrm>
            <a:off x="530280" y="701640"/>
            <a:ext cx="8424720" cy="25592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2158920" y="4581000"/>
            <a:ext cx="65167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рок развития речи в 7  классе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Учитель русского языка и литературы МОУ г.Мурманска  СОШ № 26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остючек О.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2"/>
          <a:stretch/>
        </p:blipFill>
        <p:spPr>
          <a:xfrm>
            <a:off x="324000" y="2421000"/>
            <a:ext cx="3671640" cy="249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468360" y="907920"/>
            <a:ext cx="3314520" cy="42865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2"/>
          <a:stretch/>
        </p:blipFill>
        <p:spPr>
          <a:xfrm>
            <a:off x="4356000" y="981000"/>
            <a:ext cx="4286520" cy="20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"/>
          <p:cNvPicPr/>
          <p:nvPr/>
        </p:nvPicPr>
        <p:blipFill>
          <a:blip r:embed="rId3"/>
          <a:stretch/>
        </p:blipFill>
        <p:spPr>
          <a:xfrm>
            <a:off x="4140360" y="3789360"/>
            <a:ext cx="428616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297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Перестройте предложения так, чтобы причастный оборот стоял после определяемого слова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разец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йвазовский написал прославляющие русских моряков картины. – Айвазовский написал картины, прославляющие русских моряко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1) В живописи нет другого более прославленного и любимого народом певца моря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2) Проживший долгую жизнь художник написал около четырёх тысяч картин. 3) В молодости он изображал безмятежную тишину залитого золотом солнечных лучей или серебристым светом луны моря. 4) Позднее  его увлекал кипящий штормом образ моря. 5) В старости он воспевал мужество побеждающего бушующий океан человека. (По В.Носокину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бъясните расстановку знаков препинания.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еди многих картин Айвазовского особенно выделяется картина «Чёрное море». На картине бесконечное небо и беспредельный океан, оживлённый могучим движением воды. Бегут к далёкому горизонту пенистые гребни высоких волн. Мы любуемся красотой суровой стихии, но она не вселяет в нас предчувствие беды. Грозная сила наполняет зрителя мужеством и уверенностью. Мы проникаемся верой в человека, всё побеждающего силой своего разума. (По В.Носокину.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ртина «Чёрное море» - одна из наиболее выразительных картин художника. Первоначально она называлась «на Чёрном море начинает разыгрываться буря». Однако это название не удовлетворило Айвазовского, так как говорило только о внешнем состоянии природы. А он мечтал создать образ Чёрного моря включающ… в себя многие его отличительные чер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е изображено в серый день. Небо покрыто облаками. Весь передний план картины заполнен идущ… от горизонта волнами. Они движутся гряда за грядой и своим чередованием создают особый ритм и величавый строй всей картин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Объясните пропущенные знаки препинания и окончания причастий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ой простоте содержания полностью отвечает сдержан… красочная гамма построен… на сочетании тёплых серых тонов неба и глубокого зелёно-синего цвета воды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(Н. Барсамов.)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4617b"/>
                </a:solidFill>
                <a:latin typeface="Calibri"/>
              </a:rPr>
              <a:t>Слова  и словосочетания.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Бесконечное небо и беспредельный океан, оживлённый могучим движением воды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енистые гребни высоких волн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ая стих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нешнее состояние природ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образ Чёрного моря, волны движутся гряда за грядо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величавый строй картины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уровая простота содержания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очетание тёплых серых тонов и глубокого зелёно-синего цве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68680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4617b"/>
                </a:solidFill>
                <a:latin typeface="Calibri"/>
              </a:rPr>
              <a:t>Работа над картиной И.Айвазовского «Чёрное море»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403280" y="1484280"/>
            <a:ext cx="691380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256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95280" y="549000"/>
            <a:ext cx="874872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- Что мы видим на картине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дну половину картины занимает небо, другую - волнующаяся вода. Несмотря на это, картина  смотрится с напряжённым вниманием. Грандиозность бескрайней шир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- Какими показаны волны?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Действия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начинаются(щиеся), вздымаются(щиеся), рассыпаются(щиеся) брызгам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Цвет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– синие, зеленоватые, голубые, сиреневые; то почти серебристо-белые, то почти чёрн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ризнаки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– пенистые(гребни волн), лёгкие и тяжёлые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1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Море без конца и края…  </a:t>
            </a:r>
            <a:br>
              <a:rPr sz="4500"/>
            </a:b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                                    М. Сеспель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…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ней ничего нет, кроме неба и воды, но вода – это океан   беспредельный, не бурный, не колыхающийся, суровый,    бесконечный, а небо, если возможно, ещё бесконечнее. Это  одна из самых грандиозных картин, какие я только знаю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                                         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.Крамской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8360" y="4221000"/>
            <a:ext cx="3900600" cy="21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971640" y="907920"/>
            <a:ext cx="7246800" cy="52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2868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Но художник показывает не только форму и цвет волн, но и бег облаков. Каково небо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Покрыто облаками; бесконечное, низкое, мрачное, отражение неба в море. Зловещее небо с разорванными грозовыми тучами беспрерывно меняющее цвет: от светло-серого до мрачно-чёрного тон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- Что мы видим  на горизонте?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рошечный парус, исчезающий вдали, на горизонте; подчёркивается поэтическая тоска одиночества ( «Парус» Лермонтова), указывает на присутствие человека; борьба человека со стихией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План  сочинения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41264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«Море без конца и края…»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1. И.Айвазовский – певец мор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2. «Чёрное море» - одна из лучших картин Айвазовского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а) беспредельный океан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б) пенистые гребни волн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в) бесконечное небо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г) настроение, которое создает картина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3.  Оценка картины художником И. Крамским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Рылов А.А. «В голубом простор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755640" y="1290600"/>
            <a:ext cx="7704000" cy="50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ылов  Аркадий  Александрович (1870 – 1939) – пейзажист ( «Зелёный шум» (1904), « В голубом просторе» (1918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8229600" cy="287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3495c"/>
                </a:solidFill>
                <a:latin typeface="Calibri"/>
              </a:rPr>
              <a:t>В голубом просторе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0" y="593280"/>
            <a:ext cx="88200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Это – море! Какое оно большое! А над ним такое же большое небо.  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гут по морю синие волны. Ветер торопит волны, наполняет белые паруса корабля. Белый снег лежит на бурых скалах. В просторном голубом небе плывут белые облака. А между морем и небом, широко раскинув сильные крылья, летят большие синие птицы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ая простая картина – небо, вода, земля. Но как долго можно её рассматривать. Быстрые волны. Снег. Голубое небо. Всё знакомо – и всё видим, словно в первый раз. Это потому, что небо, землю, воду показал нам художник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Как много воздуха! Дышится легко. Художник подарил нам не только море и небо. Он подарил нам бодрость, силу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Ветром полны паруса. Корабль плывёт к неведомым берегам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Свободные, сильные птицы летят вперёд, вперёд!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tretch/>
        </p:blipFill>
        <p:spPr>
          <a:xfrm>
            <a:off x="324000" y="1052640"/>
            <a:ext cx="845316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5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468360" y="549360"/>
            <a:ext cx="8359560" cy="603720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4"/>
          <p:cNvSpPr/>
          <p:nvPr/>
        </p:nvSpPr>
        <p:spPr>
          <a:xfrm>
            <a:off x="1159920" y="1268280"/>
            <a:ext cx="4636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Minion Pro SmBd"/>
              </a:rPr>
              <a:t>Задание на дом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939240" y="3244680"/>
            <a:ext cx="509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3495c"/>
                </a:solidFill>
                <a:latin typeface="Minion Pro SmBd"/>
              </a:rPr>
              <a:t>Закончить сочинение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 морю 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57200" y="1934640"/>
            <a:ext cx="8229600" cy="43894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2" descr="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161" name="Прямоугольник 4"/>
          <p:cNvSpPr/>
          <p:nvPr/>
        </p:nvSpPr>
        <p:spPr>
          <a:xfrm>
            <a:off x="324000" y="476280"/>
            <a:ext cx="3755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3495c"/>
                </a:solidFill>
                <a:latin typeface="Comic Sans MS"/>
              </a:rPr>
              <a:t>К морю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Прямоугольник 5"/>
          <p:cNvSpPr/>
          <p:nvPr/>
        </p:nvSpPr>
        <p:spPr>
          <a:xfrm>
            <a:off x="1116000" y="1341360"/>
            <a:ext cx="70563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Море без конца и края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Чернь и зелень перекат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Взвой, фонтанами играя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Смело бейся в берега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Люб душе огненнокрыл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Гул борьбы – шуми, вскипай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Дай порадоваться сил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Ей, зовущей в новый край.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4" name="Picture 2" descr="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0" y="806400"/>
            <a:ext cx="9144000" cy="6051600"/>
          </a:xfrm>
          <a:prstGeom prst="rect">
            <a:avLst/>
          </a:prstGeom>
          <a:ln w="0">
            <a:noFill/>
          </a:ln>
        </p:spPr>
      </p:pic>
      <p:sp>
        <p:nvSpPr>
          <p:cNvPr id="165" name="Прямоугольник 4"/>
          <p:cNvSpPr/>
          <p:nvPr/>
        </p:nvSpPr>
        <p:spPr>
          <a:xfrm>
            <a:off x="468360" y="1557360"/>
            <a:ext cx="6767640" cy="53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Море, море, всей громадой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а волной бросай волну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С гневом, блеском, светом ада – 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На утёсы, в вышину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ло, раскатисто на кручи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За волной волну бросай,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Голосом борьбы могучим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В небе тучи сотрясай!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3495c"/>
                </a:solidFill>
                <a:latin typeface="Constantia"/>
              </a:rPr>
              <a:t>(пер. П. Панченко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Цели: </a:t>
            </a:r>
            <a:br>
              <a:rPr sz="4500"/>
            </a:b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1052640"/>
            <a:ext cx="77868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Образовательн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– закрепление навыков постановки знаков препинания предложениях с причастными оборотами, обучение составлению текста-опис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Воспитательн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сширение лексики по теме «Живопись»; знакомство с творчеством И. Айвазовског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 algn="just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Constantia"/>
              </a:rPr>
              <a:t>Развивающая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- развитие познавательного интереса к русскому языку,     умения анализировать, обобщать полученные знания, аргументировать свои    высказывания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1163520" y="817560"/>
            <a:ext cx="6651720" cy="504036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3"/>
          <p:cNvSpPr/>
          <p:nvPr/>
        </p:nvSpPr>
        <p:spPr>
          <a:xfrm>
            <a:off x="2700360" y="4221000"/>
            <a:ext cx="590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Спасибо за урок 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                   </a:t>
            </a:r>
            <a:r>
              <a:rPr b="1" lang="ru-RU" sz="4000" spc="-1" strike="noStrike">
                <a:solidFill>
                  <a:srgbClr val="06686d"/>
                </a:solidFill>
                <a:latin typeface="Monotype Corsiva"/>
              </a:rPr>
              <a:t>и удачи в работ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ВАН КОНСТАНТИНОВИЧ АЙВАЗОВСКИЙ (1817 – 1900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900000" y="2133720"/>
            <a:ext cx="2381400" cy="331452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826920" y="5805360"/>
            <a:ext cx="478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ортрет И. Айвазовского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работы А. Тыранова (1841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Прямоугольник 5"/>
          <p:cNvSpPr/>
          <p:nvPr/>
        </p:nvSpPr>
        <p:spPr>
          <a:xfrm>
            <a:off x="4140360" y="1916280"/>
            <a:ext cx="5003640" cy="35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Имя при рождении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Оганес Айвазян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Հովհաննես Այվազյան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та рождения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7 (29) июля 1817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Место рождения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Феодосия (Крым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Дата смерти: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19 апреля (2 мая) 1900 (82 года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Прямоугольник 6"/>
          <p:cNvSpPr/>
          <p:nvPr/>
        </p:nvSpPr>
        <p:spPr>
          <a:xfrm>
            <a:off x="5580000" y="51577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Жанр:</a:t>
            </a: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художник-маринист, коллекционер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йвазовский. «Девятый вал»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588960" y="1268280"/>
            <a:ext cx="8091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3413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И.Айвазовский «Чёрное море»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1042920" y="1366920"/>
            <a:ext cx="6985080" cy="50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140000" y="404280"/>
            <a:ext cx="4475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4617b"/>
                </a:solidFill>
                <a:latin typeface="Calibri"/>
              </a:rPr>
              <a:t>Картина И. Айвазовского «Море. Лунная ночь»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468360" y="692280"/>
            <a:ext cx="35989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Лучшая коллекция произведений художника принадлежит картинной галерее Феодосии, носящий его имя.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Облака над морем» (1835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Штиль» (1837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Буря на Чёрном море» (1845)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«Вход в Севастопольскую бухту» (1851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257040"/>
            <a:ext cx="8229600" cy="7329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7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3495c"/>
                </a:solidFill>
                <a:latin typeface="Constantia"/>
              </a:rPr>
              <a:t>Лунная ночь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Серая тишина расстилается в воздухе. Лишь волны с легким шумом рассыпаются о берег, переливаясь в призрачных лучах бледного, путающегося в облаках солнца. К горизонту скользит одинокий парусник. Кажется, он вот-вот заденет низкие лохматые облака тонкой мачтой, туча разорвется и на кораблик обрушится ледяной дождь разлуки, водяные струйки серебряными кинжалами рассекут ткань паруса, капля за каплей зальют днище водой, и судно навсегда погрузится в пучину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Но ничего не происходит. Тучи уползают выше, парусник, покачиваясь на волнах, движется дальше, сквозь тьму и мрак. Его догонит солнце. Слабое, бледное, очень далёкое солнце пойдет за ним по пятам, оставляя на беспокойной поверхности моря светящиеся следы. И тьма расступится. Расползутся в стороны лохматые неповоротливые тучи, пытаясь скрыться от света, а в море за тучами погонятся волны, ища укрытия от обжигающе белого солнца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ru-RU" sz="2000" spc="-1" strike="noStrike">
                <a:solidFill>
                  <a:srgbClr val="000000"/>
                </a:solidFill>
                <a:latin typeface="Constantia"/>
              </a:rPr>
              <a:t>Парусник исчезнет. За ним уйдет и солнце, но его следы — блики на волнах — останутся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чительский</dc:creator>
  <dc:description/>
  <dc:language>en-US</dc:language>
  <cp:lastModifiedBy>Учительский</cp:lastModifiedBy>
  <dcterms:modified xsi:type="dcterms:W3CDTF">2013-11-12T10:17:16Z</dcterms:modified>
  <cp:revision>19</cp:revision>
  <dc:subject/>
  <dc:title>Слайд 1</dc:title>
</cp:coreProperties>
</file>