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971-1EEA-45AA-822A-25B5AB824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9C57-0948-4D48-95DB-EC80A85F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5F7A-AA49-4DD7-8236-8863EF4D9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6B15B-5007-43B2-9DD9-B66052E72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2BBF-1398-4A48-A826-BD062F3F0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4EF88-AC8C-4D3A-A5BF-E94FF863B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450E9-6226-47BF-8203-AFAA9AD77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CA3C-26F0-4588-9639-5415615C3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C365E-B2DC-4AE2-985E-FD9F29C9F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D154D-C784-4A29-8BD5-14B1C882A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C982A-A377-4B1C-9FE6-4E2D5BD30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8DCF-51FF-4279-8881-AF59329B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26382-FF18-483A-A81B-E742ED7D3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3E3A-FF2D-4159-BEA3-6FB4D7C6E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6EE1A-80D0-48FA-BCDD-B589860B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0E60-DBE8-4756-90E4-79ACFA62A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498BF-0F64-495E-B517-0B3A6CC5D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CDE6-8B5A-4314-9874-209B5D3E7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A3D4-F93F-4E13-A387-497EA6293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64F3-2D65-4C38-8A91-545947C5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793-0859-4815-B93B-48358DBC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4D96-510B-45D1-BF2A-F017946E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70F3-48C4-44B8-8D92-80C482C9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E9093-1821-4FE0-878E-CCE455F5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4488A-13B5-49BB-AF58-C4F3124727A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9E7A8-BB69-4353-93AA-AB29A5D9A8B5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424720" cy="2559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58920" y="4581000"/>
            <a:ext cx="6516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рок развития речи в 7  класс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ель русского языка и литературы МОУ г.Мурманска  СОШ № 26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стючек О.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36716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314520" cy="4286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356000" y="981000"/>
            <a:ext cx="4286520" cy="20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4140360" y="3789360"/>
            <a:ext cx="42861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ерестройте предложения так, чтобы причастный оборот стоял после определяемого слов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разец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йвазовский написал прославляющие русских моряков картины. – Айвазовский написал картины, прославляющие русских моря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В живописи нет другого более прославленного и любимого народом певца мор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 Проживший долгую жизнь художник написал около четырёх тысяч картин. 3) В молодости он изображал безмятежную тишину залитого золотом солнечных лучей или серебристым светом луны моря. 4) Позднее  его увлекал кипящий штормом образ моря. 5) В старости он воспевал мужество побеждающего бушующий океан человека. (По В.Носокину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бъясните расстановку знаков препинания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реди многих картин Айвазовского особенно выделяется картина «Чёрное море». На картине бесконечное небо и беспредельный океан, оживлённый могучим движением воды. Бегут к далёкому горизонту пенистые гребни высоких волн. Мы любуемся красотой суровой стихии, но она не вселяет в нас предчувствие беды. Грозная сила наполняет зрителя мужеством и уверенностью. Мы проникаемся верой в человека, всё побеждающего силой своего разума. (По В.Носокину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ъясните пропущенные знаки препинания и окончания причастий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ртина «Чёрное море» - одна из наиболее выразительных картин художника. Первоначально она называлась «на Чёрном море начинает разыгрываться буря». Однако это название не удовлетворило Айвазовского, так как говорило только о внешнем состоянии природы. А он мечтал создать образ Чёрного моря включающ… в себя многие его отличительные чер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ъясните пропущенные знаки препинания и окончания причастий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ре изображено в серый день. Небо покрыто облаками. Весь передний план картины заполнен идущ… от горизонта волнами. Они движутся гряда за грядой и своим чередованием создают особый ритм и величавый строй всей карт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ъясните пропущенные знаки препинания и окончания причастий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ровой простоте содержания полностью отвечает сдержан… красочная гамма построен… на сочетании тёплых серых тонов неба и глубокого зелёно-синего цвета вод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Н. Барсамов.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лова  и словосочетания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сконечное небо и беспредельный океан, оживлённый могучим движением вод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нистые гребни высоких волн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ровая стихия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нешнее состояние природы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 Чёрного моря, волны движутся гряда за грядо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личавый строй картины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ровая простота содержания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четание тёплых серых тонов и глубокого зелёно-синего цве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Работа над картиной И.Айвазовского «Чёрное море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403280" y="1484280"/>
            <a:ext cx="69138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56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549000"/>
            <a:ext cx="8748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- Что мы видим на картине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дну половину картины занимает небо, другую - волнующаяся вода. Несмотря на это, картина  смотрится с напряжённым вниманием. Грандиозность бескрайней шир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- Какими показаны волны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ействи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начинаются(щиеся), вздымаются(щиеся), рассыпаются(щиеся) брызг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Цве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синие, зеленоватые, голубые, сиреневые; то почти серебристо-белые, то почти чёрны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знаки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– пенистые(гребни волн), лёгкие и тяжёлы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Море без конца и края… 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                          М. Сеспел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…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ней ничего нет, кроме неба и воды, но вода – это океан   беспредельный, не бурный, не колыхающийся, суровый,    бесконечный, а небо, если возможно, ещё бесконечнее. Это  одна из самых грандиозных картин, какие я только зна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.Крамск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3900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971640" y="907920"/>
            <a:ext cx="72468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 Но художник показывает не только форму и цвет волн, но и бег облаков. Каково небо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крыто облаками; бесконечное, низкое, мрачное, отражение неба в море. Зловещее небо с разорванными грозовыми тучами беспрерывно меняющее цвет: от светло-серого до мрачно-чёрного т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 Что мы видим  на горизонте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рошечный парус, исчезающий вдали, на горизонте; подчёркивается поэтическая тоска одиночества ( «Парус» Лермонтова), указывает на присутствие человека; борьба человека со стихи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лан  сочин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«Море без конца и края…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. И.Айвазовский – певец мор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. «Чёрное море» - одна из лучших картин Айвазовского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а) беспредельный океан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) пенистые гребни волн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) бесконечное небо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) настроение, которое создает карти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.  Оценка картины художником И. Крамски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ылов А.А. «В голубом просторе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55640" y="1290600"/>
            <a:ext cx="770400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ылов  Аркадий  Александрович (1870 – 1939) – пейзажист ( «Зелёный шум» (1904), « В голубом просторе» (1918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495c"/>
                </a:solidFill>
                <a:latin typeface="Calibri"/>
              </a:rPr>
              <a:t>В голубом простор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59328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о – море! Какое оно большое! А над ним такое же большое небо.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егут по морю синие волны. Ветер торопит волны, наполняет белые паруса корабля. Белый снег лежит на бурых скалах. В просторном голубом небе плывут белые облака. А между морем и небом, широко раскинув сильные крылья, летят большие синие птиц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ая простая картина – небо, вода, земля. Но как долго можно её рассматривать. Быстрые волны. Снег. Голубое небо. Всё знакомо – и всё видим, словно в первый раз. Это потому, что небо, землю, воду показал нам художник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 много воздуха! Дышится легко. Художник подарил нам не только море и небо. Он подарил нам бодрость, сил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тром полны паруса. Корабль плывёт к неведомым берега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вободные, сильные птицы летят вперёд, вперёд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531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468360" y="549360"/>
            <a:ext cx="8359560" cy="60372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159920" y="1268280"/>
            <a:ext cx="463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inion Pro SmBd"/>
              </a:rPr>
              <a:t>Задание на дом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939240" y="3244680"/>
            <a:ext cx="50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3495c"/>
                </a:solidFill>
                <a:latin typeface="Minion Pro SmBd"/>
              </a:rPr>
              <a:t>Закончить сочинени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 морю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0" y="80640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4"/>
          <p:cNvSpPr/>
          <p:nvPr/>
        </p:nvSpPr>
        <p:spPr>
          <a:xfrm>
            <a:off x="324000" y="476280"/>
            <a:ext cx="37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3495c"/>
                </a:solidFill>
                <a:latin typeface="Comic Sans MS"/>
              </a:rPr>
              <a:t>К морю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116000" y="1341360"/>
            <a:ext cx="705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Море без конца и края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Чернь и зелень перекат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Взвой, фонтанами играя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Смело бейся в берега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Люб душе огненнокрыло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Гул борьбы – шуми, вскипай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Дай порадоваться сило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Ей, зовущей в новый кра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80640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468360" y="1557360"/>
            <a:ext cx="67676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Море, море, всей громадо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За волной бросай волн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С гневом, блеском, светом ада –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На утёсы, в вышину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Зло, раскатисто на круч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За волной волну бросай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Голосом борьбы могучи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В небе тучи сотрясай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Constantia"/>
              </a:rPr>
              <a:t>(пер. П. Панченко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Цели: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052640"/>
            <a:ext cx="7786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разовательна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закрепление навыков постановки знаков препинания предложениях с причастными оборотами, обучение составлению текста-опис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спитательна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сширение лексики по теме «Живопись»; знакомство с творчеством И. Айвазовског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вивающа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звитие познавательного интереса к русскому языку,     умения анализировать, обобщать полученные знания, аргументировать свои    высказы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163520" y="817560"/>
            <a:ext cx="6651720" cy="50403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3"/>
          <p:cNvSpPr/>
          <p:nvPr/>
        </p:nvSpPr>
        <p:spPr>
          <a:xfrm>
            <a:off x="2700360" y="4221000"/>
            <a:ext cx="59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686d"/>
                </a:solidFill>
                <a:latin typeface="Monotype Corsiva"/>
              </a:rPr>
              <a:t>Спасибо за урок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686d"/>
                </a:solidFill>
                <a:latin typeface="Monotype Corsiva"/>
              </a:rPr>
              <a:t>                   </a:t>
            </a:r>
            <a:r>
              <a:rPr b="1" lang="ru-RU" sz="4000" spc="-1" strike="noStrike">
                <a:solidFill>
                  <a:srgbClr val="06686d"/>
                </a:solidFill>
                <a:latin typeface="Monotype Corsiva"/>
              </a:rPr>
              <a:t>и удачи в работ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ВАН КОНСТАНТИНОВИЧ АЙВАЗОВСКИЙ (1817 – 1900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381400" cy="3314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826920" y="580536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ртрет И. Айвазовског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боты А. Тыранова (1841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4140360" y="1916280"/>
            <a:ext cx="50036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мя при рождении: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ганес Айвазя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Հովհաննես Այվազյա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ата рождения: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7 (29) июля 181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сто рождения: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еодосия (Крым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ата смерти: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9 апреля (2 мая) 1900 (82 год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5580000" y="5157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Жанр: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удожник-маринист, коллекционе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йвазовский. «Девятый вал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88960" y="1268280"/>
            <a:ext cx="8091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.Айвазовский «Чёрное море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042920" y="1366920"/>
            <a:ext cx="69850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0000" y="40428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артина И. Айвазовского «Море. Лунная ночь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59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Лучшая коллекция произведений художника принадлежит картинной галерее Феодосии, носящий его имя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Облака над морем» (1835)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Штиль» (1837)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Буря на Чёрном море» (1845)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Вход в Севастопольскую бухту» (1851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5704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Лунная ноч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ерая тишина расстилается в воздухе. Лишь волны с легким шумом рассыпаются о берег, переливаясь в призрачных лучах бледного, путающегося в облаках солнца. К горизонту скользит одинокий парусник. Кажется, он вот-вот заденет низкие лохматые облака тонкой мачтой, туча разорвется и на кораблик обрушится ледяной дождь разлуки, водяные струйки серебряными кинжалами рассекут ткань паруса, капля за каплей зальют днище водой, и судно навсегда погрузится в пучин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о ничего не происходит. Тучи уползают выше, парусник, покачиваясь на волнах, движется дальше, сквозь тьму и мрак. Его догонит солнце. Слабое, бледное, очень далёкое солнце пойдет за ним по пятам, оставляя на беспокойной поверхности моря светящиеся следы. И тьма расступится. Расползутся в стороны лохматые неповоротливые тучи, пытаясь скрыться от света, а в море за тучами погонятся волны, ища укрытия от обжигающе белого солнц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арусник исчезнет. За ним уйдет и солнце, но его следы — блики на волнах — останут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ский</dc:creator>
  <dc:description/>
  <dc:language>en-US</dc:language>
  <cp:lastModifiedBy>Учительский</cp:lastModifiedBy>
  <dcterms:modified xsi:type="dcterms:W3CDTF">2013-11-12T10:17:16Z</dcterms:modified>
  <cp:revision>19</cp:revision>
  <dc:subject/>
  <dc:title>Слайд 1</dc:title>
</cp:coreProperties>
</file>